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733-C34C-41BF-84D5-9C0A974A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A5F-3F9A-4FB3-9E05-045E548A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5C6-64DE-447B-B25B-5C3D7B17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C3C-0B0F-4D0A-9A47-6F706A0F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3608-476C-4438-B787-F48C7A9B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5F68-BA76-41BA-B83D-AEA2EEE6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0181-A70D-4EA1-AD8D-F2E99E16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8762-9EF3-4E5E-B731-295EF268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C545-AB87-4928-A7BF-F5E4B836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9831-1834-4B42-83F2-B4E35272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95C8-D050-46F3-9AF2-84D41E43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F2C-D493-4A73-97C7-099BFE0A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ED4F-AB57-4901-8C23-9FBEA77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4038-0855-4503-AEA4-4F38889D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63EA-50E8-4A62-9C3D-F34BF3FA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3BE4-F9CE-45A0-AA6B-01EB91D6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BE60-BEF1-4503-9D8E-D938DA0C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532-62E1-4A21-8E1A-DBE7A18F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AEB-9C1A-47B7-A11A-FAAF93A7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62B-B348-46D3-BE22-2564DF3A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783-ADA6-422D-A956-87720F48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37A-506B-46A2-A206-18B2F21F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603-1FC1-4B30-8902-1DDDCEBB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76B-32F6-4A54-B1F7-A3E40172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2977-6735-46D2-A8C0-6D8C63CA2EFA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97B3-2D22-4840-B521-2B933A79BEA0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4280" y="574200"/>
            <a:ext cx="67816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0066"/>
                </a:solidFill>
                <a:latin typeface="Century Gothic"/>
              </a:rPr>
              <a:t>DEVENGAMIENTO DEL IVA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it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Difer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666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misma que realiza el consignata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Remuneración que cobra el consignat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s ventas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efectuadas por 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ta se encuentra afecta a IVA siempre que recaiga sobre bienes del giro (activo realizable) del mandante (“vende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 IVA por el monto total: ES EL 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  <a:ea typeface="Times New Roman"/>
              </a:rPr>
              <a:t>Situación de la remuneración del consignatari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ase imponible: comisión o remune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B.- Anticipos a cuenta del 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recio de ven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Modalidad venta en que se obtienen anticipos del valor de las especies ven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entrega y factura en e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l precio vigente época ent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nticipos no se encuentran afectos a 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0066"/>
                </a:solidFill>
                <a:latin typeface="Century Gothic"/>
              </a:rPr>
              <a:t>relativos a Inmuebles 2.- Normas especiales – Contratos</a:t>
            </a:r>
            <a:r>
              <a:rPr b="1" lang="es-MX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20574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emitirse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 la respectiva FA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instalación o confección de especialidades a suma alzada o por ad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ventas o promesas de ventas de Inmue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 de inmuebles con opció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3120" y="31392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l momento d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entury Gothic"/>
              </a:rPr>
              <a:t>PERCIBIR 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el precio del contrato o parte de é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tratos de confección o instalación de especi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promesas de ventas de inmue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rriendos de inmuebles con opción de comp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Oportunidad de emisión factura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 las ventas de inmueb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606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Percibir todo o parte d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205000"/>
            <a:ext cx="1871640" cy="2552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ocurra pri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Oportunidad de emisión facturas en otras transferencias de inmuebl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62916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Apor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Trans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Reti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Gothic"/>
              </a:rPr>
              <a:t>Ventas de univers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2421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Que comprendan inmue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800600"/>
            <a:ext cx="525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entrega real o sim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echa suscripción Escritura Pública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648320"/>
            <a:ext cx="144792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3.- Norma General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 en servici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2588760"/>
            <a:ext cx="5991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. Fecha emisión factura o boleta,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.- Fecha remuneración se percibe o pone a disposición del prestador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2708280"/>
            <a:ext cx="1656000" cy="119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 ocurra 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ón anticipos percibidos antes de la prestación del servic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II: basta que se perciba aunque el servicio no se hubiera prestado (factura por el monto percib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TRIBUNALES SUPERIORES JUST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sencial que se verifique la pr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oleta debe emitirse cuando se haya realizado el servicio y sea pa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evengamiento</a:t>
            </a: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956960"/>
            <a:ext cx="795492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Momento en que concurren todos los elementos del HECHO GRA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ISCO adquiere desde ese m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ítulo o derecho sobre el monto de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independiente de su exig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5300640"/>
            <a:ext cx="7619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SE DEVENGA EL IMPUESTO CUANDO OCU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L HECHO QUE DA NACIMIENTO A LA OBLIG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4.- Prestación de servic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540720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érmino período fijado para su p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echa emisión factura o bo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cepción o puesta a dis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2276640"/>
            <a:ext cx="1584360" cy="157212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5229360"/>
            <a:ext cx="8064360" cy="140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s periódicos: aquellos que se pres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Forma permanente, regular o continua, el cobr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ago se efectúa en forma periódica, determi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uministros y servicios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omiciliarios periódico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ergía eléc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servicios telef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gua po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lcantaril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5.-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2174760"/>
            <a:ext cx="8064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ículo 9 letra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 devenga impuesto al consum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legalmente la importació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l tramitarse totalmente la im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373720"/>
            <a:ext cx="792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uando mercancías quedan a disposición del interesado para su libre circulación en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6.- Retiros de mercaderí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70200"/>
            <a:ext cx="7772400" cy="41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VA se devenga al momento del ret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respectivo; oportunidad en que deben ser contab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retiros para uso personal socio, dueño, empleado o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faltantes de inv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bienes corporales muebles destinados a rifas y sorteos con fines    promo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tregas de bienes gratuitamente con mismos f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7.- IVA por intereses en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compraventa a Plaz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9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ntereses o reajustes por saldo impago de ventas a plazo devengan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hacerse exi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- al percib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581280"/>
            <a:ext cx="144468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Pr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54100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n exigibles al vencimiento de la respectiva cuota, letra u otro documento que lo contenga, en todo o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iferencias de cambi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riginadas en ventas a plazo de bi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corporales muebles: se incluyen en el concepto de reaju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691920"/>
            <a:ext cx="678168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330066"/>
                </a:solidFill>
                <a:latin typeface="Century Gothic"/>
              </a:rPr>
              <a:t>SUJETO DEL IMPUESTO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1.- Regla general sobre el sujeto pasiv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0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648320"/>
            <a:ext cx="626436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RESTADOR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276720"/>
            <a:ext cx="4495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a) Al realizar “ventas” de bienes de su pr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roducción o adquiridos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b) Al realizar cualquiera de las operaciones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la ley equipara 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stador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a) al realizar hecho gravado básico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b) al realizar hecho gravado especial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858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dquirientes de bienes corporales muebles o servicios cuando el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Century Gothic"/>
              </a:rPr>
              <a:t>SII CAMBIA EL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Los adquirientes de bienes corp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muebles cuando 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Century Gothic"/>
              </a:rPr>
              <a:t>vendedores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 no tienen domicilio ni residencia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8120" y="27144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s de devengamient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venta b.c. Mue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bienes corporales inmue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general: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 : servicios periód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mpor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rma especial: intereses sald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rt. 21 Reglam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Calidad de sujeto del Im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Beneficiarios del Servicio cuando persona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que realiza la prestación reside en el  extranj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2.- Aplicación de RG a caso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8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22 Regl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a) Importacion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6800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5320" y="2916360"/>
            <a:ext cx="3045960" cy="947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Impor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ea habitual o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1700280"/>
            <a:ext cx="2629080" cy="340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ersona que intr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duce legalment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mercader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xtran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para su uso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en el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sin residencia en Chil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50036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971800"/>
            <a:ext cx="2438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ujeto Pas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PR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ADQUI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2438280"/>
            <a:ext cx="457200" cy="3654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95040 h 3654720"/>
              <a:gd name="textAreaBottom" fmla="*/ 3559680 h 365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205000"/>
            <a:ext cx="30481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i el vende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No tiene resi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En Chile (aun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nserve el domic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c) Adjudicacion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11 letra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9810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e bienes corporales muebles del giro en liquidaciones de soc. o 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3933720"/>
            <a:ext cx="34578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o comuneros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SOLID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RESPON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tributo por la c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Gothic"/>
              </a:rPr>
              <a:t>que les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d) Aport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3908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2819520"/>
            <a:ext cx="2808360" cy="240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VENDED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124080"/>
            <a:ext cx="144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Sujeto del Trib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) Servicios prestador por</a:t>
            </a:r>
            <a:br>
              <a:rPr sz="3600"/>
            </a:b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personas no residentes en Chi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46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1 letra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2819520"/>
            <a:ext cx="2210040" cy="29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BENEFIC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2000" y="2205000"/>
            <a:ext cx="2217600" cy="32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Prestador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resid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Gothic"/>
              </a:rPr>
              <a:t>ex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f) Contratos grales. Construcción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y Conf. e instal. especialidade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37926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1 Letra f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63120" y="383760"/>
            <a:ext cx="6993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g) Transferencias recíprocas de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domini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792080"/>
            <a:ext cx="32749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.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h) Operaciones realizadas por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comisionistas y otros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54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rt. 22  Regla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1.- 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rt. 9 letra a)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emisión boleta o factura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Fecha de entrega real o simbólica de las especies cuando por naturaleza del acto que da origen a la transferencia no se emita boleta o fa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3.- Cambios de Sujeto Pasivo del</a:t>
            </a:r>
            <a:br>
              <a:rPr sz="3000"/>
            </a:br>
            <a:r>
              <a:rPr b="1" lang="es-MX" sz="3000" spc="-1" strike="noStrike">
                <a:solidFill>
                  <a:srgbClr val="330066"/>
                </a:solidFill>
                <a:latin typeface="Arial"/>
              </a:rPr>
              <a:t>Impuest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Ley faculta al SII para cambiar al sujeto pasivo (art.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ambio del Sujeto Pasivo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acultas del SII es Discrecional (juicio exclusi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l notificarse resolución: Obligación Tributaria: entre el Estado y el compr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Bienes Corporales Mueb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80960" y="2247480"/>
            <a:ext cx="7266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Devengamiento queda supeditado a dos hech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misión de boleta o fa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entury Gothic"/>
              </a:rPr>
              <a:t>- entrega real o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522936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Obviamente: para que se devengue el tributo, deben concurrir todos los elementos del HECHO GRA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8120" y="198360"/>
            <a:ext cx="688644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entury Gothic"/>
              </a:rPr>
              <a:t>Emisión de Documento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Fecha en que deben emitirse las BO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En el momento de la entrega real o simbólica de las e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echa en que deben emitirse las FA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ismo momento de entrega real o simbólica de las especies; o A MAS TAR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Entreg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Entrega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- vendedor permite al comprador la aprehensión material de la e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ntrega Sim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vendedor entrega las llaves del l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transfiere el bien a una persona que ya lo tiene por cualquier título no traslaticio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se ponen especies a disposición del intere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492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0066"/>
                </a:solidFill>
                <a:latin typeface="Century Gothic"/>
              </a:rPr>
              <a:t>Situaciones especial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Se incluyen dentro de las normas generales sobre devengamiento de IVA en venta de bienes corporales mue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a.- Entregas en consig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entury Gothic"/>
              </a:rPr>
              <a:t>b.- Anticipos a cuenta de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0066"/>
                </a:solidFill>
                <a:latin typeface="Century Gothic"/>
              </a:rPr>
              <a:t>A.- Ventas en Consignació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Aplicable a ventas realizadas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consigna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martill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.</cp:lastModifiedBy>
  <dcterms:modified xsi:type="dcterms:W3CDTF">2007-04-12T15:40:18Z</dcterms:modified>
  <cp:revision>283</cp:revision>
  <dc:subject/>
  <dc:title>DEVENGAMIENTO DEL IVA</dc:title>
</cp:coreProperties>
</file>