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E8E30-7E70-447C-B3E7-D8A12DD6D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C3965-96E7-4057-A8C9-3B006B3B2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A339E-8FA0-4294-9077-CB58C0CDD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BFFAF-A6F0-4345-984A-AB03C00FA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FEB8A-F049-4899-ABAE-582324080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8764B-DEF2-472B-B5D0-2B9416E53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019A4-5C7E-48BE-AE05-C69A71DBC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C9F7E-65D8-4D5B-B48F-8A3E2D64A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BB6EF-6F86-4F2B-8B6C-B0F3DF327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0AA57-AF39-49A3-9670-A54D2D18E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4DFFB-8C24-46E0-BEEA-EA3482039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C98FC-6113-47A9-819E-9E1ACDF90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A5157-F028-48A8-A761-74883F26BC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1988640"/>
            <a:ext cx="84582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entury Gothic"/>
              </a:rPr>
              <a:t>IMPUESTO ADICION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71640" y="942840"/>
            <a:ext cx="7200720" cy="4972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mpuesto Adicion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rtículos 58, 60 inc. 1° y 61, Ley de Impuesto a la Rent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Impuesto Adicional afecta a las personas naturales o jurídicas que no tienen residencia ni domicilio en Chile. Se aplica con una tasa general de 35% y opera en general sobre la base de retiros y distribuciones o remesas de rentas al exterior, que sean de fuente chilen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impuesto se devenga en el año en que las rentas se retiran o distribuyen por la empresa y se remesen al exterior. Los contribuyentes afectos a este impuesto tienen derecho a un crédito equivalente al Impuesto de Primera Categoría pagado por las empresas sobre las rentas que retiran o distribuy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330200" y="550080"/>
            <a:ext cx="6481800" cy="3111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determinar la base imponible del Impuesto Adicional, se agrega una cantidad equivalente al Impuesto de Primera Categoría pagado por las utilidades tributables, luego la tasa del Impuesto Adicional se aplica sobre esta base imponible. Del impuesto así determinado se rebaja como crédito el Impuesto de Primera Categoría que fue agregado, en la misma forma como si el receptor de la renta fuera un chileno residente y/o domiciliado en Chil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álculo en caso de una distribución en el año 2007 es el siguiente:</a:t>
            </a:r>
            <a:endParaRPr b="0" lang="en-US" sz="1800" spc="-1" strike="noStrike">
              <a:solidFill>
                <a:srgbClr val="000000"/>
              </a:solidFill>
              <a:latin typeface="Arial"/>
            </a:endParaRPr>
          </a:p>
        </p:txBody>
      </p:sp>
      <p:pic>
        <p:nvPicPr>
          <p:cNvPr id="44" name="" descr=""/>
          <p:cNvPicPr/>
          <p:nvPr/>
        </p:nvPicPr>
        <p:blipFill>
          <a:blip r:embed="rId1"/>
          <a:stretch/>
        </p:blipFill>
        <p:spPr>
          <a:xfrm>
            <a:off x="1127160" y="3716280"/>
            <a:ext cx="6889680" cy="28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133640" y="946080"/>
            <a:ext cx="7038720" cy="4208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Impuesto Adicional es normalmente pagado a través de un mecanismo de retención. Es así que, las cantidades pagadas o abonadas en cuenta a personas sin domicilio o residencia en el país, se encuentran sujetas a los impuestos de retención que se indican a continuación, los que deben ser retenidos y enterados en arcas fiscales por el pagador de la rent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 Dividendos distribuídos por sociedades anónimas o sociedades </a:t>
            </a:r>
            <a:r>
              <a:rPr b="0" lang="es-ES" sz="1800" spc="-1" strike="noStrike">
                <a:solidFill>
                  <a:srgbClr val="000000"/>
                </a:solidFill>
                <a:latin typeface="Arial"/>
              </a:rPr>
              <a:t>en comandita por acciones constituidas en Chile, tasa de 35%.</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impuesto es retenido por la sociedad que paga el dividendo, y se debe dar de crédito el Impuesto de Primera Categoría pagado por la sociedad, en los casos que corresponda, siguiendo el procedimiento explicado en el caso del Impuesto Global Complementa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79400" y="630360"/>
            <a:ext cx="7585200" cy="503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Rentas derivadas de la enajenación de acciones o derechos sociales o representativos del capital de una persona jurídica constituida en el extranjero efectuada a una persona domiciliada, residente o constituida  en el país, cuya adquisición le permita, directa o indirectamente, tener  participación en la propiedad o en las utilidades de otra sociedad constituida  en Chile; se aplica  un impuesto de 35%, que es retenido por el comprador o agente retened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antidades pagadas por el uso de marcas, patentes, fórmulas, asesorías y otras prestaciones similares: un impuesto del 15%. (Puede ser 3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Pagos al exterior a productores o distribuidores extranjeros por materiales para ser exhibidos a través de proyecciones de cine y televisión: un impuesto del 2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Cantidades pagadas por el uso de derechos de edición o de autor de libros: un impuesto del 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925560" y="502200"/>
            <a:ext cx="7292880" cy="5854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Intereses en general; impuesto de 35%. Tratándose de intereses pagados a bancos o instituciones financieras que cumplan los requisitos contemplados en la ley, la tasa se rebaja a 4%.</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Remuneraciones por servicios prestados en el extranjero; impuesto de 35%. Con todo, están exentas las sumas pagadas en el exterior por fletes, por gastos de embarque y desembarque, por almacenaje, por pesaje, muestreo y análisis de los productos, por seguros, y por operaciones de reaseguros, comisiones por telecomunicaciones internacionales y por someter productos chilenos a fundición, refinación, o a otros procesos especial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mismo estarán exentas de este impuesto, las sumas pagadas en el caso de bienes y servicios exportables, por publicidad y promoción, por análisis de mercado, por investigación científica y tecnológica y por asesorías legales y defensas legales ante autoridades administrativas, arbitrales o jurisdiccionales del país respectiv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Remesas de fondos para remunerar servicios prestados en Chile o en el exterior por concepto de trabajos de ingeniería o asesorías técnicas en general: un impuesto del 15%. (Puede ser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09600" y="1051200"/>
            <a:ext cx="6962760" cy="475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 Primas de seguro contratadas con compañías no establecidas en Chile que aseguren cualquier interés sobre bienes situados permanentemente en el país o la pérdida material en tierra de mercaderías sujetas al régimen de admisión temporal o en tránsito en el territorio nacional, como también las primas de seguros sobre personas domiciliadas o residentes en Chile. El impuesto es de 22% para los seguros y de 2% para los reasegur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j) Fletes marítimos desde o hacia puertos chilenos, efectuados por empresas extranjeras: un impuesto del 5%.</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k) Arrendamiento, subarrendamiento, fletamento, subfletamento, usufructo, o cualquier otra forma de cesión del uso o goce temporal de naves extranjeras que se destinen o utilicen en servicios de cabotaje o cuando los contratos respectivos permitan o no prohíban utilizar la nave para el cabotaje: un impuesto del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081080" y="1053720"/>
            <a:ext cx="6981840" cy="366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 Las cantidades que pague el arrendatario en cumplimiento de un contrato de arrendamiento con o sin opción de compra de un bien de capital importado, susceptible de acogerse al pago diferido de derechos aduaneros, impuesto de 35% que se aplica, sobre la utilidad o interés comprendido en la operación que, para estos efectos, se presume de derecho que constituye el 5% del monto de cada cuota que se pague en virtud del contrat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 Remuneraciones provenientes exclusivamente del trabajo o habilidad de personas naturales extranjeras que hubieren desarrollado en Chile actividades científicas, técnicas, culturales o deportivas: un impuesto del 2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2T15:58:04Z</dcterms:created>
  <dc:creator> Rodrigo Rojas</dc:creator>
  <dc:description/>
  <dc:language>en-US</dc:language>
  <cp:lastModifiedBy>Rodrigo Rojas P.</cp:lastModifiedBy>
  <dcterms:modified xsi:type="dcterms:W3CDTF">2008-06-18T21:10:36Z</dcterms:modified>
  <cp:revision>14</cp:revision>
  <dc:subject/>
  <dc:title> IMPUESTO GLOBAL                      COMPLEMENTARIO</dc:title>
</cp:coreProperties>
</file>