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4B6-7E50-469B-9FB3-051A988C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E1E-3C8B-4C0A-98DF-D0387066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8B3-99AA-4DFA-9A7B-8384F9F0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27-B431-48B1-8A5D-D45AF7C1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264-AA89-4059-B0F3-3B2F9DE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92B-135A-40C0-BAB9-380E951A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983-3E7A-4157-9852-4F1672B6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47C-2AFE-4A3C-AE39-1A943A4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E71-9A23-425C-BB9F-4C4A8E0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7EC-2628-4AF3-A35F-27C6BC6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C3F-DDD9-4744-996F-C41B606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8BF-205A-4CC5-BA3D-4B84181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89E-9653-4868-AA5B-F63CA32412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3270240"/>
            <a:ext cx="11638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</a:rPr>
              <a:t>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792360" cy="3168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7720" y="1603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4440" y="4843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907920"/>
            <a:ext cx="503280" cy="1871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4221000"/>
            <a:ext cx="503280" cy="165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960" y="763560"/>
            <a:ext cx="1482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1ª-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360" y="2563920"/>
            <a:ext cx="147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Tr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42 y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240" y="4075200"/>
            <a:ext cx="25869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Global Complem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domicili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o residentes en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2 al 57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720" y="5589720"/>
            <a:ext cx="2674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y Jurí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o domicilias o no resid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8 al 64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0560" y="3429000"/>
            <a:ext cx="1774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Book Antiqua"/>
              </a:rPr>
              <a:t>Impuesto Art.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60280"/>
            <a:ext cx="358560" cy="1727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276640"/>
            <a:ext cx="718920" cy="115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23360" y="220500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1 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Trabajad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6400" y="3200400"/>
            <a:ext cx="25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2 In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Profesionales – Ocup. Luc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oc. de Profesi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6840" y="453960"/>
            <a:ext cx="231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1 – Bienes Raí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2 – Valores Mobil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3 - 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4  -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5  - Otras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6  - Premios de Lot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300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2200" y="4084560"/>
            <a:ext cx="196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umatoria de rent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1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Global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38720" y="5516640"/>
            <a:ext cx="151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versas 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stintas T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General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6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6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7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7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9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65" idx="1"/>
            <a:endCxn id="78" idx="1"/>
          </p:cNvCxnSpPr>
          <p:nvPr/>
        </p:nvCxnSpPr>
        <p:spPr>
          <a:xfrm flipH="1" flipV="1" rot="10800000">
            <a:off x="495720" y="2120400"/>
            <a:ext cx="2520" cy="1728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Rodrigo Rojas P.</cp:lastModifiedBy>
  <dcterms:modified xsi:type="dcterms:W3CDTF">2008-05-07T22:55:10Z</dcterms:modified>
  <cp:revision>49</cp:revision>
  <dc:subject/>
  <dc:title>Diapositiva 1</dc:title>
</cp:coreProperties>
</file>