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B32-0BA6-4A58-9ECA-E0B2B15F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FCA-CF1F-486C-A7C5-D58C70AB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B14-4224-49BD-8E7E-8C7AF616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170-CD4D-4F6A-8A4C-AC4D237D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AC4-AC94-42F2-B271-7BE9611E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EB3-5A82-4141-A8B2-FE7B96CA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F2C-E535-42C6-930D-55908491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6A4-B17B-4885-AC77-BCC9580B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DD5-13E1-4D3C-9023-395CB31D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8CB-A86A-4A43-8D8D-1E7E5E8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306-AAF6-4BCC-9063-4A623BB9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801-EDC1-4237-9F5D-987D471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B400-BB50-4797-94A9-5C6CA61890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8920" y="3270240"/>
            <a:ext cx="11638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</a:rPr>
              <a:t>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844640"/>
            <a:ext cx="792360" cy="3168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77720" y="16034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14440" y="48434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907920"/>
            <a:ext cx="503280" cy="1871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4221000"/>
            <a:ext cx="503280" cy="16574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960" y="763560"/>
            <a:ext cx="1482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1ª-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Ca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360" y="2563920"/>
            <a:ext cx="1474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Traba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42 y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4240" y="4075200"/>
            <a:ext cx="25869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Global Complem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domicili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o residentes en Ch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2 al 57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720" y="5589720"/>
            <a:ext cx="2674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A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y Juríd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o domicilias o no reside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8 al 64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0560" y="3429000"/>
            <a:ext cx="1774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Book Antiqua"/>
              </a:rPr>
              <a:t>Impuesto Art.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60280"/>
            <a:ext cx="358560" cy="1727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2276640"/>
            <a:ext cx="718920" cy="115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23360" y="220500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1 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Trabajado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06400" y="3200400"/>
            <a:ext cx="25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2 In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Profesionales – Ocup. Lucr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oc. de Profesi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66840" y="453960"/>
            <a:ext cx="231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1 – Bienes Raí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2 – Valores Mobili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3 - 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4  - Comer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5  - Otras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6  - Premios de Lot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00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300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2200" y="4084560"/>
            <a:ext cx="196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umatoria de rent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1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Global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38720" y="5516640"/>
            <a:ext cx="151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versas 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stintas T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General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6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6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7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7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9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10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11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65" idx="1"/>
            <a:endCxn id="78" idx="1"/>
          </p:cNvCxnSpPr>
          <p:nvPr/>
        </p:nvCxnSpPr>
        <p:spPr>
          <a:xfrm flipH="1" flipV="1" rot="10800000">
            <a:off x="495720" y="2120400"/>
            <a:ext cx="2520" cy="1728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Rodrigo Rojas P.</cp:lastModifiedBy>
  <dcterms:modified xsi:type="dcterms:W3CDTF">2008-05-07T22:55:10Z</dcterms:modified>
  <cp:revision>49</cp:revision>
  <dc:subject/>
  <dc:title>Diapositiva 1</dc:title>
</cp:coreProperties>
</file>