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B4F8-1387-4610-91C6-653B0CDF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8B3A-7D74-48EA-A0AC-A99C9351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F878-551C-4EB9-A55B-F276D1E6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6D3F-0A60-4A45-BB38-628240D9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9087-A43E-4A44-8329-279F0540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ECEC-115C-477D-9990-7D9FA716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1363-6AD9-4496-B5BD-05AD9DE1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A1F3-885C-4AF3-B060-A91BF6AF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EF0B-CE4C-4169-9708-72B40426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0AAB-F9A0-4620-80BA-D3A3CD47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E5AF-03D8-4167-89CA-2EDA635C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A190-ACBA-4881-B55D-E52ECE5F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2BCD-ADFA-4E65-A65C-DD3B4C0A9C4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8920" y="3270240"/>
            <a:ext cx="116388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ook Antiqua"/>
              </a:rPr>
              <a:t>R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1844640"/>
            <a:ext cx="792360" cy="3168720"/>
          </a:xfrm>
          <a:custGeom>
            <a:avLst/>
            <a:gdLst>
              <a:gd name="textAreaLeft" fmla="*/ 506160 w 792360"/>
              <a:gd name="textAreaRight" fmla="*/ 792720 w 79236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77720" y="160344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ook Antiqua"/>
              </a:rPr>
              <a:t>Catego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14440" y="484344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ook Antiqua"/>
              </a:rPr>
              <a:t>Glob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64000" y="907920"/>
            <a:ext cx="503280" cy="1871640"/>
          </a:xfrm>
          <a:custGeom>
            <a:avLst/>
            <a:gdLst>
              <a:gd name="textAreaLeft" fmla="*/ 321480 w 503280"/>
              <a:gd name="textAreaRight" fmla="*/ 503640 w 503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360" y="4221000"/>
            <a:ext cx="503280" cy="1657440"/>
          </a:xfrm>
          <a:custGeom>
            <a:avLst/>
            <a:gdLst>
              <a:gd name="textAreaLeft" fmla="*/ 321480 w 503280"/>
              <a:gd name="textAreaRight" fmla="*/ 503640 w 50328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9960" y="763560"/>
            <a:ext cx="14821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Book Antiqua"/>
              </a:rPr>
              <a:t>1ª- Catego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(Del Capit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Art.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Book Antiqua"/>
              </a:rPr>
              <a:t>Tasa 1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68360" y="2563920"/>
            <a:ext cx="1474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Book Antiqua"/>
              </a:rPr>
              <a:t>2ª. Catego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(Del Trabaj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Art. 42 y 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Book Antiqua"/>
              </a:rPr>
              <a:t>Tasa 0 a 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14240" y="4075200"/>
            <a:ext cx="25869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Book Antiqua"/>
              </a:rPr>
              <a:t>Global Complemen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(Ps. Naturales domicili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o residentes en Chi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Arts. 52 al 57, ambos inclu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Book Antiqua"/>
              </a:rPr>
              <a:t>Tasa 0 a 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6720" y="5589720"/>
            <a:ext cx="26740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Book Antiqua"/>
              </a:rPr>
              <a:t>Adi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(Ps. Naturales y Juríd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o domicilias o no residen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Arts. 58 al 64, ambos inclu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30560" y="3429000"/>
            <a:ext cx="17748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Book Antiqua"/>
              </a:rPr>
              <a:t>Impuesto Art. 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Book Antiqua"/>
              </a:rPr>
              <a:t>Tasa 3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35640" y="260280"/>
            <a:ext cx="358560" cy="1727280"/>
          </a:xfrm>
          <a:custGeom>
            <a:avLst/>
            <a:gdLst>
              <a:gd name="textAreaLeft" fmla="*/ 228960 w 358560"/>
              <a:gd name="textAreaRight" fmla="*/ 358560 w 35856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8720" y="2276640"/>
            <a:ext cx="718920" cy="1152360"/>
          </a:xfrm>
          <a:custGeom>
            <a:avLst/>
            <a:gdLst>
              <a:gd name="textAreaLeft" fmla="*/ 459360 w 718920"/>
              <a:gd name="textAreaRight" fmla="*/ 719280 w 71892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23360" y="2205000"/>
            <a:ext cx="145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N° 1 Depend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(Trabajado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06400" y="3200400"/>
            <a:ext cx="25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N° 2 Independ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(Profesionales – Ocup. Lucrati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Soc. de Profesiona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66840" y="453960"/>
            <a:ext cx="231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° 1 – Bienes Raí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° 2 – Valores Mobili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° 3 -  Indust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° 4  - Comer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° 5  - Otras activ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° 6  - Premios de Lot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7080" y="400536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77080" y="530064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82200" y="4084560"/>
            <a:ext cx="196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Sumatoria de rent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1ª. Catego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2ª. Catego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Exentas de Catego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Exentas de Global Com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38720" y="5516640"/>
            <a:ext cx="1515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Diversas Re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Distintas Ta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Book Antiqua"/>
              </a:rPr>
              <a:t>Tasa General 3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5240" y="-484200"/>
            <a:ext cx="3398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1080" rIns="11160" tIns="64116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QUEMA IMPUESTOS A LA R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557280"/>
            <a:ext cx="8280360" cy="5608080"/>
            <a:chOff x="395280" y="557280"/>
            <a:chExt cx="8280360" cy="5608080"/>
          </a:xfrm>
        </p:grpSpPr>
        <p:grpSp>
          <p:nvGrpSpPr>
            <p:cNvPr id="63" name=""/>
            <p:cNvGrpSpPr/>
            <p:nvPr/>
          </p:nvGrpSpPr>
          <p:grpSpPr>
            <a:xfrm>
              <a:off x="496080" y="1851480"/>
              <a:ext cx="3231360" cy="862560"/>
              <a:chOff x="496080" y="1851480"/>
              <a:chExt cx="3231360" cy="862560"/>
            </a:xfrm>
          </p:grpSpPr>
          <p:sp>
            <p:nvSpPr>
              <p:cNvPr id="64" name=""/>
              <p:cNvSpPr/>
              <p:nvPr/>
            </p:nvSpPr>
            <p:spPr>
              <a:xfrm>
                <a:off x="1606680" y="185148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IRL y Soc. de Person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6080" y="185148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.A. 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n CP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717640" y="185148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</a:rPr>
                  <a:t>Bs. Raíces 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</a:rPr>
                  <a:t>V. Mobiliari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111760" y="239040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000800" y="239040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222360" y="239040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4030560" y="1851480"/>
              <a:ext cx="1918440" cy="1941120"/>
              <a:chOff x="4030560" y="1851480"/>
              <a:chExt cx="1918440" cy="1941120"/>
            </a:xfrm>
          </p:grpSpPr>
          <p:sp>
            <p:nvSpPr>
              <p:cNvPr id="71" name=""/>
              <p:cNvSpPr/>
              <p:nvPr/>
            </p:nvSpPr>
            <p:spPr>
              <a:xfrm>
                <a:off x="4030560" y="1851480"/>
                <a:ext cx="1918440" cy="118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Utilidad en enajenación de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rt. 17 N° 8 letras: a) b), c), d) y 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cciones – Pertenencias Mineras Derechos de Agua – Propiedad Intelectual – et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  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No habituale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030560" y="3361320"/>
                <a:ext cx="1918440" cy="4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puesto Único Primera Categoría - Tasa 1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939200" y="303768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395280" y="2714400"/>
              <a:ext cx="4644720" cy="2048760"/>
              <a:chOff x="395280" y="2714400"/>
              <a:chExt cx="4644720" cy="2048760"/>
            </a:xfrm>
          </p:grpSpPr>
          <p:sp>
            <p:nvSpPr>
              <p:cNvPr id="75" name=""/>
              <p:cNvSpPr/>
              <p:nvPr/>
            </p:nvSpPr>
            <p:spPr>
              <a:xfrm>
                <a:off x="1607040" y="271440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imera Categoría Tasa 1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96080" y="271440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imera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1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718000" y="2714400"/>
                <a:ext cx="100944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96080" y="357696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</a:rPr>
                  <a:t>Impuesto Art. 21 – Gastos Rechaza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001160" y="3253320"/>
                <a:ext cx="0" cy="323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010960" y="3361320"/>
                <a:ext cx="1817640" cy="10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909800" y="3253320"/>
                <a:ext cx="0" cy="118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909800" y="4439880"/>
                <a:ext cx="30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939560" y="443988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303920" y="325332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303920" y="3469320"/>
                <a:ext cx="40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07840" y="3469320"/>
                <a:ext cx="0" cy="11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07840" y="4655520"/>
                <a:ext cx="262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333680" y="4655520"/>
                <a:ext cx="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727440" y="4224240"/>
                <a:ext cx="131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tiros y G. Rechaza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95280" y="4116240"/>
                <a:ext cx="12117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1001160" y="557280"/>
              <a:ext cx="6866640" cy="1294200"/>
              <a:chOff x="1001160" y="557280"/>
              <a:chExt cx="6866640" cy="1294200"/>
            </a:xfrm>
          </p:grpSpPr>
          <p:sp>
            <p:nvSpPr>
              <p:cNvPr id="92" name=""/>
              <p:cNvSpPr/>
              <p:nvPr/>
            </p:nvSpPr>
            <p:spPr>
              <a:xfrm>
                <a:off x="1606680" y="557280"/>
                <a:ext cx="10098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1ª.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606680" y="1204200"/>
                <a:ext cx="10098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l Capit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1001160" y="664920"/>
                <a:ext cx="60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01160" y="664920"/>
                <a:ext cx="0" cy="118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111760" y="88056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111760" y="152784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414520" y="1527840"/>
                <a:ext cx="80784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434480" y="557280"/>
                <a:ext cx="10098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nt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16840" y="1312200"/>
                <a:ext cx="2322360" cy="53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2616840" y="664920"/>
                <a:ext cx="181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57200" y="557280"/>
                <a:ext cx="11106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ª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261920" y="880560"/>
                <a:ext cx="0" cy="97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444280" y="664920"/>
                <a:ext cx="131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6050160" y="1851480"/>
              <a:ext cx="2625480" cy="2372760"/>
              <a:chOff x="6050160" y="1851480"/>
              <a:chExt cx="2625480" cy="2372760"/>
            </a:xfrm>
          </p:grpSpPr>
          <p:sp>
            <p:nvSpPr>
              <p:cNvPr id="106" name=""/>
              <p:cNvSpPr/>
              <p:nvPr/>
            </p:nvSpPr>
            <p:spPr>
              <a:xfrm>
                <a:off x="6756840" y="1851480"/>
                <a:ext cx="11106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l Trabaj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050160" y="2714400"/>
                <a:ext cx="121176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rab. Depend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Sueldos y Pensione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463880" y="2714400"/>
                <a:ext cx="121176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ofesionales independient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Honorario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50160" y="3577320"/>
                <a:ext cx="1211760" cy="64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puesto Único de 2ª.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0% al 40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6554520" y="1959120"/>
                <a:ext cx="20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7867800" y="1959120"/>
                <a:ext cx="20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554880" y="1959120"/>
                <a:ext cx="0" cy="75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069760" y="1959120"/>
                <a:ext cx="0" cy="75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554880" y="325332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54880" y="3253320"/>
                <a:ext cx="807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565040" y="3253320"/>
                <a:ext cx="807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395280" y="3253320"/>
              <a:ext cx="8280000" cy="2912040"/>
              <a:chOff x="395280" y="3253320"/>
              <a:chExt cx="8280000" cy="2912040"/>
            </a:xfrm>
          </p:grpSpPr>
          <p:sp>
            <p:nvSpPr>
              <p:cNvPr id="118" name=""/>
              <p:cNvSpPr/>
              <p:nvPr/>
            </p:nvSpPr>
            <p:spPr>
              <a:xfrm>
                <a:off x="4030560" y="4763160"/>
                <a:ext cx="1918440" cy="4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Global Complementari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progresiva 0% al 40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030560" y="5518080"/>
                <a:ext cx="1918440" cy="4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di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35% y otr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5280" y="4763160"/>
                <a:ext cx="16156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rédito: según tasa que  afectaron las utilidade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95280" y="5518080"/>
                <a:ext cx="16156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rédito: según tasa que afectaron las utilidade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2111400" y="4978800"/>
                <a:ext cx="191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111400" y="5734080"/>
                <a:ext cx="191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939200" y="519480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333320" y="5949720"/>
                <a:ext cx="131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372880" y="3253320"/>
                <a:ext cx="0" cy="11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5545440" y="4439520"/>
                <a:ext cx="282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545440" y="443952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958800" y="4871160"/>
                <a:ext cx="17164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ersonas Naturales con Domicilio o Residencia en Chi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958800" y="5518080"/>
                <a:ext cx="171648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ersonas sin Domicilio ni Residencia en Chile (Personas Naturales o Jurídica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49360" y="4978800"/>
                <a:ext cx="100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949360" y="5734080"/>
                <a:ext cx="100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261920" y="4223880"/>
                <a:ext cx="1009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ntas percibid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"/>
          <p:cNvSpPr/>
          <p:nvPr/>
        </p:nvSpPr>
        <p:spPr>
          <a:xfrm>
            <a:off x="2843280" y="2708280"/>
            <a:ext cx="77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rime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ategorí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asa 1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70160" y="443700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6360" y="5249880"/>
            <a:ext cx="5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F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65" idx="1"/>
            <a:endCxn id="78" idx="1"/>
          </p:cNvCxnSpPr>
          <p:nvPr/>
        </p:nvCxnSpPr>
        <p:spPr>
          <a:xfrm flipH="1" flipV="1" rot="10800000">
            <a:off x="495720" y="2120400"/>
            <a:ext cx="2520" cy="17280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/>
          <p:nvPr/>
        </p:nvCxnSpPr>
        <p:spPr>
          <a:xfrm flipH="1" rot="16200000">
            <a:off x="3587760" y="3188880"/>
            <a:ext cx="1497600" cy="1688400"/>
          </a:xfrm>
          <a:prstGeom prst="bentConnector3">
            <a:avLst>
              <a:gd name="adj1" fmla="val 515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4:48:45Z</dcterms:created>
  <dc:creator> Rodrigo Rojas</dc:creator>
  <dc:description/>
  <dc:language>en-US</dc:language>
  <cp:lastModifiedBy>Rodrigo Rojas P.</cp:lastModifiedBy>
  <dcterms:modified xsi:type="dcterms:W3CDTF">2008-05-07T22:55:10Z</dcterms:modified>
  <cp:revision>49</cp:revision>
  <dc:subject/>
  <dc:title>Diapositiva 1</dc:title>
</cp:coreProperties>
</file>