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1769B-6ECB-448E-ABF5-9EC7F2034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EC8DC-61B6-430A-BF97-C6EE3F329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D1DF1-2FD5-4F57-B533-E62908065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B68CC-E511-4457-B99F-9F6E77733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525CF-D576-49BC-9D51-4B0C0EFBA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727EE-B8D1-469B-83D6-C2D86E328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6EE13-3E7E-4795-8FEA-D6E5128B0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5FEA7-8BCF-4517-AF70-FE941A3A7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22EFD-9AFC-4216-8E1B-582B071DC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A99B7-6AC9-4B44-B9FC-E426BB9F5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D7C79-2437-45A4-91EC-28905E1A1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9655-012D-4AAC-8E67-400EAFF34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CB3EC-7B1A-4709-AA56-4B435EA6E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415C3-4960-4509-AD27-600F0C2FB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D5401-B471-42C4-A5FA-DC9456A40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B2634-6F20-4680-B940-2A08774FA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6356B-828F-4804-8BCD-9638D9912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B8358-2F00-4B8F-B42A-5A35D1E70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5D28E-B242-4253-97AA-F76AFCAD5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8153-01DC-4958-BB72-28C503636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5214B-C418-4960-AF08-0DD8C6ED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B9ADA-60E5-4FFC-8713-3F5CEB480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C2A5-54CE-4BEC-B847-3838DDD87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40C0-1770-45D1-947F-0D63DB178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9B7C-C7F9-4AE9-98BA-880A042B6895}"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14DC-9226-4FF8-9313-1F30F9D48A24}"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Derecho Tributario</a:t>
            </a:r>
            <a:endParaRPr b="0" lang="en-US" sz="4800" spc="-1" strike="noStrike">
              <a:solidFill>
                <a:srgbClr val="ccecff"/>
              </a:solidFill>
              <a:latin typeface="Arial"/>
            </a:endParaRPr>
          </a:p>
        </p:txBody>
      </p:sp>
      <p:sp>
        <p:nvSpPr>
          <p:cNvPr id="212" name="PlaceHolder 2"/>
          <p:cNvSpPr>
            <a:spLocks noGrp="1"/>
          </p:cNvSpPr>
          <p:nvPr>
            <p:ph/>
          </p:nvPr>
        </p:nvSpPr>
        <p:spPr>
          <a:xfrm>
            <a:off x="1328760" y="4876920"/>
            <a:ext cx="6486480" cy="13716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acultad de Derech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imer Semestre 2008</a:t>
            </a:r>
            <a:endParaRPr b="0" lang="en-US" sz="2000" spc="-1" strike="noStrike">
              <a:solidFill>
                <a:srgbClr val="ffffff"/>
              </a:solidFill>
              <a:latin typeface="Arial"/>
            </a:endParaRPr>
          </a:p>
        </p:txBody>
      </p:sp>
      <p:sp>
        <p:nvSpPr>
          <p:cNvPr id="213" name=""/>
          <p:cNvSpPr/>
          <p:nvPr/>
        </p:nvSpPr>
        <p:spPr>
          <a:xfrm>
            <a:off x="2506680" y="2438280"/>
            <a:ext cx="4130640" cy="1371600"/>
          </a:xfrm>
          <a:prstGeom prst="rect">
            <a:avLst/>
          </a:prstGeom>
          <a:noFill/>
          <a:ln w="0">
            <a:noFill/>
          </a:ln>
        </p:spPr>
        <p:style>
          <a:lnRef idx="0"/>
          <a:fillRef idx="0"/>
          <a:effectRef idx="0"/>
          <a:fontRef idx="minor"/>
        </p:style>
        <p:txBody>
          <a:bodyPr lIns="92160" rIns="92160" tIns="46080" bIns="460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odrigo Rojas P.</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dant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odrigo Zarhi H.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A4B7C80-A361-45AF-A7F9-E53565343C4D}" type="slidenum">
              <a:t>1</a:t>
            </a:fld>
          </a:p>
        </p:txBody>
      </p:sp>
      <p:sp>
        <p:nvSpPr>
          <p:cNvPr id="5" name="PlaceHolder 4"/>
          <p:cNvSpPr>
            <a:spLocks noGrp="1"/>
          </p:cNvSpPr>
          <p:nvPr>
            <p:ph type="dt" idx="1"/>
          </p:nvPr>
        </p:nvSpPr>
        <p:spPr/>
        <p:txBody>
          <a:bodyPr/>
          <a:p>
            <a:fld id="{7AB4F9F7-F2AE-49BF-92FF-DDD12B4D7F56}"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9"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Ordinarias b.- Ocasionales.</a:t>
            </a:r>
            <a:endParaRPr b="0" lang="en-US" sz="3200" spc="-1" strike="noStrike">
              <a:solidFill>
                <a:srgbClr val="ffffff"/>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De fuente chilena b.-Rentas de fuente extranjera</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a.- Categoría</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Efectiva b.- Presunta c.- Estim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611280" y="1125360"/>
            <a:ext cx="7921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Efectiv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b. Presunt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468360" y="620640"/>
            <a:ext cx="7777080" cy="561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Devengadas</a:t>
            </a:r>
            <a:r>
              <a:rPr b="0" lang="en-US" sz="3200" spc="-1" strike="noStrike">
                <a:solidFill>
                  <a:srgbClr val="ffffff"/>
                </a:solidFill>
                <a:latin typeface="Century Gothic"/>
              </a:rPr>
              <a:t>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Percib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	</a:t>
            </a: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	</a:t>
            </a: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3"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483920"/>
            <a:ext cx="7772400" cy="2606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LEY SOBRE IMPUESTO A RENTA </a:t>
            </a:r>
            <a:br>
              <a:rPr sz="3600"/>
            </a:br>
            <a:br>
              <a:rPr sz="3600"/>
            </a:br>
            <a:r>
              <a:rPr b="0" lang="es-MX" sz="3600" spc="-1" strike="noStrike">
                <a:solidFill>
                  <a:srgbClr val="ccecff"/>
                </a:solidFill>
                <a:latin typeface="Arial"/>
              </a:rPr>
              <a:t>Decreto Ley N° 824, de 1974</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a:t>
            </a:r>
            <a:r>
              <a:rPr b="0" lang="es-MX" sz="3600" spc="-1" strike="noStrike" u="sng">
                <a:solidFill>
                  <a:srgbClr val="ffffff"/>
                </a:solidFill>
                <a:uFillTx/>
                <a:latin typeface="Century Gothic"/>
              </a:rPr>
              <a:t>no se consideran Renta</a:t>
            </a:r>
            <a:r>
              <a:rPr b="0" lang="es-MX" sz="3600" spc="-1" strike="noStrike">
                <a:solidFill>
                  <a:srgbClr val="ffffff"/>
                </a:solidFill>
                <a:latin typeface="Century Gothic"/>
              </a:rPr>
              <a:t>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0"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45" name=""/>
          <p:cNvGraphicFramePr/>
          <p:nvPr/>
        </p:nvGraphicFramePr>
        <p:xfrm>
          <a:off x="576360" y="1413000"/>
          <a:ext cx="7991280" cy="4811760"/>
        </p:xfrm>
        <a:graphic>
          <a:graphicData uri="http://schemas.openxmlformats.org/drawingml/2006/table">
            <a:tbl>
              <a:tblPr/>
              <a:tblGrid>
                <a:gridCol w="3628800"/>
                <a:gridCol w="2051280"/>
                <a:gridCol w="258840"/>
                <a:gridCol w="2052360"/>
              </a:tblGrid>
              <a:tr h="825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menos de 1 año</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mas de 1 año</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ea typeface="Arial"/>
                        </a:rPr>
                        <a:t>Habitua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Arial"/>
                        </a:rPr>
                        <a:t>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ea typeface="Arial"/>
                        </a:rPr>
                        <a:t>No Habitua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Paga 1a. Categoría + Global Complementari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Solo paga 1a. Categoría (único)</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ea typeface="Arial"/>
                        </a:rPr>
                        <a:t>Nota: Excepción Art. 18 bis, ter, quater</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ea typeface="Arial"/>
                        </a:rPr>
                        <a:t> </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246" name=""/>
          <p:cNvSpPr/>
          <p:nvPr/>
        </p:nvSpPr>
        <p:spPr>
          <a:xfrm>
            <a:off x="1762920" y="404640"/>
            <a:ext cx="561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 Antiqua"/>
              </a:rPr>
              <a:t>Tributación de Ac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8"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6"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468360" y="69228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f.- 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i.-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20"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7"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c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5"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1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4"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7"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4"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6"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8-04-28T21:26:56Z</dcterms:modified>
  <cp:revision>184</cp:revision>
  <dc:subject/>
  <dc:title>LEY DE IMPUESTO A LA RENTA</dc:title>
</cp:coreProperties>
</file>