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C2E6B-EACC-4811-90E0-31282C3DC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8AC69-9ED6-426B-A2EF-DDDBA15E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14092-1DC4-476F-B0AF-AFB922D7B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763D-D3D4-4197-A3FB-0E119F71E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BB02D-E15D-4A88-9A83-BBF0A414F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275A1-0664-453F-B69A-DA156348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5EC11-D836-47D1-B704-3C384B20C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884EE-9131-4EE9-BC95-DCD3C70DF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AD087-201E-4933-906D-742E2AC11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024F3-D60D-4B69-A707-BF1678211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B2ED-8AD9-4F94-B977-80781AA9A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0748-D8A8-42DE-B987-0F5E6033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387E4-D67F-4D84-B7BB-3A27F67DA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CC4E4-93AE-4C59-9694-6862A59D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8E042-FECC-4D5A-8306-025579F14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8CD94-014F-4D70-9356-35A420DB6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FBFB0-5B2F-4046-B73E-9942B89B7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F748-8B46-46C2-8706-A95143D64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990D6-98D7-4474-BEAE-1B50740E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4DA3B-2CDA-4CB4-B903-366AF01B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A8A4-D5B2-4651-B9CD-6B599821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05B3-7F46-4EA0-A825-3D9ECDA2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870E-BDFC-4D26-950C-B1547675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0D78-6364-4312-A3B7-C16152F1E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12D4-2E63-467A-9CC6-AEF872641049}"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3A89-800E-4AC8-A383-9EE8101BFDB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Derecho Tributario</a:t>
            </a:r>
            <a:endParaRPr b="0" lang="en-US" sz="4800" spc="-1" strike="noStrike">
              <a:solidFill>
                <a:srgbClr val="ccecff"/>
              </a:solidFill>
              <a:latin typeface="Arial"/>
            </a:endParaRPr>
          </a:p>
        </p:txBody>
      </p:sp>
      <p:sp>
        <p:nvSpPr>
          <p:cNvPr id="212" name="PlaceHolder 2"/>
          <p:cNvSpPr>
            <a:spLocks noGrp="1"/>
          </p:cNvSpPr>
          <p:nvPr>
            <p:ph/>
          </p:nvPr>
        </p:nvSpPr>
        <p:spPr>
          <a:xfrm>
            <a:off x="1328760" y="4876920"/>
            <a:ext cx="6486480" cy="1371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ultad de Derech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imer Semestre 2008</a:t>
            </a:r>
            <a:endParaRPr b="0" lang="en-US" sz="2000" spc="-1" strike="noStrike">
              <a:solidFill>
                <a:srgbClr val="ffffff"/>
              </a:solidFill>
              <a:latin typeface="Arial"/>
            </a:endParaRPr>
          </a:p>
        </p:txBody>
      </p:sp>
      <p:sp>
        <p:nvSpPr>
          <p:cNvPr id="213" name=""/>
          <p:cNvSpPr/>
          <p:nvPr/>
        </p:nvSpPr>
        <p:spPr>
          <a:xfrm>
            <a:off x="2506680" y="2438280"/>
            <a:ext cx="4130640" cy="137160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Rojas P.</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dant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Zarhi H.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09699FB-D430-4041-9509-6D7A15AF276D}" type="slidenum">
              <a:t>1</a:t>
            </a:fld>
          </a:p>
        </p:txBody>
      </p:sp>
      <p:sp>
        <p:nvSpPr>
          <p:cNvPr id="5" name="PlaceHolder 4"/>
          <p:cNvSpPr>
            <a:spLocks noGrp="1"/>
          </p:cNvSpPr>
          <p:nvPr>
            <p:ph type="dt" idx="1"/>
          </p:nvPr>
        </p:nvSpPr>
        <p:spPr/>
        <p:txBody>
          <a:bodyPr/>
          <a:p>
            <a:fld id="{A807AD57-D1BB-4D30-BDD2-98EF94359F3B}"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9"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Ordinarias b.- Ocasionales.</a:t>
            </a:r>
            <a:endParaRPr b="0" lang="en-US" sz="3200" spc="-1" strike="noStrike">
              <a:solidFill>
                <a:srgbClr val="ffffff"/>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De fuente chilena b.-Rentas de fuente extranjera</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Categoría</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Efectiva b.- Presunta c.- Estim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611280" y="1125360"/>
            <a:ext cx="7921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Efectiv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Presunt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468360" y="620640"/>
            <a:ext cx="7777080" cy="56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venga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Percib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3"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483920"/>
            <a:ext cx="7772400" cy="2606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LEY SOBRE IMPUESTO A RENTA </a:t>
            </a:r>
            <a:br>
              <a:rPr sz="3600"/>
            </a:br>
            <a:br>
              <a:rPr sz="3600"/>
            </a:br>
            <a:r>
              <a:rPr b="0" lang="es-MX" sz="3600" spc="-1" strike="noStrike">
                <a:solidFill>
                  <a:srgbClr val="ccecff"/>
                </a:solidFill>
                <a:latin typeface="Arial"/>
              </a:rPr>
              <a:t>Decreto Ley N° 824, de 1974</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a:t>
            </a:r>
            <a:r>
              <a:rPr b="0" lang="es-MX" sz="3600" spc="-1" strike="noStrike" u="sng">
                <a:solidFill>
                  <a:srgbClr val="ffffff"/>
                </a:solidFill>
                <a:uFillTx/>
                <a:latin typeface="Century Gothic"/>
              </a:rPr>
              <a:t>no se consideran Renta</a:t>
            </a:r>
            <a:r>
              <a:rPr b="0" lang="es-MX" sz="3600" spc="-1" strike="noStrike">
                <a:solidFill>
                  <a:srgbClr val="ffffff"/>
                </a:solidFill>
                <a:latin typeface="Century Gothic"/>
              </a:rPr>
              <a:t>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45" name=""/>
          <p:cNvGraphicFramePr/>
          <p:nvPr/>
        </p:nvGraphicFramePr>
        <p:xfrm>
          <a:off x="576360" y="1413000"/>
          <a:ext cx="7991280" cy="4811760"/>
        </p:xfrm>
        <a:graphic>
          <a:graphicData uri="http://schemas.openxmlformats.org/drawingml/2006/table">
            <a:tbl>
              <a:tblPr/>
              <a:tblGrid>
                <a:gridCol w="3628800"/>
                <a:gridCol w="2051280"/>
                <a:gridCol w="258840"/>
                <a:gridCol w="2052360"/>
              </a:tblGrid>
              <a:tr h="825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eno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a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No 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Solo paga 1a. Categoría (únic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ea typeface="Arial"/>
                        </a:rPr>
                        <a:t>Nota: Excepción Art. 18 bis, ter, quater</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246" name=""/>
          <p:cNvSpPr/>
          <p:nvPr/>
        </p:nvSpPr>
        <p:spPr>
          <a:xfrm>
            <a:off x="1762920" y="404640"/>
            <a:ext cx="561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 Antiqua"/>
              </a:rPr>
              <a:t>Tributación de Ac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6"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468360" y="69228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f.- 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i.-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20"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c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5"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1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4"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7"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4"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6"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8-04-28T21:26:56Z</dcterms:modified>
  <cp:revision>184</cp:revision>
  <dc:subject/>
  <dc:title>LEY DE IMPUESTO A LA RENTA</dc:title>
</cp:coreProperties>
</file>