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CB7-DC48-4EDF-82BF-3778D1B7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FA4F-288F-4E88-9CCE-A69863B3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07C2-F6D3-4D75-B251-39E2898B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E71-DFD7-43BA-B26D-AE752943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E500-196D-4EB5-8913-2655E6C3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A2F7-36F6-4949-AD8E-7C414F99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DC80-82DB-4663-8D57-5110B9EC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0E12-BEE1-46F6-BE5D-33A87D36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95F3-80E4-4EFB-8CD2-FB0F2248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A060-B853-4AD6-B16E-74A7DD62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1CF6-20CD-4F6F-A249-44343A0A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A2A-BDF0-4BF5-8F8E-878DE211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13D1-5D65-47DA-ACE7-931ADB26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B3D8-EAD6-4C96-B272-F706CCB8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3111-CF85-44FF-826D-364398F0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5A6A-338F-4289-9F0F-960C3FF1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9395-E2B5-4B12-B297-15FFB94C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C30-F888-49B0-A744-9784AA28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7F3-5390-4A75-B1E5-5861AF9B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D5A-0870-4C92-9634-DC0BBDD0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A8C-B2B2-4E1F-AB8D-6DBDE93C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CFA-C168-439C-8D96-A98DA105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F56-DB38-4579-97FA-B25803DE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828-3F2D-4F5A-9DD4-5E9E7C7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6056-1E96-4BBD-BDD4-8653740B1341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1C77-7A04-461F-A985-417A63B3DB73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aeaea"/>
                </a:solidFill>
                <a:latin typeface="Century Gothic"/>
              </a:rPr>
              <a:t>Impuesto a las Ventas y Servicios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terminación del Débito Fiscal mensual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52480"/>
            <a:ext cx="2209680" cy="167652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BOLET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Total :1.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286000"/>
            <a:ext cx="2743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Century Gothic"/>
              </a:rPr>
              <a:t>Art. 88 Cód. Tributari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Century Gothic"/>
              </a:rPr>
              <a:t>Art. 55 LIV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752480"/>
            <a:ext cx="2210040" cy="167652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FACTU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Neto: 1.00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IVA:   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Total: 1.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3581280"/>
            <a:ext cx="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800600"/>
            <a:ext cx="10666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3276720"/>
            <a:ext cx="0" cy="1447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238880" y="480060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4149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LIBRO DE VENTAS   mes    año</a:t>
            </a:r>
            <a:r>
              <a:rPr b="0" lang="es-MX" sz="1800" spc="-1" strike="noStrike">
                <a:solidFill>
                  <a:srgbClr val="eaeaea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648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Día Bol del N° al N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181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Neto Iva Tot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5181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Fact. N° Fecha Cliente Ru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6530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Neto Iva Tot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58053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Totales mes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4005360"/>
            <a:ext cx="4343400" cy="251460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4076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Dividir por 1.19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386064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Sumar IV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recarga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609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Art. 59 de la LIV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77043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Ajustes al Déb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Agregado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Según notas de débito emitidas en un período tributario, de hechos gravados devengados en el mismo período tributario o anteriores: (Art. 36 del Reglam.)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iferencias de prec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, reajustes, diferencias de cambio y gastos de financiamien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 moratori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iferencias de facturación del mismo perío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0" lang="es-ES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: Según notas de crédito emitidas en un período, por hecho gravados devengados en el mismo período tributario o anteriores (Art. 21 de la LIVS y 36 del Reglam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76500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Ajustes al Débito Fisca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848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Bonificaciones y descuentos posteriores a la     facturación, por operaciones afectas del mismo período o anterior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tituciones por devoluciones de depósitos en garantía por envases, siempre que hayan conformado base imponible afect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Diferencias facturación excesiva, siempre que se subsanen en el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mismo período tributario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333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Si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or restituciones a los compradores de devoluciones de bienes muebles o resciliación de servic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lazo: Tres meses, contados desd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6000" indent="-2509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Venta de bienes muebles: Fecha devengamiento de IVA (emisión por entrega real o simbólic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6000" indent="-2509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restación de servicios: Fecha devengamiento IVA (emisión por percepción remuneración o disposición de la mism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Co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49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titución de venta o promesa venta de bienes inmuebles nula por resolución, resciliación o sentencia judici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lazo de tres meses, contados desd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olución o resciliación: Fecha escritura de resolución o resciliación de promesa o de venta de inmueb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Sentencia judicial: Fecha desde que sentencia se entienda ejecutoriad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2306160" y="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co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0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Situaciones especial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ocumentación de operaciones dejadas sin efecto, como consecuencia de devoluciones de mercaderías o resciliaciones de servicio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Con boleta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Reverso de la boleta: Fecha, nombre, dirección, cédula de identidad y firma comprad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Con vale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Emisión de nota de créd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10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Situaciones especia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Anulaciones de operaciones documentadas que no configurarían hecho gravado de ventas o servicio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 Facturación sin que haya existido entrega real o simbólica de mercaderí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 Facturación de remuneración percibida sin que se haya prestado el servic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Jurisprudencia Administrativa del S.I.I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438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Oficios Recomendad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1483/83 – 48/96 – 7304/78 – 1720/97 – 105/9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98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BJETIVOS DEL CRED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514600"/>
            <a:ext cx="762120" cy="990720"/>
          </a:xfrm>
          <a:prstGeom prst="downArrowCallout">
            <a:avLst>
              <a:gd name="adj1" fmla="val 25002"/>
              <a:gd name="adj2" fmla="val 25000"/>
              <a:gd name="adj3" fmla="val 21666"/>
              <a:gd name="adj4" fmla="val 66667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09680" y="3429000"/>
            <a:ext cx="1981440" cy="99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3429000"/>
            <a:ext cx="1828800" cy="1066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57200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Permite determin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l valor agreg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e cada etap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572000"/>
            <a:ext cx="493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Permite determin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la incidencia del I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n el consumidor fi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s la cuantificación de los hechos grava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Permite determinar la cuantía del déb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Fundamento legal: Artículos 15, 16 y 17 de la Ley LIVS y 26 a 34 del Reglament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Déb. Fiscal = B. Imp. * Tasa (19%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692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Century Gothic"/>
              </a:rPr>
              <a:t>Base Imponib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38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8195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Naturalez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Jurídica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C. Fis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198900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836640"/>
            <a:ext cx="59767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onstituye un crédito en contra Fisco, a favor contribuy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l titular no puede accionar contra el Fisco, no obstante puede excepcionarse del pago del débito por la vía de rebaj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s un crédito con limitaciones, que tienen como finalidad cumplir objetivo económico – jurídico del I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69520" y="304920"/>
            <a:ext cx="79945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1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erecho condicionado al cumplimiento de requisitos formales y sustantiv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s un derecho </a:t>
            </a: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patrimonial y personalísim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Art. 39 del Reglament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Impuestos que a los contribuyentes del mismo impuesto se les ha recargado en sus adquisiciones o servicios recibidos y que pueden deducir del débito fiscal del m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Contribuyentes que pueden invocar el crédito fiscal (Art. 23 LIV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Contribuyentes del IVA (inclusive exportador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Que hayan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soportad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IVA en sus adquisiciones o importaciones de bienes o en la utilización de servic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ceptos que dan derech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(Art. 23 N° 1 al 5 de la Ley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Nuestra legislación determina las adquisiciones y utilizaciones de servicios que otorgan el derecho a créd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Se deben distinguir requisitos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formales y sustantiv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cc"/>
                </a:solidFill>
                <a:uFillTx/>
                <a:latin typeface="Century Gothic"/>
              </a:rPr>
              <a:t>Requisitos Formales</a:t>
            </a:r>
            <a:r>
              <a:rPr b="1" lang="es-MX" sz="2800" spc="-1" strike="noStrike">
                <a:solidFill>
                  <a:srgbClr val="ffffcc"/>
                </a:solidFill>
                <a:latin typeface="Century Gothic"/>
              </a:rPr>
              <a:t>: (Art. 24 y 25 LIVS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6002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295280"/>
            <a:ext cx="533520" cy="4648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04200" y="1125360"/>
            <a:ext cx="6858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1600200"/>
            <a:ext cx="22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1. Respaldo documental.:</a:t>
            </a: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358128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2. Registro en Libro de Compras.: (Art. 59 LIV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51577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3. Oportunidad del derecho: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11430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1295280"/>
            <a:ext cx="4354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Facturas y Notas de Débi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-Comp. Liq. Grav. Aduan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Fact. Compras cambio de sujeto (IVA pag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43700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4653000"/>
            <a:ext cx="4105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Período tributario emisión factu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(o PT sigte. o subsgte. caso recepción o registro con atras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2692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413000"/>
            <a:ext cx="8820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Que los documentos de respaldo cumplan requisitos, (Art. 23 N. 5 y 54 de la LIVS y 69 y 71 bis del Reglamento)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 Formato preestablecido (Res. 1.667/198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 Timbraj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5280" y="54936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Identificación completa del emis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Identificación del rece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Descripción de la operación o guía de despacho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Fecha de emisió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Que IVA recargado figure separadamente (Art. 24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y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69 de la LIV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(Situaciones especiale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065320"/>
            <a:ext cx="7239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aso extravío de documentos: La pérdida no tiene efecto retroactivo, siempre que se acredit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Recepción y contabilización oportu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Comunicación de extravío al SII, dentro del plazo legal, conforme al Art. 97 No. 16 del C.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Efectividad de operaci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(Situaciones especiale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2. 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Tratamiento tributario IVA extemporáne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Gasto tributario o costo del act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Solicitar devolución conforme Art. 126 del C.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Solicitar compensación Art. 127 del C.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152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REQUISITOS SUSTANT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1. 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Dan derecho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: El IVA soportado por :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844640"/>
            <a:ext cx="4716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muebles o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entury Gothic"/>
              </a:rPr>
              <a:t>Utilización de servicios destinad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entury Gothic"/>
              </a:rPr>
              <a:t>al activo realizab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muebles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Inmuebles o utilización de servici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stinados al activo fij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o utiliza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 servicios que constituyan gas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 tipo general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1981080"/>
            <a:ext cx="914400" cy="4419720"/>
          </a:xfrm>
          <a:custGeom>
            <a:avLst/>
            <a:gdLst>
              <a:gd name="textAreaLeft" fmla="*/ 0 w 914400"/>
              <a:gd name="textAreaRight" fmla="*/ 330120 w 9144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206064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1654200"/>
            <a:ext cx="762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1413000"/>
            <a:ext cx="4572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80360" y="1654200"/>
            <a:ext cx="7617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2349000"/>
            <a:ext cx="860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En las ventas: Precio de venta de los bienes corporales muebles: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En los servicios: Valor de las prestacion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26028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Base Imponible en l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Century Gothic"/>
              </a:rPr>
              <a:t>Hechos gravados básicos y especial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53452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sideraciones a tener present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lación directa, debe entenderse como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indispensable y necesario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para la actividad del contribuyente. La relación no está referida necesariamente a la inmediata generación de débit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Giro o actividad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Objeto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económico a que se dedica el contribuyen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No hay relación directa, cuando las adquisiciones o servicios se destinan para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uso particular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, (Art. 41 inc 2° del Regl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2. </a:t>
            </a:r>
            <a:r>
              <a:rPr b="1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Relación con operacion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gravadas: (Art. 23 N° 2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No hay crédito sin déb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Bienes y servicios deben estar afectos a la generación de operaciones gravad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Operaciones afectas se define al momento en que el contribuyente soporta el impuesto, sin importar si por causa ajena o sobreviniente, las adquisiciones o servicios no lleguen a generar débito, ejem.: mercaderías siniestradas; venta no afecta de activo fijo; 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52240" y="76464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3. Crédito Fiscal proporcional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(Art. 23 N° 3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Bienes y servicios afectos a la generación tanto de operaciones gravadas y no gravad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l crédito fiscal se calcula en forma proporcional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8040" y="469440"/>
            <a:ext cx="77738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4. </a:t>
            </a:r>
            <a:r>
              <a:rPr b="1" lang="es-MX" sz="3200" spc="-1" strike="noStrike" u="sng">
                <a:solidFill>
                  <a:srgbClr val="ffffcc"/>
                </a:solidFill>
                <a:uFillTx/>
                <a:latin typeface="Century Gothic"/>
              </a:rPr>
              <a:t>Que las adquisiciones o utilizaciones de servicios no digan relación con</a:t>
            </a: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: (Art. 23 N° 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8040" y="1829880"/>
            <a:ext cx="777384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Adquisición de automóviles, station wagons y similares, como asimismo los gastos relacionados con los mismos. </a:t>
            </a:r>
            <a:r>
              <a:rPr b="0" i="1" lang="es-MX" sz="2800" spc="-1" strike="noStrike">
                <a:solidFill>
                  <a:srgbClr val="eaeaea"/>
                </a:solidFill>
                <a:latin typeface="Century Gothic"/>
              </a:rPr>
              <a:t>Salvo calificación de D. Nacional SII, según Ley 19.738 de 19.06.01 (Art. 23 N. 4 de la LIV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La calificación de automóvil, station wagons, jeeps y similares no la hace el SII, la hace la Comisión Automotriz 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5. </a:t>
            </a:r>
            <a:r>
              <a:rPr b="1" lang="es-MX" sz="3200" spc="-1" strike="noStrike" u="sng">
                <a:solidFill>
                  <a:srgbClr val="ffffcc"/>
                </a:solidFill>
                <a:uFillTx/>
                <a:latin typeface="Century Gothic"/>
              </a:rPr>
              <a:t>Que el crédito fiscal sea auténtico y cumpla normas legales y reglamentarias (Art. 23 N° 5), por tan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2598480"/>
            <a:ext cx="3049560" cy="19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No se tie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derech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057400"/>
            <a:ext cx="533520" cy="2819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057400"/>
            <a:ext cx="304560" cy="342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56000" y="1916280"/>
            <a:ext cx="5688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1 Facturas No Fidedignas o Fals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2 IVA recargado indebidam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3 Facturas que no cumplen requisitos form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Determinan improcedencia del créd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Facturas no Fidedigna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Contienen irregularidades materiales por lo que no se ajustarían a la verdad: Ej.: Correcciones: alteración correlativo, et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942840" y="6444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5.1 </a:t>
            </a:r>
            <a:r>
              <a:rPr b="1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Facturas No Fidedignas o Falsa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476280"/>
            <a:ext cx="80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Facturas falsas: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 Faltan a la verdad o realidad que pretend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- 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Falsedad material: Alteran el sentido de la factur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Falsedad ideológica: Contienen actos o cosas falsas o mentirosas. Nunca debieran dar derecho a C.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5.2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facturas otorgadas por personas no contribuyentes del impues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¿Opera para facturas emitidas por personas no contribuyent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¿Opera para facturas emitidas por operaciones no gravadas y /o exenta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Qué ocurre con el IVA rechazado al comprador y enterado por el emiso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5.3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Facturas que no cumplen requisitos legales o reglamentario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de las factura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 forma: Se desprenden por el mero exame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 fondo: No es posible verificarlos por medio del simple examen. Apuntan a la autenticidad de la oper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4000" y="0"/>
            <a:ext cx="8135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Negación del crédito fiscal, procedimientos y medios de prueba para reestablecer su derecho (Art. 23 N° 5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30686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r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23No.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1981080"/>
            <a:ext cx="380880" cy="3353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220500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220500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Inc. 1°: Establece presunción de negación C.F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2°: Medidas de prevención de rechaz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3°: Medios de prueba ante objeción S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4°: Si se acredita recargo y pago de IVA por vendedor no se aplica Inc. 2° y 3° y no se pierde Créd. Fis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5° Lo dispuesto en inc. 2° y 3° no se aplica en caso participación y conoc. de falseda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260280"/>
            <a:ext cx="8281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Se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incluyen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ntereses y gastos de financiamient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Reajustes y diferencias de cambi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nt. Moratorios exigibles o percibidos anticipadamente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Valor envases y garantías por devolucione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mpuestos: excepto LIVS e Imp. específico combusti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Se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deducen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onificación o descuento coetáneo a la factura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Acciones preventivas para resguardar el derecho a crédito fisc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Pago con cheque nominativo al emisor como titular de la cuenta giradora. (Cheque original o fotoc. autorizada por el banc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Anotación en el dorso del cheque RUT del emisor y N. de la factur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Century Gothic"/>
              </a:rPr>
              <a:t>Procedimientos y medios de prueba para reestablecer derecho a crédito fiscal en caso de objeción por el SII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a. Pago con cheque nominativo al emisor con cuenta corriente del comprador o beneficiario del servicio. (Cheque original o fotoc. autorizada por el banco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. Anotación en el dorso del cheque RUT del emisor y N. de la factu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. Que la cuenta corriente bancaria se encuentra registrada en la contabilidad, (si procede) y que la operación se registró oportunamente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. Cumplimiento de requisitos de form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. Que la operación fue real y efectiv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(Transporte de las mercaderías; ingreso a bodega; anotación en controles de inventario y otros instrumentos de prueb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l procedimiento anterior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n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se aplicará cuando el contribuyente ha tomado conocimiento de las irregularidades o ha participado en los actos conducentes a la falsedad ideológica o material de las factur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773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En caso de facturas sin requisitos legales: facturas no fidedignas o falsas, no será necesario acreditar requisitos de forma y fondo descritas para hacer uso del crédito fiscal, si se acredita que el impuesto ha sido recargado y “pagado efectivamente” en arcas fiscales por el vendedor. (Ley 19.738 D.O. (19.06.01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Determinación del Crédito Fiscal Mensual: (Art. 24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recargado en factur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según comprob. Importacion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según notas de débito recibidas por aumentos del impuesto facturad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68360" y="62064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-) IVA según notas de créditos recibid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Por bonificaciones, descuentos y devoluci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De mercaderías o resciliaciones de servici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Que emisores hayan rebajado de sus débit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Fiscales, conforme a Art. 2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Jurisprudencia Administrativa del S.I.I.</a:t>
            </a:r>
            <a:br>
              <a:rPr sz="3600"/>
            </a:b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Oficios Recomendad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3391/ 88 – 1471/96 – 74/88 – 5730/80 – 1447/79 – 1755/77 – 4175/87 – 1969/90 – 439/77 – 1739/97 – 4825/95 – 5476/7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67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 por operaciones de crédito de dinero. Exentos conforme a N° 10, letra E, Artículo 12 de la LIV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Monto de la variación de U.F. Por operaciones a plazo que ya pagaron el impuesto (saldos de preci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pósitos para garantizar devoluciones de envases de bebidas analcohólicas, jugos, cervezas, aguas minerales, y cilindros o balones de gas licuado de  petróleo (Art. 28 Regl. y Res. Ex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ceptos que se excepcion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Los fletes y embalajes que se cobren coetáneamente con la venta o prestación del servicio, aumentan la base imponible de tales operaciones. Si se cobran separadamente, por si solos constituyen hecho gravado básico de servicio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260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Conceptos relevant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62064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jemplo: Venta de productos afectos a impuestos adicionales al IV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peración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B. Imp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Impt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- Venta bebidas alcohólica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2.000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     IVA e IAB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- Fletes y embalaje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1.000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IVA       “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Jurisprudencia Administrativa del S.I.I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492280"/>
            <a:ext cx="71625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ficios Recomendad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567/97 – 191/95 -  3136/97 – 16/92 – 4268/84 – 2564/81 – 4333/91 – 2007/96 – 1051/9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DEBITO FISC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ébito Fiscal: Suma del IVA recargado en las ventas y servicios en un período tributar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ontribuyentes tendrán derecho a rebajar el débito fiscal contra el crédito fiscal del mismo perío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ase imponible * 19% = Débito Fisc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n la última etapa de circulación, el consumidor final soporta la totalidad del débito fisc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06:21Z</dcterms:created>
  <dc:creator>Claro y Cia.</dc:creator>
  <dc:description/>
  <dc:language>en-US</dc:language>
  <cp:lastModifiedBy>.</cp:lastModifiedBy>
  <dcterms:modified xsi:type="dcterms:W3CDTF">2007-04-25T14:29:37Z</dcterms:modified>
  <cp:revision>393</cp:revision>
  <dc:subject/>
  <dc:title>UNIVERSIDAD CATOLICA DE CHILE DIPLOMADO EN GESTION TRIBUTARIA </dc:title>
</cp:coreProperties>
</file>