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07B-B461-411B-A9E0-3EA8AF89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BED-0FB7-4F2B-81E4-736F7605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05E-5D96-46C5-BED6-99A3E63D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0D3-9141-432C-9DB3-FFBE1247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8A6C-C8AD-450E-8783-87944451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21C5-9FF3-4907-8842-0808C2FE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13D2-9B73-44CF-B821-4F39BF3F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A617-2BC5-41DF-A059-B9F9B89C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E62B-4630-4BEA-8A9F-B85B756B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5989-94A9-4FA6-AB92-2D23A7C6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6297-0187-47DB-96CE-2CD5894F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9FB-5688-499B-9A4F-AB86F567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DA2E-C3D0-4DE1-8C10-C538AF22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01C9-3872-47B0-8405-E9E06FD4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C495-172E-4E44-8BEE-003D14E8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2C5B-1CA6-4243-9A12-2F72C62C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3909-409D-4650-AC97-0DA37043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831-EBBD-4EAC-8849-76589764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03C-5EB1-4C7B-BF19-474F0E52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A39-CE0A-4D42-8D96-1949D754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32F-F7EE-46F3-BEBE-1F5FAE3C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67B-E2E9-4ED2-9F76-CA7F4753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59A-A04C-46CA-A694-8B32BF9B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6D3-1575-4192-A7AC-5144116B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39F9-43CA-4E51-A2AA-B885E2E40B7D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9743-DD16-4E34-B2CE-E22B4EF337CE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4280" y="574200"/>
            <a:ext cx="67816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0066"/>
                </a:solidFill>
                <a:latin typeface="Century Gothic"/>
              </a:rPr>
              <a:t>DEVENGAMIENTO DEL IV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Sit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78136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6668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misma que realiza el consignata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724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Remuneración que cobra el consignat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s ventas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efectuadas por 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se encuentra afecta a IVA siempre que recaiga sobre bienes del giro (activo realizable) del mandante (“vended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 IVA por el monto total: ES EL 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 remuneración d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 consignatario o comisionista es contribuyentes con rentas clasificadas en Nos. 3 ó 4 art. 20 Ley Renta: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ase imponible: comisión o remune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No se aplica al trabajador dependiente, profesionales, ni otros que presten servicios sin emplear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B.- Anticipos a cuenta del 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recio de ven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Modalidad venta en que se obtienen anticipos del valor de las especies ven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entrega y factura en e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l precio vigente época ent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nticipos no se encuentran afectos a 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0066"/>
                </a:solidFill>
                <a:latin typeface="Century Gothic"/>
              </a:rPr>
              <a:t>relativos a Inmuebles 2.- Normas especiales – Contratos</a:t>
            </a:r>
            <a:r>
              <a:rPr b="1" lang="es-MX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20574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emitirse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 la respectiva FA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instalación o confección de especialidades a suma alzada o por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ventas o promesas de ventas de Inmue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 de inmuebles con opción de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3120" y="31392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PERCIBIR 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el precio del contrato o parte de é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por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confección o instalación de especi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promesas de ventas de inmue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s de inmuebles con opción de comp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 las ventas de inmueb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606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Percibir todo o parte d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234936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220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205000"/>
            <a:ext cx="1871640" cy="2552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ocurra pri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Oportunidad de emisión facturas en otras transferencias de inmuebl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6291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Apor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Trans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Reti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Ventas de univers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057400"/>
            <a:ext cx="216000" cy="174132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2421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Que comprendan inmue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8006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16000" cy="190476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16200" y="11250"/>
                  <a:pt x="21600" y="11250"/>
                </a:cubicBezTo>
                <a:cubicBezTo>
                  <a:pt x="162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4648320"/>
            <a:ext cx="144792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3.- Norma General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 en servici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2588760"/>
            <a:ext cx="5991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. Fecha emisión factura o boleta,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.- Fecha remuneración se percibe o pone a disposición del prestador de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2708280"/>
            <a:ext cx="1656000" cy="119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ocurra 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32720" y="2276640"/>
            <a:ext cx="215640" cy="1741320"/>
          </a:xfrm>
          <a:custGeom>
            <a:avLst/>
            <a:gdLst>
              <a:gd name="textAreaLeft" fmla="*/ 0 w 215640"/>
              <a:gd name="textAreaRight" fmla="*/ 77760 w 21564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ón anticipos percibidos antes de la prestación del servic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I: basta que se perciba aunque el servicio no se hubiera prestado (factura por el monto percib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TRIBUNALES SUPERIORES JUST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sencial que se verifique la pr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oleta debe emitirse cuando se haya realizado el servicio y sea pa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</a:t>
            </a: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956960"/>
            <a:ext cx="79549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Momento en que concurren todos los elementos del HECHO GRAV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ISCO adquiere desde ese mo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ítulo o derecho sobre el monto de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independiente de su exig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5300640"/>
            <a:ext cx="7619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SE DEVENGA EL IMPUESTO CUANDO OCU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L HECHO QUE DA NACIMIENTO A LA OBLIG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4.- Prestación de servic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540720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érmino período fijado para su p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echa emisión factura o bo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cepción o puesta a dis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2276640"/>
            <a:ext cx="1584360" cy="157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5229360"/>
            <a:ext cx="8064360" cy="140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s periódicos: aquellos que se pres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orma permanente, regular o continua, el cobr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ago se efectúa en forma periódica, determin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uministros y servicio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omiciliar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vengamiento al término de cada período fijado para el pago del precio, independiente de su pago o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ergía eléc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servicios telef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gua po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lcantaril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5.-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2174760"/>
            <a:ext cx="8064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ículo 9 letra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 devenga impuesto al consum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egalmente la importació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 tramitarse totalmente la impor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373720"/>
            <a:ext cx="792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uando mercancías quedan a disposición del interesado para su libre circulación en el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6.- Retiros de mercaderí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70200"/>
            <a:ext cx="777240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l ret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respectivo; oportunidad en que deben ser contab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retiros para uso personal socio, dueño, empleado o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faltantes de inv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bienes corporales muebles destinados a rifas y sorteos con fines    promo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tregas de bienes gratuitamente con mismos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7.- IVA por intereses en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compraventa a Plaz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9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ntereses o reajustes por saldo impago de ventas a plazo devengan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hacerse exi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percib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3581280"/>
            <a:ext cx="144468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2578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54100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n exigibles al vencimiento de la respectiva cuota, letra u otro documento que lo contenga, en todo o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iferencias de camb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riginadas en ventas a plazo de bi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corporales muebles: se incluyen en el concepto de reaju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rman parte de la base imponible cuando proc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ajustes equivalentes a la variación de la UF no se encuentran afectos a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691920"/>
            <a:ext cx="678168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330066"/>
                </a:solidFill>
                <a:latin typeface="Century Gothic"/>
              </a:rPr>
              <a:t>SUJETO DEL IMPUESTO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1.- Regla general sobre el sujeto pasiv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0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30891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4648320"/>
            <a:ext cx="626436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PRESTADOR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276720"/>
            <a:ext cx="44956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) Al realizar “ventas” de bienes de su pr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producción o adquiridos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) Al realizar cualquiera de las operaciones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la ley equipara a v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stador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a) al realizar hecho gravado básico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b) al realizar hecho gravado especial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858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dquirientes de bienes corporales muebles o servicios cuando el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Century Gothic"/>
              </a:rPr>
              <a:t>SII CAMBIA EL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s adquirientes de bienes corp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muebles cuando lo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entury Gothic"/>
              </a:rPr>
              <a:t>vendedores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no tienen domicilio ni residencia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s de devengamien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venta b.c. Mue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bienes corporales inmue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 : servicios periód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m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ret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ntereses sald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eneficiarios del Servicio cuando persona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realiza la prestación reside en el  extran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misionistas, consignatarios, martilleros y toda persona que compra o venda habitualmente bienes corporales muebles por cuenta de terceros vendedores – sujetos del impuesto por la comisión o remun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2.- Aplicación de RG a caso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8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22 Regl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)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6800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17880" y="339408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5320" y="2916360"/>
            <a:ext cx="3045960" cy="947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mpor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a habitual o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9640" y="1700280"/>
            <a:ext cx="2629080" cy="340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ersona que int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duce legalment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mercad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xtran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ara su uso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n el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) Ventas realizadas por personas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sin residencia en Chil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50036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971800"/>
            <a:ext cx="24382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ujeto Pa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PR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ADQUI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2438280"/>
            <a:ext cx="457200" cy="3654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95040 h 3654720"/>
              <a:gd name="textAreaBottom" fmla="*/ 3559680 h 365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205000"/>
            <a:ext cx="304812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i el vende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 tiene resi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n Chile (aun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nserve el domic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c) Adjudicacio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1981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 bienes corporales muebles del giro en liquidaciones de soc. o 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2971800"/>
            <a:ext cx="220968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3933720"/>
            <a:ext cx="34578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o comuneros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LID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RESPON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tributo por la c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que les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) Aport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2819520"/>
            <a:ext cx="2808360" cy="240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124080"/>
            <a:ext cx="144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l Trib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) Servicios prestador por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ersonas no residentes en Chi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46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819520"/>
            <a:ext cx="2210040" cy="29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BENEFIC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205000"/>
            <a:ext cx="2217600" cy="32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restado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resid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x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f) Contratos grales. Construcción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y Conf. e instal. especialidad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7926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1 Letra 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971800"/>
            <a:ext cx="2743200" cy="278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g) Transferencias recíprocas de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domini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792080"/>
            <a:ext cx="32749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74320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m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3657600"/>
            <a:ext cx="26668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tras conv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 transferencia mut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2438280"/>
            <a:ext cx="457200" cy="243864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2819520"/>
            <a:ext cx="25905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DA P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 SUJETO PASIVO DE LAS ESPECIES QUE TRANSF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181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5791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26672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5257800"/>
            <a:ext cx="761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4952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manz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h) Operaciones realizadas por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comisionistas y otro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54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rt. 22  Reglam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895480"/>
            <a:ext cx="2210040" cy="10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signa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till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29718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ón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mu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4727880"/>
            <a:ext cx="221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45720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nto tota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1.- 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9 letra a)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emisión boleta o factura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de entrega real o simbólica de las especies cuando por naturaleza del acto que da origen a la transferencia no se emita boleta o fa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3.- Cambios de Sujeto Pasivo del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Impues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ey faculta al SII para cambiar al sujeto pasivo (art.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657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19608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sladando la obl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comprador o 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ambio del Sujeto Pasivo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acultas del SII es Discrecional (juicio exclusi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mposición a determinados vendedores la carga de retener y pagar el IVA que sus propios adquirentes deban recargar por las ventas o servicios que presten a terc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l notificarse resolución: Obligación Tributaria: entre el Estado y el compr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80960" y="2247480"/>
            <a:ext cx="7266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Devengamiento queda supeditado a dos hech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misión de boleta o fa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ntrega real o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522936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bviamente: para que se devengue el tributo, deben concurrir todos los elementos del HECHO GRA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8120" y="198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</a:rPr>
              <a:t>Emisión de Documento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 que deben emitirse las BO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 el momento de la entrega real o simbólica de las e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echa en que deben emitirse las FAC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mismo momento de entrega real o simbólica de las especies; o A MAS TA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hasta el 5° día posterior al término del mes en que se realizaron las ventas, indicándose la fecha en que se efectúo venta; habiendo emitido GUIA DE DESPA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treg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Entrega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- vendedor permite al comprador la aprehensión material de la e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trega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vendedor entrega las llaves del l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transfiere el bien a una persona que ya lo tiene por cualquier título no traslaticio de domi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ponen especies a disposición del intere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one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incluyen dentro de las normas generales sobre devengamiento de IVA en venta de bienes corporales mue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.- Entregas en consig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b.- Anticipos a cuenta de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6 Reglamento: no se devenga el IVA mientras el consignatario no venda las mercaderías afectas a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licable a ventas realizadas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signa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martill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oda persona que realice compras o ventas por cuenta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50:56Z</dcterms:created>
  <dc:creator>Claro y Cia.</dc:creator>
  <dc:description/>
  <dc:language>en-US</dc:language>
  <cp:lastModifiedBy>.</cp:lastModifiedBy>
  <dcterms:modified xsi:type="dcterms:W3CDTF">2007-04-12T15:40:18Z</dcterms:modified>
  <cp:revision>283</cp:revision>
  <dc:subject/>
  <dc:title>DEVENGAMIENTO DEL IVA</dc:title>
</cp:coreProperties>
</file>