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66B-4C02-4D79-ACD1-060E94AF83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AED0-B422-478D-80BA-56F1162B3F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1400" y="41760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FC4-2DD8-43E5-84E9-C43C6DBE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12A-21C9-4E27-8580-87678DE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09E-6CF9-4AF2-9717-CCC1FC46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439-7677-4662-94B0-FFEA760E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F4A-8089-4DC7-AD11-E0AA5D8B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CAE-888F-40CD-9065-4038B3F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794-1500-4980-B3A6-AA0A4FC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632-2C8E-4F43-9C0A-8FA2CED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E52E-6624-48DC-AB35-B627EEC9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D1F3-520B-47F9-B003-1269F32B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25AF-A2A3-4633-B9B9-093C96F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A67-D07F-4E18-8BC6-A8A245B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5D9C-B645-43D7-A27A-E1A75E0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701D-1D65-468D-BC10-555E13F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1B5F-0791-4ACA-B1C6-7BFDE01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46B2-9FCD-43F0-A352-6E00B6DD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D2E-59F9-4B67-9B57-B5C251C2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931-E0AF-4E11-9AAA-1DC2F289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3A-653C-48BD-8ECF-D02AF65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28C-6AFF-4F90-88AA-2E12535D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5F1-9D70-4ADE-ABFD-F60536C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D76-19E4-4C24-BE9C-B4650A4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796-7A6C-403D-A069-EBE0B00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5AC-9B13-4BA6-B90B-21F2998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053-C5DD-43E1-AEE0-88CB0D4891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515-8A17-46FF-B60C-ADE2D9689B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Tahoma"/>
              </a:rPr>
              <a:t>Derecho Tributario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28760" y="4876920"/>
            <a:ext cx="6486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6680" y="2438280"/>
            <a:ext cx="413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99C-2EBF-43A7-A5D0-6B76AA263B6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60EE5-B9BB-492D-B724-2BF98ABE3EE5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4941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421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4365720"/>
            <a:ext cx="64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157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976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49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2760" y="414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869000"/>
            <a:ext cx="67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ahoma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Rodrigo Rojas P.</cp:lastModifiedBy>
  <dcterms:modified xsi:type="dcterms:W3CDTF">2008-03-31T21:31:25Z</dcterms:modified>
  <cp:revision>621</cp:revision>
  <dc:subject/>
  <dc:title>II. LEY DEL IMPUESTO AL VALOR AGREGADO (IVA)  Aspectos teóricos del Impuesto al  Valor Agregado Estructura General de la Ley</dc:title>
</cp:coreProperties>
</file>