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2ADC-827F-4C8F-B2B4-CAC563776F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5C58-7CB0-476D-8FB4-5485F83BA6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1400" y="41760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207-ED68-4E06-8FFE-AC7140A4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0CD-FF23-43DA-97E4-9E14E20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44E-9CEF-4D74-9EF2-D05201E5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381-B4B1-461D-9D47-B6B295EC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B900-E54F-4EDF-A31F-A05D67E1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F354-6AED-45D9-B95A-83D1437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A2B0-2940-4949-8FF8-368739F3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1FCB-5034-42E3-AC86-D0344BA0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C41B-A57D-4532-AF52-91BA803E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81C0-1A75-43E4-955A-76CCDEBC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C615-DC26-4601-B52A-809C1EE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CB0-6796-44B2-93FE-A89FAD41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3DDE-FE8D-4E3F-BFCD-2018119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F003-FBAD-4C3E-8ED0-6FB7ADA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16A8-E48D-4DC7-8B71-88E6CC0F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F00-48A4-4832-8E6F-359B13FD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6516-8AA3-4F36-A37E-9D23D923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D73-0259-452F-A207-C8B15872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130-05B2-47D4-8A07-A4E629AA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D71-2A15-4258-9AA0-1D4053DC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03E-A854-4FE4-B16E-E5222725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566-8AF0-4EE5-916B-2BE044D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809-9702-4BC5-80AC-A33C6B72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FA4-98FD-465F-B721-D345B058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1109-C8C7-4F1D-A9ED-806B3385E2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39A6-1424-465F-851F-F7F40EBF0B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aeaea"/>
                </a:solidFill>
                <a:latin typeface="Tahoma"/>
              </a:rPr>
              <a:t>Derecho Tributario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28760" y="4876920"/>
            <a:ext cx="6486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imer Semestr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506680" y="2438280"/>
            <a:ext cx="413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DCC-8E65-453C-AA0A-A6A266C9E29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A02EC-9468-4A5C-9CBE-7B751247626A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49417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072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421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4080" y="4365720"/>
            <a:ext cx="64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5157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0976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249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2760" y="4149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4869000"/>
            <a:ext cx="67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ahoma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Rodrigo Rojas P.</cp:lastModifiedBy>
  <dcterms:modified xsi:type="dcterms:W3CDTF">2008-03-31T21:31:25Z</dcterms:modified>
  <cp:revision>621</cp:revision>
  <dc:subject/>
  <dc:title>II. LEY DEL IMPUESTO AL VALOR AGREGADO (IVA)  Aspectos teóricos del Impuesto al  Valor Agregado Estructura General de la Ley</dc:title>
</cp:coreProperties>
</file>