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E97B-D3F5-40FF-A05D-9B0B5EB64D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857F-7815-4FC4-A787-47F69CA432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1400" y="41760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A8C-3335-4E5B-8EAB-AF3AD94D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066-95D1-47AB-8772-53980CF0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406-B0A3-46E8-B20A-2B867AE7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C1B-B2DC-4976-AB8E-9FE7A9C8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7B83-801D-422A-A046-F8965FB1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B9CB-6602-46E5-940F-5C528910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58F6-51C3-4386-8AB5-FA1D7164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750F-4602-49F9-B253-0BD1DF80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59BF-61CA-4859-AAAD-73FD9325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9725-00A8-4BAC-892B-445F6A69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3D0E-B2E1-41B5-86A0-8FAB6EAC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895-F346-4E9D-BE46-34DC497C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43CB-7D5B-4BCE-8159-8B96A64C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D997-E0CC-4C47-8C5A-FB687757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52BF-0469-40A9-9E1D-A0FBD83E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9CBF-4B5F-4532-90EA-BA4C5B87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DA01-0C00-4046-978D-17021192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456-A7FF-47A7-B367-06E75ACE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0CA-B2D2-45BC-A2B2-8BFAB501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38F-B370-4B72-8558-F47F9986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532-B971-498D-B25C-1B68D01E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8B7-6390-4D91-9E6E-8E8849A7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E0A-AE82-429A-AA6E-2C3D43A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2B9-D9A7-4AB8-97A4-66134992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34F7-6E86-4EAD-896B-9934884E8A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46E0-3CE0-4BD2-BF04-81599C3CBD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eaeaea"/>
                </a:solidFill>
                <a:latin typeface="Tahoma"/>
              </a:rPr>
              <a:t>Derecho Tributario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28760" y="4876920"/>
            <a:ext cx="6486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imer Semestr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506680" y="2438280"/>
            <a:ext cx="413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8B2-8411-467A-8503-5C008F8228F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73829-7C20-4072-A7E8-049A1D4646BA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03280" y="49417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9072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421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4080" y="4365720"/>
            <a:ext cx="64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51577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0976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249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2760" y="4149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4869000"/>
            <a:ext cx="67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ahoma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Rodrigo Rojas P.</cp:lastModifiedBy>
  <dcterms:modified xsi:type="dcterms:W3CDTF">2008-03-31T21:31:25Z</dcterms:modified>
  <cp:revision>621</cp:revision>
  <dc:subject/>
  <dc:title>II. LEY DEL IMPUESTO AL VALOR AGREGADO (IVA)  Aspectos teóricos del Impuesto al  Valor Agregado Estructura General de la Ley</dc:title>
</cp:coreProperties>
</file>