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9AE-03DF-4E76-8647-E3C1AD64E3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C30-6982-4B41-AB9D-9A0E704CF2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1400" y="41760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1C3-B347-4982-9F9A-161BDF6E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BD2-E639-47C3-819B-F050CEC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5D0-4CAA-4594-B39F-9E66A94B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82D-8991-4A77-AE2C-544BB4E3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368C-9B58-4674-8E3F-9B8FA98A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34E2-A26F-49F7-9A34-23683964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8A83-160D-4017-85DA-0DEDF20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E74-9AF4-49B4-B3B7-7F0F6CF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43E8-B5B6-4D11-A98E-D90F75B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E2C4-76FF-48B6-95AD-D85D443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0DE-E412-4E06-86DF-AE15F64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0FB-D758-43CC-ABCD-0327C7F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1FD9-CABA-4809-BAC5-F995A52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04C-EC77-48AE-A7A4-911E7106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572-6A75-45E2-90C9-CE96E90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AC06-02A2-40F6-A3F9-089572C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1B89-54B4-415F-9770-66429D9C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1BF-6004-4AAC-9583-9DD59F9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90E-48FE-4FD2-AD70-6D0F41A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26B-BF83-4F99-AA89-F0587E34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976-D278-4AA3-9AF3-8BA8546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EFF-D7B7-4E77-A752-527F034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C8-8557-454E-AE59-209B811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D9C-5DB9-45DB-80CF-3ABA71D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9AD5-FD16-43D1-A20D-8FB9F7FF0A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7D6-3AC5-4643-8540-BB6B22D70D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Tahoma"/>
              </a:rPr>
              <a:t>Derecho Tributario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28760" y="4876920"/>
            <a:ext cx="6486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imer Semestr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6680" y="2438280"/>
            <a:ext cx="413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006-E283-4626-8F16-8ABC9886A3D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D0397-0DF4-47D3-9BA4-2B4EFEC03937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49417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421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4365720"/>
            <a:ext cx="64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5157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976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49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2760" y="414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869000"/>
            <a:ext cx="67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ahoma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Rodrigo Rojas P.</cp:lastModifiedBy>
  <dcterms:modified xsi:type="dcterms:W3CDTF">2008-03-31T21:31:25Z</dcterms:modified>
  <cp:revision>621</cp:revision>
  <dc:subject/>
  <dc:title>II. LEY DEL IMPUESTO AL VALOR AGREGADO (IVA)  Aspectos teóricos del Impuesto al  Valor Agregado Estructura General de la Ley</dc:title>
</cp:coreProperties>
</file>