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B0C-5E93-4A31-BAAE-546543D7ED07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DB0-C5D5-4FCA-B3CE-40B4C9670F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A6B-9906-4949-8C23-054C386283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5460-72B6-4F19-B3E8-9DC881FF82C2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B84-2317-40DA-A5AB-B8B6281D1A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856-A65A-475C-9B05-A538B065543F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A51B-D95E-42E4-96E7-EFBA10F62A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0743-988D-41F5-8CD6-EEDB3EFE50BE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69A-AA45-4478-8203-3B786FE8B6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55E3-CEB9-4D08-9E29-E89D3D59CBA3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E51-32D4-4165-A9A5-A452A1F339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31E-8BFD-489B-A607-49FEE619DD07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34D-76BB-47E7-9D92-FE84C6BD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AB0-BA2E-4BC1-99E9-622C8FB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3B3-89AC-4D9A-BD55-B5C51BBB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ABC-BE79-45B5-8565-DF419C2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42C-5419-4D50-BFD6-A3B2B3A7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298F-40D0-4D3D-85F3-7AD0BDFD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5DBF-3432-435E-807B-CECB6BC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131-A180-421D-9F19-1CDCB74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8068-5623-403C-9DBB-0B5FEA1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3535-B602-4AF0-B238-2AEB6A5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2BA8-42B2-4E71-B71D-12197F6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7CB-DE9F-403E-A2B2-D8CC6EBF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DDCD-04A8-4C35-85F0-570FB32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4015-7E72-4662-B162-F793D12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1D26-90B1-4D9A-8D1C-D67B6BF0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C9D-33F3-478E-B962-123E2669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CDF-FD60-4A21-8F5D-DB638A0A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7F8-2875-44E1-8222-DF39E51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790-5627-4563-9057-4B33F4B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FF9-984F-4EDF-8CA3-481597A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C12-F6D4-4032-8273-92FB9012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817-EE72-4721-9D24-DF9C29E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537-D867-4800-87D0-912F36C5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56D-4472-45B0-AAF5-F0BCD18E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20A-AFC6-4E9B-B8E5-2FCA95224873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DF3-4101-42CB-A15B-D8BC716F10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AE60-2650-487A-A132-15DE729ED0CE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F30A-9B0A-463E-AFEF-CC790CFE4C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003-6402-47BC-ABDA-099C1139B2D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3EE1A-DAF5-4447-BABC-4BC38610A371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207-39D7-4B86-8DEB-011E377F37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542D0-8586-4982-BFAF-4F795A75AA71}" type="datetime1">
              <a:rPr lang="en-US"/>
              <a:t>07/31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94E-84D0-4581-BE81-B7E8073821A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E6938-AA0C-4293-8DDE-1F0CC0B743DB}" type="datetime1">
              <a:rPr lang="en-US"/>
              <a:t>07/31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C14-FB9B-45FF-B802-5150D20309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0ACAC-33F7-4CB8-8C4B-704080E0A721}" type="datetime1">
              <a:rPr lang="en-US"/>
              <a:t>07/31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E36-A723-47AF-88BA-C26569B9D95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0DA83-A84E-471C-BB4C-79FC83EA36D7}" type="datetime1">
              <a:rPr lang="en-US"/>
              <a:t>07/31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79D-E427-4E22-A07F-35926668D3B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178C2-C534-45E7-9650-02FD41E1CAE3}" type="datetime1">
              <a:rPr lang="en-US"/>
              <a:t>07/31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C51-3817-4FCB-BF75-EBBB73F2D7F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9EEE5-AA09-4BF2-AA73-85635EC14D6C}" type="datetime1">
              <a:rPr lang="en-US"/>
              <a:t>07/31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D0C-58DB-41D9-9A07-3E34407FE43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9D764-642A-4C2E-9DEF-782C249AF11C}" type="datetime1">
              <a:rPr lang="en-US"/>
              <a:t>07/31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EEA-6A51-4139-A139-F03FE562488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D9EEA-4588-4BB3-9F68-F98EEC052C0B}" type="datetime1">
              <a:rPr lang="en-US"/>
              <a:t>07/31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A90-F5B4-4251-A2EC-A62E6FFF66B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2ED1-6BDC-4BEA-B313-3CB040099BF1}" type="datetime1">
              <a:rPr lang="en-US"/>
              <a:t>07/31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972-AEFF-43CD-8065-E3B7B919E37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FC9AA-3157-4006-B0EB-8F3D302AAB90}" type="datetime1">
              <a:rPr lang="en-US"/>
              <a:t>07/31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80E-FE75-413D-85D3-60586A0C815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4A06D-0156-4473-8518-D28A2C8DA0C4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F74-A5F7-4C43-9960-74FFA61FE17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0ADE5-28DB-4D61-973F-FA108195E5FF}" type="datetime1">
              <a:rPr lang="en-US"/>
              <a:t>07/31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573-9059-47E0-B670-2F8A62E32A5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E7011-B61E-438C-91F7-63DE6EBDD295}" type="datetime1">
              <a:rPr lang="en-US"/>
              <a:t>07/31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D34-0DC0-440B-9FBB-09FFCC51B0A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11D33-F92D-42A9-A081-E185DEC26042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6FF-0E79-4BBF-A3AD-59F4F50A09C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1AC94-41D1-4F07-B6C7-4C4DE896D94A}" type="datetime1">
              <a:rPr lang="en-US"/>
              <a:t>07/31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09A-CDC8-4DF3-B802-4FE6BD22AA1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EE4F6-EFA2-45E4-9A67-F62401220668}" type="datetime1">
              <a:rPr lang="en-US"/>
              <a:t>07/31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044-44EF-435C-96D2-195B27AB321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B394E-1CB7-4FB8-99B4-59A0826D28A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993-0678-4815-A6AF-B7E5F6E444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771E9-C1B9-4ED1-A865-04364449205D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52D-153D-4DF3-A111-56E779A890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EF475-74DC-417F-8F06-9F00E62FE703}" type="datetime1">
              <a:rPr lang="en-US"/>
              <a:t>07/31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B35-6BCE-49EC-80BF-5B00CDF636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706B2-AFF8-4310-BB8B-C8330D903032}" type="datetime1">
              <a:rPr lang="en-US"/>
              <a:t>07/31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438-972B-4AF4-B5E4-4AA4E6657ED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6FAC1-B23B-461F-AF37-2138D53BF1D2}" type="datetime1">
              <a:rPr lang="en-US"/>
              <a:t>07/31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A0B-E9FC-4763-BF79-AF1B1EBCC01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98785-A1A6-4BC3-8B83-BC405A2E53D7}" type="datetime1">
              <a:rPr lang="en-US"/>
              <a:t>07/31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EAF-580F-4764-AC97-D914A356C6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FC99E-50A6-4461-86E2-7C7D5DBBC0C2}" type="datetime1">
              <a:rPr lang="en-US"/>
              <a:t>07/31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Rodrigo Rojas P.</cp:lastModifiedBy>
  <cp:lastPrinted>1999-12-01T16:13:34Z</cp:lastPrinted>
  <dcterms:modified xsi:type="dcterms:W3CDTF">2008-03-07T19:29:44Z</dcterms:modified>
  <cp:revision>181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