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DB7-C1D8-4EC4-960F-B06A1C3AC0C3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EC19-7198-4B5A-9A81-F5D777E270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AF2-12C3-4588-B735-1C1DFE445A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6BA9-839D-4AD0-A966-3F81E3914E08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E51-5168-4296-B7A2-63C5A3AE1E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9AB6-9079-45F3-96BC-31CF16652A00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C4E7-9739-47CC-81CF-CC421E3371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7EA-C0EA-49D5-A22E-9D3869AA2591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CFC-75F9-4FE0-B005-4E38C26B0A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5F7E-91BD-4860-9D6C-6BFB71E12855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EC39-325E-4C3F-B4C7-4F5CA1D735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0C79-2255-47C8-B871-17E1D8C86145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446-BA1F-4B88-BBDE-78643D39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DEA-885B-46D1-8F90-D2085C84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FB8-E09E-4F4B-88F2-A2CF33E6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751-C292-4AAE-B81F-80761529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C11-F490-46E9-9D28-E23E55DD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6525-BCA9-45E0-9895-900458A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252F-BB6E-4F54-A585-62E7434A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DF84-B5C0-45E2-B33F-EF386135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F63D-6220-4731-82CC-AA9BB81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5749-2B5D-487D-9E80-B7B52A5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127B-7A14-4074-A875-808D279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BCD-7B9B-45E4-8823-2927DC8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B029-F17F-4233-8699-2C705BC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F67-34A3-4A11-B8F4-9535EE4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4419-AF3B-4B14-BCB8-E52B98DF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7FF-E136-4CCA-92A2-37F70A97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22BB-E85A-43E6-9DDB-728C0E77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2EC-07BD-4EC1-B36A-98D8E5B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49B-F728-4204-A340-8E3C9963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D26-3583-4048-A1D2-04986CB6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A56-0A38-49C5-8C54-014861D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C90-2BFE-44D6-8494-9627129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47-8ACB-45A5-8450-DA2ACF0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8AE-1841-4777-9261-5459103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F9F-B8B6-4EBC-BF0A-692451C56BA3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A1F6-3CAB-4D8E-ACE9-F6CD73BBEF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818-5D99-4C55-8500-E9F0C87A40DF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873C-D261-4021-A6D1-100880060F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9A3-49DA-4398-A8BB-21F2D2E52E7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AD27A-E8D0-4F51-B248-1BFD1206216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3C7-594E-475E-A344-6174E9B8AB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2486C-E69B-47DB-B649-33870A3E941B}" type="datetime1">
              <a:rPr lang="en-US"/>
              <a:t>07/31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1D0-75FE-41F0-B3FC-F9571FD4101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1158-9E0F-4D32-A45A-C9A95D94DA80}" type="datetime1">
              <a:rPr lang="en-US"/>
              <a:t>07/31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7BF-A5AC-4B46-B316-631931AF1F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0454A-2D07-453B-976F-A75E51946F8D}" type="datetime1">
              <a:rPr lang="en-US"/>
              <a:t>07/31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577-17F0-492B-A883-267467ACD49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68639-71A9-44A5-9A0A-51E40B419D19}" type="datetime1">
              <a:rPr lang="en-US"/>
              <a:t>07/31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B25-706B-4197-A886-C24AC95E848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38E11-75C6-41CE-A740-837E2D00F051}" type="datetime1">
              <a:rPr lang="en-US"/>
              <a:t>07/31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DBB-C93B-45E1-9A71-9EFB128C15F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78DFE-6306-4B59-8C81-42568DED33F8}" type="datetime1">
              <a:rPr lang="en-US"/>
              <a:t>07/31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428-993F-4DC0-8358-6B1ED16C933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0B5E1-7CA6-41A4-8DF3-CC8617B736A0}" type="datetime1">
              <a:rPr lang="en-US"/>
              <a:t>07/31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CFA-2DE6-48C6-AF10-6EDA3257D9E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CC647-E555-4103-9192-665EB4B2BB46}" type="datetime1">
              <a:rPr lang="en-US"/>
              <a:t>07/31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8D8-B138-4ED4-A334-7610B438DA9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F42F7-BF81-489D-9351-5A93209353D6}" type="datetime1">
              <a:rPr lang="en-US"/>
              <a:t>07/31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D0B-6C4A-46B7-AE2B-75E592547C3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2A9ED-4AC0-4451-BECF-20F5E8A54AD0}" type="datetime1">
              <a:rPr lang="en-US"/>
              <a:t>07/31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862-7F54-4379-B580-1CB362D0CA4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BE3EF-F42D-4120-8A9D-9093EA7FEDFF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641-52EF-49D6-B122-4D416D319CB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C459C-8A1D-4612-8D6D-0FAEDE921D9B}" type="datetime1">
              <a:rPr lang="en-US"/>
              <a:t>07/31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FC5-2ADA-4644-9568-FF12470A9C9E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FE79-9321-4D80-B96D-27BC24D680E6}" type="datetime1">
              <a:rPr lang="en-US"/>
              <a:t>07/31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CA4-89C4-41C0-9C14-6EBD9C7EF52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4442C-82A0-445A-9282-477888D83D45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7E4-B4B0-421C-9CEE-59E60FEBAC8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86E2E-BF75-40EA-9CD7-BD733CEE1AC1}" type="datetime1">
              <a:rPr lang="en-US"/>
              <a:t>07/31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5CA-EF96-494A-AECB-0B035103FEE7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69BF0-3D17-4F2B-AB12-1E9E3CCD24EF}" type="datetime1">
              <a:rPr lang="en-US"/>
              <a:t>07/31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FEE-C7B7-4BAB-8F0F-DCBAC9B2A00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02649-6A3B-4E90-A235-9FF50BD206DB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9C3-0855-4A2D-947C-F9676B0816F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EFE2C-4364-4E71-B5B2-3EE552F71AF8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60D-5F3B-4B98-881E-2A64C8BF8F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AB84C-0D08-4F07-BDFC-52E822389C1E}" type="datetime1">
              <a:rPr lang="en-US"/>
              <a:t>07/31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911-9BBF-4A24-B409-25C74E2ED6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C0266-2732-4220-A743-79F2085451A2}" type="datetime1">
              <a:rPr lang="en-US"/>
              <a:t>07/31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9F7-F787-4612-B300-E45275323E7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EFEAA-DF27-4577-92C0-BBA24288302F}" type="datetime1">
              <a:rPr lang="en-US"/>
              <a:t>07/31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4EB-D711-47B6-A354-BBB104EA687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DA31A-4886-4518-9199-BE7837B85838}" type="datetime1">
              <a:rPr lang="en-US"/>
              <a:t>07/31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1D2-77A6-463F-84DF-659C526875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EB312-3BFB-45B9-AE4F-B458EB2BDD71}" type="datetime1">
              <a:rPr lang="en-US"/>
              <a:t>07/31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Rodrigo Rojas P.</cp:lastModifiedBy>
  <cp:lastPrinted>1999-12-01T16:13:34Z</cp:lastPrinted>
  <dcterms:modified xsi:type="dcterms:W3CDTF">2008-03-07T19:29:44Z</dcterms:modified>
  <cp:revision>181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