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10288588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C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7365-B02A-4C28-BF2C-F1719872CAD1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9"/>
          </p:nvPr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2A73-CA96-4C43-B8EA-3F44C19C7AF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Img"/>
          </p:nvPr>
        </p:nvSpPr>
        <p:spPr>
          <a:xfrm>
            <a:off x="637920" y="415440"/>
            <a:ext cx="5584680" cy="37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body"/>
          </p:nvPr>
        </p:nvSpPr>
        <p:spPr>
          <a:xfrm>
            <a:off x="685800" y="4331160"/>
            <a:ext cx="548604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8ED4-BC63-4061-A02B-46E8B85DDB0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90E5-89F2-46AA-B8A5-EED255FE7A90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66880" y="684360"/>
            <a:ext cx="5126040" cy="3417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D8F3-2A73-4A27-98C6-1DA60AFB461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98E6-9873-4CB3-A14B-56301A8AC78F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66880" y="684360"/>
            <a:ext cx="5126040" cy="34178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4E23-1EA2-4C90-A9F3-C43F9C15112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1DDE-A0F8-48DE-B12D-A73D4E1A4B1A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66880" y="684360"/>
            <a:ext cx="5126040" cy="34178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EDCB-5960-45B8-8ECD-4EC45A76F91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1D5D-B971-4B6E-9E85-48F57A9550BE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66880" y="684360"/>
            <a:ext cx="5126040" cy="34178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EC5C-9BCE-464B-A60D-663EEA2DC34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D845-2A6C-4F46-A3BF-9123BCBDACC8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66880" y="684360"/>
            <a:ext cx="5126040" cy="3417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E8F5-52B3-4611-8CB0-5AFF012F4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58DD-04D6-45A2-A81A-5C949B68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3AFD-56FF-405A-BC11-D6AE231D5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42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7744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40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442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7744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E57A-7CB9-41A8-97DD-C126FADA3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45C1-CFB3-42D0-B03F-297D77FA3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82D5-0155-471B-8F57-893E495B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F2EF-8CDB-458A-9E20-39A9BC71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8DCF-0DB0-40E6-AD84-3BC7EA44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3633-D74F-4C10-93C7-C9A34524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14080" y="27756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33AF-C0BA-4BB1-9551-9AE18A6B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6DA4-8DFC-40AA-BB7E-2D257210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61C6-981E-44B8-92FA-6D2B0DFB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20F0-05B6-4F39-9E75-0B1266D6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625A-1481-44A3-99FD-F098A04F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8D12-D02A-4CFC-826D-991130E8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FF4B-CE9A-4E93-A8E6-61C2B5004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6442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7744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40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6442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7744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8C1C-4DF0-479A-BB8E-D9693276B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E825-D6B1-45AA-B813-CA0B19FA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08E4-51CF-44BA-8D0F-931B88AA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D9FD-9446-4B38-8AE1-EDB8509C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14080" y="27756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F9F7-4F34-4965-92B1-375E2E75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A33D-A80A-412C-95D8-A6DD7AA4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54C3-A215-45FE-AB51-7207F69B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4847-A811-4006-8734-00EC1784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275000" y="1789200"/>
            <a:ext cx="6008400" cy="5056200"/>
            <a:chOff x="4275000" y="1789200"/>
            <a:chExt cx="6008400" cy="5056200"/>
          </a:xfrm>
        </p:grpSpPr>
        <p:sp>
          <p:nvSpPr>
            <p:cNvPr id="1" name=""/>
            <p:cNvSpPr/>
            <p:nvPr/>
          </p:nvSpPr>
          <p:spPr>
            <a:xfrm>
              <a:off x="7554240" y="2166840"/>
              <a:ext cx="35172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677360" y="1881360"/>
              <a:ext cx="8424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9295920" y="2373480"/>
              <a:ext cx="1044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699400" y="5568840"/>
              <a:ext cx="11772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9799560" y="2436480"/>
              <a:ext cx="1080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10072440" y="2414520"/>
              <a:ext cx="1044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6150240" y="2882520"/>
              <a:ext cx="1080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923360" y="2890800"/>
              <a:ext cx="1044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5419800" y="2968200"/>
              <a:ext cx="1044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156080" y="4795920"/>
              <a:ext cx="111240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504640" y="5700600"/>
              <a:ext cx="177876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547480" y="5786280"/>
              <a:ext cx="173592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579520" y="5700600"/>
              <a:ext cx="170388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62640" y="2446200"/>
              <a:ext cx="18216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462640" y="2682720"/>
              <a:ext cx="16056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462640" y="2806560"/>
              <a:ext cx="16056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768960" y="1913040"/>
              <a:ext cx="18216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780120" y="2141640"/>
              <a:ext cx="14976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768960" y="2274840"/>
              <a:ext cx="16056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694080" y="5595840"/>
              <a:ext cx="11772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387400" y="1789200"/>
              <a:ext cx="464940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239440" y="5989680"/>
              <a:ext cx="15012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748560" y="6146640"/>
              <a:ext cx="16056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4285440" y="6146640"/>
              <a:ext cx="12852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4363920" y="6093000"/>
              <a:ext cx="246492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275000" y="6086520"/>
              <a:ext cx="268272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358520" y="6127920"/>
              <a:ext cx="254520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6684480" y="6013440"/>
              <a:ext cx="16020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9683640" y="5719680"/>
              <a:ext cx="12816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7568280" y="2814480"/>
              <a:ext cx="3088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7657920" y="2452680"/>
              <a:ext cx="13536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7536240" y="2766960"/>
              <a:ext cx="36612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689960" y="2427120"/>
              <a:ext cx="45036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445160" y="2255760"/>
              <a:ext cx="56592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514080" y="627840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F60F-7541-405E-9A37-80E24620DBEE}" type="datetime">
              <a:rPr b="0" lang="es-CL" sz="1200" spc="-1" strike="noStrike">
                <a:solidFill>
                  <a:srgbClr val="ffffff"/>
                </a:solidFill>
                <a:latin typeface="Tahoma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514320" y="62784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7372080" y="627840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20C1-9E3D-4E1E-BE03-2810774B326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4275000" y="1789200"/>
            <a:ext cx="6008400" cy="5056200"/>
            <a:chOff x="4275000" y="1789200"/>
            <a:chExt cx="6008400" cy="5056200"/>
          </a:xfrm>
        </p:grpSpPr>
        <p:sp>
          <p:nvSpPr>
            <p:cNvPr id="77" name=""/>
            <p:cNvSpPr/>
            <p:nvPr/>
          </p:nvSpPr>
          <p:spPr>
            <a:xfrm>
              <a:off x="7554240" y="2166840"/>
              <a:ext cx="35172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77360" y="1881360"/>
              <a:ext cx="8424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9295920" y="2373480"/>
              <a:ext cx="1044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699400" y="5568840"/>
              <a:ext cx="11772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9799560" y="2436480"/>
              <a:ext cx="1080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10072440" y="2414520"/>
              <a:ext cx="1044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6150240" y="2882520"/>
              <a:ext cx="1080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923360" y="2890800"/>
              <a:ext cx="1044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5419800" y="2968200"/>
              <a:ext cx="1044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56080" y="4795920"/>
              <a:ext cx="111240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504640" y="5700600"/>
              <a:ext cx="177876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547480" y="5786280"/>
              <a:ext cx="173592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579520" y="5700600"/>
              <a:ext cx="170388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462640" y="2446200"/>
              <a:ext cx="18216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62640" y="2682720"/>
              <a:ext cx="16056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62640" y="2806560"/>
              <a:ext cx="16056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768960" y="1913040"/>
              <a:ext cx="18216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780120" y="2141640"/>
              <a:ext cx="14976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768960" y="2274840"/>
              <a:ext cx="16056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694080" y="5595840"/>
              <a:ext cx="11772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87400" y="1789200"/>
              <a:ext cx="464940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39440" y="5989680"/>
              <a:ext cx="15012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48560" y="6146640"/>
              <a:ext cx="16056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85440" y="6146640"/>
              <a:ext cx="12852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63920" y="6093000"/>
              <a:ext cx="246492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75000" y="6086520"/>
              <a:ext cx="268272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358520" y="6127920"/>
              <a:ext cx="254520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84480" y="6013440"/>
              <a:ext cx="16020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683640" y="5719680"/>
              <a:ext cx="12816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68280" y="2814480"/>
              <a:ext cx="3088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57920" y="2452680"/>
              <a:ext cx="13536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536240" y="2766960"/>
              <a:ext cx="36612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89960" y="2427120"/>
              <a:ext cx="45036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45160" y="2255760"/>
              <a:ext cx="56592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514080" y="627840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03A5-5488-4C68-8A61-8B61E0981326}" type="datetime">
              <a:rPr b="0" lang="es-CL" sz="1200" spc="-1" strike="noStrike">
                <a:solidFill>
                  <a:srgbClr val="ffffff"/>
                </a:solidFill>
                <a:latin typeface="Tahoma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514320" y="62784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771120" y="1767960"/>
            <a:ext cx="874404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7372080" y="627840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9D97-93AC-4C9A-83F0-C3752003E9C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14080" y="8377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800" spc="-1" strike="noStrike">
                <a:solidFill>
                  <a:srgbClr val="dbbd71"/>
                </a:solidFill>
                <a:latin typeface="Book Antiqua"/>
              </a:rPr>
              <a:t>Derecho Tributario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95080" y="4876920"/>
            <a:ext cx="72961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 Antiqua"/>
              </a:rPr>
              <a:t>Facultad de Derech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 Antiqua"/>
              </a:rPr>
              <a:t>Universidad de Ch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 Antiqua"/>
              </a:rPr>
              <a:t>Primer Semestre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2819520" y="2438280"/>
            <a:ext cx="4647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Book Antiqua"/>
              </a:rPr>
              <a:t>Profe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Book Antiqua"/>
              </a:rPr>
              <a:t>Rodrigo Rojas 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0E6D-E614-4B49-B53A-96A60AF4683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C692A9-410E-488F-A062-C6F943D471A7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14080" y="990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Comparación Tasa y Precio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90400" y="2590920"/>
            <a:ext cx="4553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Tas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Obligato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Monopol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Subsid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43320" y="2590560"/>
            <a:ext cx="45529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re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Volunta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Libre ofer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Util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68F0-E590-4844-A9EC-974AD354530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F350E7-4FBC-4B44-AE61-FDE36A68095B}" type="datetime1">
              <a:rPr lang="en-US"/>
              <a:t>07/30/26</a:t>
            </a:fld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76240" y="699480"/>
            <a:ext cx="7925040" cy="55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Norma: Decreto Supremo N° 109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 EXENT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Fecha Publicación: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28.02.2005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Organismo: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MINISTERIO DE </a:t>
            </a: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AGRICULTURA</a:t>
            </a:r>
            <a:br>
              <a:rPr sz="1200"/>
            </a:b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FIJA TARIFA POR LA INSPECCION Y CERTIFICACION DE PRODUCTOS FORESTALES DE EXPORTACION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Santiago, 22 de Febrero de 2005.- Hoy se decretó lo que sigue: Núm. 109 exento.-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Visto: El artículo 6º del DFL Nº 294 de 1960; lo establecido en artículo 7º letra ñ) de la ley Nº 18.755, Orgánica del Servicio Agrícola y Ganadero, modificada por la ley Nº 19.283, el Nº 16 del decreto Nº 186, de 1994, del Ministerio de Agricultura; el decreto Nº 19, de 2001, del Ministerio Secretaría General de la Presidencia y el artículo 32, Nº 8, y 35 de la Constitución Política de la República,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Decreto: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1º Fíjanse las siguientes tarifas a ser aplicadas en las labores de inspección y certificación de productos forestales de exportació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Rollizos, maderas aserradas   y aserrables, por metro cúbico         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0,00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Astillas y madera elaborada,   por tonelada                           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0,005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Vara de coligüe, por cada muestra de 300 uds que ampara un lote de 6000 unidades     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0,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d) Tejuelas de madera y otros productos forestales elaborados no incluidos en lo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tipos anteriores, por    hora de inspección                     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0,5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2º Las tarifas señaladas en el presente decreto y los valores aplicables no incluyen el valor de los servicios de laboratorio que deban efectuarse, ni el costo de las horas extraordinarias habilitadas a cobrar.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3º El presente decreto regirá a contar del primer día del mes siguiente al de su publicación en el Diario Oficial.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Anótese, comuníquese y publíquese.-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Por orden del Presidente de la República, Arturo Barrera Miranda, Ministro de Agricultura (S).- María Eugenia Wagner Brizzi, Ministra de Hacienda (S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B96D-BDB3-48EA-892F-5D41F5BB59CC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B5C021-DBD2-43AF-8AEF-8A0D0A126F79}" type="datetime1">
              <a:rPr lang="en-US"/>
              <a:t>07/30/26</a:t>
            </a:fld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14080" y="91404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br>
              <a:rPr sz="3600"/>
            </a:br>
            <a:r>
              <a:rPr b="0" lang="es-MX" sz="2800" spc="-1" strike="noStrike">
                <a:solidFill>
                  <a:srgbClr val="dbbd71"/>
                </a:solidFill>
                <a:latin typeface="Book Antiqua"/>
              </a:rPr>
              <a:t>Definiciones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42520" y="2285640"/>
            <a:ext cx="9201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Vinculo jurídico en virtud del cual, un sujeto debe dar a otro, que actúa ejercitando el poder tributario, una suma de dinero que se determina por ley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Vinculo de carácter personal que surge entre el Estado u otros entes públicos y, los sujetos pasivos en cuanto en cuanto ocurre el presupuesto de hecho previsto en la ley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F27B-A3DB-4971-ABD9-F084AA633E8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178A10-202B-497A-A11F-A286412546C7}" type="datetime1">
              <a:rPr lang="en-US"/>
              <a:t>07/30/26</a:t>
            </a:fld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785680" y="1143000"/>
            <a:ext cx="47145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bbd71"/>
                </a:solidFill>
                <a:latin typeface="Book Antiqua"/>
              </a:rPr>
              <a:t>Elem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81160" y="251460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Vinculo Juríd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Fuente leg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Acaecimiento de un hecho grav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Obligación principal: Pago de suma de dine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8905-7DEF-41A4-B11F-0B5CBD1FA355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A1AF0B-E9A9-4FD7-AA47-20521B60E533}" type="datetime1">
              <a:rPr lang="en-US"/>
              <a:t>07/30/26</a:t>
            </a:fld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785680" y="1143000"/>
            <a:ext cx="471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Sujetos y Hecho Grav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81160" y="251460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Sujeto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Book Antiqua"/>
              </a:rPr>
              <a:t>Activo (Estado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Book Antiqua"/>
              </a:rPr>
              <a:t>Pasivo (Contribuyente, Agente retenedor, tercero responsabl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Hecho Gravado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Book Antiqua"/>
              </a:rPr>
              <a:t>Conjunto de circunstancias hipotéticamente previstas en la norma, cuya realización provoca el nacimiento de la obligación tributaria concreta. (Afecto, Exento, No afecto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Book Antiqua"/>
              </a:rPr>
              <a:t>Devenga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F15B-30B2-4FB1-B92D-B35C62F4CF7B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0AA2DF-DE9E-43E4-8478-B6AA4EC19366}" type="datetime1">
              <a:rPr lang="en-US"/>
              <a:t>07/30/26</a:t>
            </a:fld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785680" y="1143000"/>
            <a:ext cx="471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Base Imponible y T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81160" y="251460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Base Imponible: 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Cuantificación del hecho gravado. Cifra sobre la cual se aplica la tasa. Real o Presun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Tasa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: Porcentaje que se aplica a la base. Proporcional, Progresiva, Fija, etc. (Ejempl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Créditos: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 contra la Base o contra el Impue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Exenciones: 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Reales y Person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A592-B4FE-4E6A-9C09-9F3B2F278637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8E61C1-E192-4729-B92E-2129C42D08C4}" type="datetime1">
              <a:rPr lang="en-US"/>
              <a:t>07/30/26</a:t>
            </a:fld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785680" y="1143000"/>
            <a:ext cx="471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Determin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81160" y="3048120"/>
            <a:ext cx="7924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ropio Contribuy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Jue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Autoridad tributaria (S.I.I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9622-43A4-4EA5-BBEA-7004F590B64B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DC1F27-382E-4787-B008-2F45FB1F5040}" type="datetime1">
              <a:rPr lang="en-US"/>
              <a:t>07/30/26</a:t>
            </a:fld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785680" y="1143000"/>
            <a:ext cx="471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Exti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81160" y="3048120"/>
            <a:ext cx="7924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ago o solu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rescrip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Compensación o imput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1478-9D7C-43B1-A09B-7E83067EDEDF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FF1644-15C6-4BDA-91D8-8E1A3BB98BF0}" type="datetime1">
              <a:rPr lang="en-US"/>
              <a:t>07/30/26</a:t>
            </a:fld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87360" y="114300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Limites al Poder Tributa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81160" y="2743200"/>
            <a:ext cx="8001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Leg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Igualdad y Gener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No discriminación arbitra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No afec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No Confis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Seguridad Juríd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65E9-A38D-4BCB-8098-3E1FF1F524F5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717BB6-B4A1-4CCF-9974-9ECF6AD45AB3}" type="datetime1">
              <a:rPr lang="en-US"/>
              <a:t>07/30/26</a:t>
            </a:fld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830160" y="1937520"/>
            <a:ext cx="8626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Art. 63: “Sólo son materias de le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N° 2 Las que la Constitución exija que sean reguladas por una ley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Art. 63 “Sólo son materias de le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N° 14: Las demás que la Constitución señale como leyes de iniciativa exclusiva del Presidente de la República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Art. 65 inciso 2°: “Las leyes sobre tributos de cualquiera naturaleza que sean, sobre los presupuestos de la administración pública y sobre reclutamiento, sólo pueden tener origen en la Cámara de Diputado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Art. 65 inciso 4° N° 1: “Corresponderá, asimismo, al Presidente de la República, la iniciativa exclusiva para: 1° Imponer, suprimir, reducir o condonar tributos de cualquier clase o naturaleza, establecer exenciones o modificar las existentes y determinar su forma, proporcionalidad o progresión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84840" y="91440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Leg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A103-C720-4569-8E45-F94FB787EDFD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BC38D-D9A5-4EEA-9E91-70AB1B653DA5}" type="datetime1">
              <a:rPr lang="en-US"/>
              <a:t>07/30/26</a:t>
            </a:fld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-3967200" y="268128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3886200"/>
            <a:ext cx="8762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l bobtail, que en castellano significa "cola mocha" o "cola corta", debe su nombre a un hecho que sucedió hace doscientos años. Dado que el rey Guillermo I había establecido un impuesto sobre los perros de caza, que tenían todos la cola larga, los pastores, que utilizaban a sus perros de rebaño también para ir a cazar jabalíes, empezaron a cortar la cola a los cachorros recién nacidos, con el fin de no tener que pagar los impues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700440" y="838080"/>
            <a:ext cx="2886120" cy="242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DE5F-A8A4-4259-80D5-7F4F4747D163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B396EC-5281-460C-8179-B0EFC44FD9B4}" type="datetime1">
              <a:rPr lang="en-US"/>
              <a:t>07/30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830160" y="2360520"/>
            <a:ext cx="862668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 Antiqua"/>
              </a:rPr>
              <a:t>Art.19</a:t>
            </a: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. La Constitución asegura a todas las person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20º La igual repartición de los tributos en proporción a las rentas o en la progresión o forma que fije la ley, y la igual repartición de las demás cargas públic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En ningún caso la ley podrá establecer tributos manifiestamente desproporcionados o injus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84840" y="91440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Igualdad y Gener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C086-A9BC-4B12-9DD0-A50AE1B60DCC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28C15D-ED0F-4AF9-A339-66A4FB5536FC}" type="datetime1">
              <a:rPr lang="en-US"/>
              <a:t>07/30/26</a:t>
            </a:fld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2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335240" y="2361240"/>
            <a:ext cx="761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 Antiqua"/>
              </a:rPr>
              <a:t>Art.19</a:t>
            </a: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. La Constitución asegura a todas las person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8040" y="1591920"/>
            <a:ext cx="9234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35240" y="2971800"/>
            <a:ext cx="7615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22º La no discriminación arbitraria en el trato que deben dar el Estado y sus organismos en materia económic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Sólo en virtud de una ley, y siempre que no signifique tal discriminación se podrán autorizar determinados beneficios directos o indirectos a favor de algún sector, actividad o zona geográfica, o establecer gravámenes especiales que afecten a uno u otras. En el caso de las franquicias o beneficios indirectos, la estimación del costo de éstos deberá incluirse anualmente en la Ley de Presupues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131560" y="914400"/>
            <a:ext cx="60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No Discriminación Arbitra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0E9B-5EEC-4F2F-8FA2-3AEDE34D1F59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30987-702E-4050-A8DD-A3A826D3BED7}" type="datetime1">
              <a:rPr lang="en-US"/>
              <a:t>07/30/26</a:t>
            </a:fld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514080" y="2057400"/>
            <a:ext cx="9124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 Antiqua"/>
              </a:rPr>
              <a:t>Art.19</a:t>
            </a: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. La Constitución asegura a todas las persona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20º La igual repartición ………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Book Antiqua"/>
              </a:rPr>
              <a:t>Los tributos que se recauden, cualquiera que sea su naturaleza ingresaran al patrimonio de la Nación y no podrán estar afectos a un destino determin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Book Antiqua"/>
              </a:rPr>
              <a:t>Sin embargo, la ley podrá autorizar que determinados tributos puedan estar afectados a fines propios de la defensa nacional. Asimismo, podrá autorizar que los que gravan actividades o bienes que tengan una clara identificación regional o local puedan ser aplicados, dentro de los marcos que la misma ley señale, por las autoridades regionales o comunales para el financiamiento de obras de desarrol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2184840" y="91440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No Afec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66DF-0EDE-4444-9C66-9A16ED83377B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83BC87-B6DF-4496-818F-B58C2CCBBF5F}" type="datetime1">
              <a:rPr lang="en-US"/>
              <a:t>07/30/26</a:t>
            </a:fld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415880" y="2818440"/>
            <a:ext cx="74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 Antiqua"/>
              </a:rPr>
              <a:t>Art.19</a:t>
            </a: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. La Constitución asegura a todas las person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6280" y="3580200"/>
            <a:ext cx="753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24º El derecho de propiedad en sus diversas especies sobre toda clase de bienes corporales o incorpor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84840" y="106668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No Confis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5683-3984-4691-AE75-70E49FAA6E51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127D88-F388-4A29-A380-875868AC2697}" type="datetime1">
              <a:rPr lang="en-US"/>
              <a:t>07/30/26</a:t>
            </a:fld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092240" y="2666160"/>
            <a:ext cx="81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 Antiqua"/>
              </a:rPr>
              <a:t>Art.19</a:t>
            </a: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. La Constitución asegura a todas las person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11240" y="3427920"/>
            <a:ext cx="826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26º La seguridad de que los preceptos legales que por mandato de la Constitución regulen o complementen las garantías que ésta establece o que las limiten en los casos en que ella lo autoriza, no podrán afectar los derechos en su esencia, ni imponer condiciones, tributos o requisitos que impidan su libre ejercic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84840" y="106668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Seguridad Juríd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F344-22D1-4D66-BF3D-025DA88DA21E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6B6F91-F7F7-438A-9521-83E1140108C7}" type="datetime1">
              <a:rPr lang="en-US"/>
              <a:t>07/30/26</a:t>
            </a:fld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318680" y="1371600"/>
            <a:ext cx="76489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bbd71"/>
                </a:solidFill>
                <a:uFillTx/>
                <a:latin typeface="Book Antiqua"/>
                <a:ea typeface="Times New Roman"/>
              </a:rPr>
              <a:t>Potestad Tribut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ómo se orig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on qué objet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ómo funci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B284-101D-4ADF-9870-027C4E3614C6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985CFB-5ADE-411E-A975-A8EF6C8F382E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771120" y="1028520"/>
            <a:ext cx="8744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bbd71"/>
                </a:solidFill>
                <a:uFillTx/>
                <a:latin typeface="Book Antiqua"/>
                <a:ea typeface="Times New Roman"/>
              </a:rPr>
              <a:t>Característ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Origina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Abstrac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Perman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Indeleg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Irrenunci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Imprescript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Limitaciones territoriales y constituci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8289-350D-4C7E-9D6A-60EE1E95423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3A14A5-F06D-4DC4-BC61-6173053C3169}" type="datetime1">
              <a:rPr lang="en-US"/>
              <a:t>07/30/26</a:t>
            </a:fld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2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2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2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14080" y="91404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Tributo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14080" y="2514240"/>
            <a:ext cx="9258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Concep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Aquella prestación obligatoria, comúnmente en dinero, exigida por el Estado en ejercicio de su poder de imperio, en virtud de una ley, para atender sus necesidades y cumplir sus fines públicos, económicos y soci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C004-8F4A-4C7D-AB5F-0A9CC7332A0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E25D96-25BD-463A-ABE5-FA957823CA22}" type="datetime1">
              <a:rPr lang="en-US"/>
              <a:t>07/30/26</a:t>
            </a:fld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14080" y="6091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Clasificación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4520" y="1980720"/>
            <a:ext cx="7077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Internos y Extern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Directos e Indire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Reales y Pers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Fiscales y Municip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Generales y Espe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ermanentes y Transito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roporcionales, progresivos y fij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Retención y de recar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4E9C-27B3-4A64-8BCA-69147206D4C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C9B21A-E504-4F61-AD6D-18CCFB9FB679}" type="datetime1">
              <a:rPr lang="en-US"/>
              <a:t>07/30/26</a:t>
            </a:fld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1333440" y="571680"/>
          <a:ext cx="7543800" cy="5657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3440" y="571680"/>
                    <a:ext cx="7543800" cy="56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3CA2-ECA8-4183-A7A8-69088CA38249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0A3AAF-975F-4670-BEBA-610FACDCF810}" type="datetime1">
              <a:rPr lang="en-US"/>
              <a:t>07/30/26</a:t>
            </a:fld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409760" y="503280"/>
            <a:ext cx="7467480" cy="585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9B9D-A898-4778-A936-471904C9E8CA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A228B2-D000-4420-B0E3-2BD69EB1FE34}" type="datetime1">
              <a:rPr lang="en-US"/>
              <a:t>07/30/26</a:t>
            </a:fld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14080" y="7617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Tipos de Tributo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23600" y="2286000"/>
            <a:ext cx="52390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Impues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Tas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Contribu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Derech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83CB-4C88-4414-9940-9763A38AAD5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B4173C-305C-4075-9D04-A80D16DC5F3B}" type="datetime1">
              <a:rPr lang="en-US"/>
              <a:t>07/30/26</a:t>
            </a:fld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11:59:30Z</dcterms:created>
  <dc:creator>dale tincher</dc:creator>
  <dc:description/>
  <dc:language>en-US</dc:language>
  <cp:lastModifiedBy>Rodrigo Rojas P.</cp:lastModifiedBy>
  <cp:lastPrinted>1999-12-01T16:13:34Z</cp:lastPrinted>
  <dcterms:modified xsi:type="dcterms:W3CDTF">2008-03-07T19:29:44Z</dcterms:modified>
  <cp:revision>181</cp:revision>
  <dc:subject/>
  <dc:title>Using PowerPoint - For Lawyers - VA CLE Course by Dale Tincher Consultwebs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netsmartinc.com</vt:lpwstr>
  </property>
  <property fmtid="{D5CDD505-2E9C-101B-9397-08002B2CF9AE}" pid="9" name="LinkColor">
    <vt:r8>16711782</vt:r8>
  </property>
  <property fmtid="{D5CDD505-2E9C-101B-9397-08002B2CF9AE}" pid="10" name="MailAddress">
    <vt:lpwstr>dtincher@netsmartinc.com</vt:lpwstr>
  </property>
  <property fmtid="{D5CDD505-2E9C-101B-9397-08002B2CF9AE}" pid="11" name="NavBtnPos">
    <vt:r8>3</vt:r8>
  </property>
  <property fmtid="{D5CDD505-2E9C-101B-9397-08002B2CF9AE}" pid="12" name="Other">
    <vt:lpwstr>Phone: 919-272-8052</vt:lpwstr>
  </property>
  <property fmtid="{D5CDD505-2E9C-101B-9397-08002B2CF9AE}" pid="13" name="OutputDir">
    <vt:lpwstr>E:\NCBA Presentations - PPT and 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