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421-DC4B-443B-837C-6688E3A8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78A-1248-4E7E-93C1-504202E9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8F6-627E-4EEB-937D-AF136707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167-F06F-436A-9384-229C40C7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FE1-4FD7-4803-9EAB-89D111CB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118-56B9-4466-A943-BC5B026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8E3-A6F0-40C8-AB7F-0BE755AA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6E2-0FD2-448F-85FB-95363D41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87C-2FCB-4FC4-BBF4-4B78450A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C68-4B54-4805-8D75-8689BF7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576-A3D3-475A-822C-E638C933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D9E-3823-4AE4-8E4D-9C7026FF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FDF8-5C9B-4371-AB60-E97C2A7F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-38160" y="-17640"/>
          <a:ext cx="9221760" cy="6902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-17640"/>
                    <a:ext cx="922176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7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en millones de p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23760" y="179064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79064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7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como % del P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9080" y="1785960"/>
          <a:ext cx="730584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785960"/>
                    <a:ext cx="73058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23760" y="179064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79064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9:20:54Z</dcterms:created>
  <dc:creator> Rodrigo Rojas</dc:creator>
  <dc:description/>
  <dc:language>en-US</dc:language>
  <cp:lastModifiedBy>Rodrigo Rojas P.</cp:lastModifiedBy>
  <dcterms:modified xsi:type="dcterms:W3CDTF">2008-03-10T21:47:26Z</dcterms:modified>
  <cp:revision>13</cp:revision>
  <dc:subject/>
  <dc:title>Diapositiva 1</dc:title>
</cp:coreProperties>
</file>