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2A98-C68A-4E41-B6C3-6BB3D0905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B86D-C043-4586-81E4-0913FEB79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D89F-06A4-4A01-901B-721ED65E4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FD7D-1A0F-43DB-AB0C-91692DE6B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80E6-DF59-48FC-9FC1-174DADCA7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0E68-AB6B-495D-BA63-D23EFCF87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CA6E-72A8-46FD-A50B-801304DF8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4916-A615-4905-8CA8-902E7FA08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008E-818E-45BF-9041-93CD4EC47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CD4C-34E5-43B7-B458-1D0DDEE2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C0F7-2C63-4E45-975E-C8F08FA36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AD75-50A8-4B45-849C-817E4A211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777FB-7548-420F-9C14-C1E577B292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-38160" y="-17640"/>
          <a:ext cx="9221760" cy="69026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160" y="-17640"/>
                    <a:ext cx="9221760" cy="690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Book Antiqua"/>
              </a:rPr>
              <a:t>Recaudación 1989-2007</a:t>
            </a:r>
            <a:br>
              <a:rPr sz="2800"/>
            </a:br>
            <a:r>
              <a:rPr b="0" lang="es-MX" sz="2800" spc="-1" strike="noStrike">
                <a:solidFill>
                  <a:srgbClr val="000000"/>
                </a:solidFill>
                <a:latin typeface="Book Antiqua"/>
              </a:rPr>
              <a:t>en millones de pe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923760" y="1790640"/>
          <a:ext cx="7296480" cy="414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3760" y="1790640"/>
                    <a:ext cx="7296480" cy="41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Book Antiqua"/>
              </a:rPr>
              <a:t>Recaudación 1989-2007</a:t>
            </a:r>
            <a:br>
              <a:rPr sz="2800"/>
            </a:br>
            <a:r>
              <a:rPr b="0" lang="es-MX" sz="2800" spc="-1" strike="noStrike">
                <a:solidFill>
                  <a:srgbClr val="000000"/>
                </a:solidFill>
                <a:latin typeface="Book Antiqua"/>
              </a:rPr>
              <a:t>como % del PI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919080" y="1785960"/>
          <a:ext cx="7305840" cy="4152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9080" y="1785960"/>
                    <a:ext cx="7305840" cy="41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923760" y="1989000"/>
          <a:ext cx="7296480" cy="414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3760" y="1989000"/>
                    <a:ext cx="7296480" cy="41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Book Antiqua"/>
              </a:rPr>
              <a:t>Distribución Impuestos – Chile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Book Antiqua"/>
              </a:rPr>
              <a:t>Distribución Impuestos – Chile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923760" y="1916280"/>
          <a:ext cx="7296480" cy="414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3760" y="1916280"/>
                    <a:ext cx="7296480" cy="41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923760" y="1916280"/>
          <a:ext cx="7296480" cy="414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3760" y="1916280"/>
                    <a:ext cx="7296480" cy="41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Book Antiqua"/>
              </a:rPr>
              <a:t>Distribución Impuestos – Chile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Book Antiqua"/>
              </a:rPr>
              <a:t>Distribución Impuestos – Chile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923760" y="1790640"/>
          <a:ext cx="7296480" cy="414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3760" y="1790640"/>
                    <a:ext cx="7296480" cy="41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3T19:20:54Z</dcterms:created>
  <dc:creator> Rodrigo Rojas</dc:creator>
  <dc:description/>
  <dc:language>en-US</dc:language>
  <cp:lastModifiedBy>Rodrigo Rojas P.</cp:lastModifiedBy>
  <dcterms:modified xsi:type="dcterms:W3CDTF">2008-03-10T21:47:26Z</dcterms:modified>
  <cp:revision>13</cp:revision>
  <dc:subject/>
  <dc:title>Diapositiva 1</dc:title>
</cp:coreProperties>
</file>