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EDE-3A48-4585-81F8-6F3A43B0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1C8-8A67-4481-909E-55F4C0AF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B5D-7ABB-4BBF-B4A3-69CBD5D5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7D7-7E02-4B6C-86DB-764FF657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3A0-BF73-4D8C-BCB4-EA1F2FB1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7E9-875F-488B-9857-329BCFE4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794-EC9B-40E7-8294-28952AB7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E28-21A7-437B-A044-DB0AA854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BD0-3868-4DAF-AA58-2D5FD22A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742-9CD5-4576-9079-58FC0E2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7A2-66AC-4578-BB33-809A118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AC8-1EEE-44C1-A584-F721C30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A992-5BB3-4718-9A00-00E1CCB82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-38160" y="-17640"/>
          <a:ext cx="9221760" cy="6902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-17640"/>
                    <a:ext cx="922176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7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en millones de p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3760" y="179064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79064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7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como % del 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9080" y="1785960"/>
          <a:ext cx="730584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785960"/>
                    <a:ext cx="7305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23760" y="179064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79064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9:20:54Z</dcterms:created>
  <dc:creator> Rodrigo Rojas</dc:creator>
  <dc:description/>
  <dc:language>en-US</dc:language>
  <cp:lastModifiedBy>Rodrigo Rojas P.</cp:lastModifiedBy>
  <dcterms:modified xsi:type="dcterms:W3CDTF">2008-03-10T21:47:26Z</dcterms:modified>
  <cp:revision>13</cp:revision>
  <dc:subject/>
  <dc:title>Diapositiva 1</dc:title>
</cp:coreProperties>
</file>