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11C-CFC5-4AF1-B153-73C12C8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4E2-94DD-4346-BBAD-EB08749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C40-A339-4E10-89FA-4E56A480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665-D4F7-4889-9507-0B440646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2D4-01C2-4CF6-A1FC-DF17AD2C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492-346E-4C4B-9A90-46DCF93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0E6-3AF6-4FE8-B9DA-783103C1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7CF-299A-4301-8025-6DD830F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1FB-E081-4335-BC74-E79FE24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983-6935-4E7A-8B08-637E58B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619-0120-48B8-A07B-C2B73A1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C82-2C99-4950-831F-207CCC5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889D-C163-4BE5-B6FE-C5CA54966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5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Sistemas Tributarios en las Améric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360" y="38862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ercera Asamblea Ple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oro Interparlamentario de las Am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Valparaíso, Abril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uan Cristóbal Bonnef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Área de Políticas Presupuestarias y Gestión Públic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LPES, CE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flipH="1">
            <a:off x="-360" y="41148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0000"/>
          </a:blip>
          <a:srcRect l="0" t="0" r="0" b="28665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Comparación Internacional de la Carga Fiscal, </a:t>
            </a: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1999-2000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(en porcentajes del P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76320" y="914400"/>
          <a:ext cx="94489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448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6095880"/>
            <a:ext cx="94489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Notas: Las cifras de la OECD tienen cobertura de Gobierno General, al igual que Argentina, Brasil y Chile. El resto tiene cobertura de Gobierno Cent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rga y Composición de Ingresos Tributarios en América Latina, 200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% de P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9144000" cy="5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 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Nota: La cobertura es Gobierno Central para todos los países salvo Argentina, Bolivia, Brasil y Chile, cuyos datos corresponden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a cobertura de Gobierno Gen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152280" y="878040"/>
          <a:ext cx="9448560" cy="54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878040"/>
                    <a:ext cx="9448560" cy="54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120" y="228600"/>
            <a:ext cx="79963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07:06Z</dcterms:created>
  <dc:creator> Rodrigo Rojas</dc:creator>
  <dc:description/>
  <dc:language>en-US</dc:language>
  <cp:lastModifiedBy>Rodrigo Rojas P.</cp:lastModifiedBy>
  <dcterms:modified xsi:type="dcterms:W3CDTF">2008-03-07T19:32:24Z</dcterms:modified>
  <cp:revision>11</cp:revision>
  <dc:subject/>
  <dc:title>Diapositiva 1</dc:title>
</cp:coreProperties>
</file>