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2FB-99E4-4898-B0EE-BC9D5593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DEF-5422-4E13-B555-CF8B260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079-B646-44B2-961E-8E4E81DB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B87-E5B4-4FDA-8886-20A6291F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DC3-8590-40FA-93D8-E87D3DF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0BE-9048-450A-BD75-3E507206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720-79C5-48E3-BD66-911657C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637-D769-4929-9D3D-0CD89B1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2F3-C9FB-44D2-977F-2E02DF5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F55-ADD0-474F-85E4-8DAF67B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6A3-6226-49D7-ACD8-A8ECCE4E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949-6029-4A88-98FF-86B30D4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6C4E-7827-4BD5-BD58-5ACF684A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5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Sistemas Tributarios en las Améric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360" y="38862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ercera Asamblea Ple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oro Interparlamentario de las Am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Valparaíso, Abril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uan Cristóbal Bonnef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Área de Políticas Presupuestarias y Gestión Públic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LPES, CE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flipH="1">
            <a:off x="-360" y="41148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0000"/>
          </a:blip>
          <a:srcRect l="0" t="0" r="0" b="28665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Comparación Internacional de la Carga Fiscal, </a:t>
            </a: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1999-2000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(en porcentajes del P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76320" y="914400"/>
          <a:ext cx="94489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448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6095880"/>
            <a:ext cx="94489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Notas: Las cifras de la OECD tienen cobertura de Gobierno General, al igual que Argentina, Brasil y Chile. El resto tiene cobertura de Gobierno Cent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rga y Composición de Ingresos Tributarios en América Latina, 200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% de P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9144000" cy="5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 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Nota: La cobertura es Gobierno Central para todos los países salvo Argentina, Bolivia, Brasil y Chile, cuyos datos corresponden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a cobertura de Gobierno Gen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152280" y="878040"/>
          <a:ext cx="9448560" cy="54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878040"/>
                    <a:ext cx="9448560" cy="54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120" y="228600"/>
            <a:ext cx="79963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07:06Z</dcterms:created>
  <dc:creator> Rodrigo Rojas</dc:creator>
  <dc:description/>
  <dc:language>en-US</dc:language>
  <cp:lastModifiedBy>Rodrigo Rojas P.</cp:lastModifiedBy>
  <dcterms:modified xsi:type="dcterms:W3CDTF">2008-03-07T19:32:24Z</dcterms:modified>
  <cp:revision>11</cp:revision>
  <dc:subject/>
  <dc:title>Diapositiva 1</dc:title>
</cp:coreProperties>
</file>