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54F-CB5E-4573-8527-6457B68A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1F6-455D-4E44-B1FA-A1AC4E61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185-BDB5-45F2-9884-8CDA04D1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6BB-7C70-43E6-9252-844A054E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C8D-A45B-43A0-9B24-963F34C2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ADC-7E79-4B88-BCDC-5F5344C1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03F-190C-4E09-B4EB-C46B5CF7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762-99D0-4DDD-80DA-82413C63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2C5-68CD-4C7D-BC1D-75F2620F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D22-5FDC-409F-B85C-A998BF6E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8D2-6584-47B4-94E1-13B370F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CB4-D6EF-466A-A70B-27409A13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1A67-5BB5-454E-9792-F5E76DCFE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57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Sistemas Tributarios en las Améric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3360" y="38862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ercera Asamblea Ple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oro Interparlamentario de las Amé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Valparaíso, Abril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Juan Cristóbal Bonnef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Área de Políticas Presupuestarias y Gestión Públic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LPES, CE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flipH="1">
            <a:off x="-360" y="4114800"/>
            <a:ext cx="213372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20000"/>
          </a:blip>
          <a:srcRect l="0" t="0" r="0" b="28665"/>
          <a:stretch/>
        </p:blipFill>
        <p:spPr>
          <a:xfrm>
            <a:off x="0" y="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Comparación Internacional de la Carga Fiscal, </a:t>
            </a:r>
            <a:br>
              <a:rPr sz="3200"/>
            </a:b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1999-2000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(en porcentajes del P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-76320" y="914400"/>
          <a:ext cx="944892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4489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6095880"/>
            <a:ext cx="944892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Fuente: ILPES-CEPAL, Panorama de las Finanzas Públicas, 2004. Notas: Las cifras de la OECD tienen cobertura de Gobierno General, al igual que Argentina, Brasil y Chile. El resto tiene cobertura de Gobierno Cent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arga y Composición de Ingresos Tributarios en América Latina, 200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% de P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324480"/>
            <a:ext cx="9144000" cy="5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Fuente: ILPES-CEPAL, Panorama de las Finanzas Públicas, 2004.  </a:t>
            </a:r>
            <a:r>
              <a:rPr b="1" lang="es-ES_tradnl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Nota: La cobertura es Gobierno Central para todos los países salvo Argentina, Bolivia, Brasil y Chile, cuyos datos corresponden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a cobertura de Gobierno Gen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-152280" y="878040"/>
          <a:ext cx="9448560" cy="54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878040"/>
                    <a:ext cx="9448560" cy="54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3120" y="228600"/>
            <a:ext cx="79963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07:06Z</dcterms:created>
  <dc:creator> Rodrigo Rojas</dc:creator>
  <dc:description/>
  <dc:language>en-US</dc:language>
  <cp:lastModifiedBy>Rodrigo Rojas P.</cp:lastModifiedBy>
  <dcterms:modified xsi:type="dcterms:W3CDTF">2008-03-07T19:32:24Z</dcterms:modified>
  <cp:revision>11</cp:revision>
  <dc:subject/>
  <dc:title>Diapositiva 1</dc:title>
</cp:coreProperties>
</file>