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316-6ECE-404A-9FB5-39972C1D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771-BBD6-4FB7-8B27-1419C93E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7D7-E6F6-42F2-A24F-6BFEA71D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5FB-C377-4A8C-9D30-92D690D2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AF6-B92F-4025-9D03-AAE597AA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775-0BD2-4E38-B225-94114980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B45-66FB-4239-B935-77E34332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683-A62C-4320-BA39-0A101655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F5B-C212-4ABB-8797-D90A18B4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AD2-62CC-4ABA-8D41-029C4946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FE5-3BE9-406D-A5EB-9C7C0A6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90F-0768-453A-989A-7796BAF4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E3A5-4A38-44AB-BD27-051A642C9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partir del enfoque visto en clases anteriores, es posible derivar la curva de dem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urva de demanda muestra combinaciones de consumo óptimo (proveniente de un proceso de maximización sujeto a RP) para distintos precios de un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emos visto que el individuo elige una combinación óptima de bienes eligiendo el punto en la curva de indiferencia más alta que toca a su restricción presupuest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derivar una curva de demanda, debemos preguntarnos cómo cambia la cantidad consumida de un bien cuando se modifica su preci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 ejemplo, cómo se modifica el equilibrio si aumenta Px/Py por un aumento de P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fecto es sobre la RP. En particular, dado Py y M, disminuye el consumo de x, dado su mayor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decir, vemos que un aumento de Px reduce la cantidad demandada de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hacemos este ejercicio sucesivas veces, obtenemos distintas combinaciones de Px/Py y consumo del bien x, lo que da origen a la curva de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ómo se modifica el equilibrio del consumidor si cambia su ingr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: Se desplaza paralelamente la RP. Si se trata de bienes normales, el individuo podrá consumir más a los mismos precios. La curva de demanda se despla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conoce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rva de Enge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relación entre la cantidad demandada de un bien y la renta, manteniendo constantes los pre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vimos, cuando disminuye el precio relativo de un bien, su consumo aumenta (y viceve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efecto se puede descomponer en dos: efecto sustitución y efecto r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vamente: un cambio en el precio hace que el individuo sustituya el bien que se encarece relativamente. Esto se conoce como efecto sustitución y tiene un signo claro: neg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 este no es el único efecto que genera un cambio en el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egundo efecto que genera un cambio de precio es un ajuste en el ingreso real del individuo (M/P) que es lo que genera el llamado efecto renta o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el mayor precio de uno de los bienes que consume el individuo, su poder adquisitivo se reduce en términos 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mpacto del efecto renta no tiene un signo claro: si el bien es normal, el efecto renta operará en la misma dirección que el efecto sustitución, mientras que si es un bien inferior, lo hará en sentido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V="1">
            <a:off x="2268360" y="141264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79736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700280"/>
            <a:ext cx="331164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700280"/>
            <a:ext cx="115128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3284640"/>
            <a:ext cx="158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99736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213372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357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38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19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7120" y="6021360"/>
            <a:ext cx="3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5661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22936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aumenta PX/PY el efecto total es el paso de A a C. Sin embargo, si solo aislamos el efecto renta (manteniendo los precios constantes) el cambio sería de A a B, este es el efecto renta. El paso de B a C representa el efecto sustitución por el cambio en los precios relativos. En este caso, ambos efectos operan en la misma dirección, por lo que X es un bien norm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ocurre, en el caso de un bien inferior, si el efecto renta supera al efecto sustitu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: Ante un aumento del precio del bien, su consumo aumenta, es decir, la curva de demanda tiene pendiente positiv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este ocurre se habla de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en Giffe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es un caso teórico. En la mayoría de los bienes inferiores el efecto renta no supera al efectos sustitución, lo que lleva a que normalmente las curvas de demanda tengan pendiente neg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38:23Z</dcterms:created>
  <dc:creator>Facultad de Derecho</dc:creator>
  <dc:description/>
  <dc:language>en-US</dc:language>
  <cp:lastModifiedBy>Hermann</cp:lastModifiedBy>
  <dcterms:modified xsi:type="dcterms:W3CDTF">2008-04-18T05:10:46Z</dcterms:modified>
  <cp:revision>12</cp:revision>
  <dc:subject/>
  <dc:title>Microeconomía Clase 6</dc:title>
</cp:coreProperties>
</file>