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74D7-E6D3-412B-9CCA-DB5C1416D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A0DD-8F07-471F-85F0-6E09D090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9F60-315D-4A49-8AD7-89C982F57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DB55-CC11-46D0-8028-AA31F29C7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B23A-4D54-484F-A1B0-5E508BBC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9E7E-01E6-4B50-8FE6-86039EDA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73B7-5906-4A39-AB0A-E0687CA1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797C-8E62-428B-89BF-0DC2D1D13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9906-92C7-464D-8D5F-9EF3033D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38EB-D5B8-4A9B-8C30-0FD141F6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DD12-D91A-41A7-981C-84BA26B9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4AD4-C886-4257-9F70-B431E265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0029-BE6B-4161-8324-0D568CD3345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icroeconomía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lase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El Óptimo del Consumi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La Restricción Presupuest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1253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i un individuo se enfrenta a la decisión de elegir entre dos bienes: cuánto elige de cada un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De qué depende la respues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epende de: las preferencias y de la disponibilidad de recur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RP representa el monto del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ingreso M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del que dispone el consumidor durante el período bajo estudio, teniendo en cuenta los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precios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que debe pagar para obtener diferentes combinaciones de bi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La Restricción Presupuest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upondremos que hay dos bienes: café (X) y bebidas (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os precios de estos bienes son Px y Py, respectiva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l ingreso monetario es M y se destina sólo al consumo de X e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La Restricción Presupuest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RP se expresará de la siguiente for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Arial"/>
              </a:rPr>
              <a:t>M = Px*X + Py*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uponga que Px = 10, Py =20 y M =1.000 </a:t>
            </a:r>
            <a:r>
              <a:rPr b="0" lang="es-MX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Grafique la RP (Ayuda: hacer X=0, Y=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RP se puede escribir com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Arial"/>
              </a:rPr>
              <a:t>Y = M/Py – (Px/Py)*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pendiente de la RP es (-) la razón de precios de ambos bienes: Px/Py </a:t>
            </a:r>
            <a:r>
              <a:rPr b="0" lang="es-MX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Por Ec. de la Recta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La Restricción Presupuest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052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sta pendiente representa la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tasa marginal de sustitución de mercado (TMS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TMST es la tasa factible o de mercado a la cual el consumidor puede intercambiar X por 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ara determinar el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consumo óptimo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de café y bebidas, debemos combinar las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preferencias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, con las combinaciones factibles u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oportunida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ste punto está dado por la máxima satisfacción que se puede alcanzar, dada la R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La Restricción Presupuesta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Gráficamente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n el punto óptimo de consumo, </a:t>
            </a:r>
            <a:r>
              <a:rPr b="0" i="1" lang="es-MX" sz="2800" spc="-1" strike="noStrike">
                <a:solidFill>
                  <a:srgbClr val="000000"/>
                </a:solidFill>
                <a:latin typeface="Arial"/>
              </a:rPr>
              <a:t>la TMS es igual a la razón de precios de los bienes, es decir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Arial"/>
              </a:rPr>
              <a:t>TMS = - (Px/P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ara termin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¿ Qué pasa si las CI son cóncav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Microeconomía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lase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17:38:23Z</dcterms:created>
  <dc:creator>Facultad de Derecho</dc:creator>
  <dc:description/>
  <dc:language>en-US</dc:language>
  <cp:lastModifiedBy>BCCH</cp:lastModifiedBy>
  <dcterms:modified xsi:type="dcterms:W3CDTF">2008-04-16T14:00:05Z</dcterms:modified>
  <cp:revision>3</cp:revision>
  <dc:subject/>
  <dc:title>Microeconomía Clase 6</dc:title>
</cp:coreProperties>
</file>