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EC1-C1A6-456C-B338-CFDE538D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017-79C4-46FC-B470-58C1D3CC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095-4BB6-4CA3-9513-9A5B0425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74C-ADEE-4937-AC03-0EC2DD85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318-B19A-4C6D-9DB1-E434009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036-6926-4175-A433-4961973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6C4-3297-47F4-9CE3-A4CB54FA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7A4-CB3C-4D07-B43D-888C37C6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43A-EA68-4DA8-833C-15E6BC5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195-BED1-48FD-8117-84893A9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75C-17D4-4DFF-9C6F-84F00B1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C2D-EF6D-461D-B37E-993BE3C5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AFA-D078-4A27-96FD-B764DDEC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é tipos de bienes representan estas 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1928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285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789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213000"/>
            <a:ext cx="936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92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de oferta y demanda visto en las clases previas sirve para responder preguntas a nivel de los mercados de biene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para responder preguntas sobre la toma de decisiones a nivel de personas, necesitamos un modelo del comportamient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que veremos tiene las siguientes prem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gustos o preferencias determinan la cantidad de satisfacción que el individuo obtiene de los bienes y servicios que cons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sumidores tienen restricciones en sus elecciones (nivel de ingre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individuos maximizan su bienestar tomando en cuenta las restricciones que ti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se supone que los consumidores tienen un conjunto de preferencias que usan como guía para tomar su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gustos difieren entr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ación veremos ciertas propiedades que supondremos tienen las preferencias del consumidor. A sab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itud, transitividad y “más es preferido a men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letitud: cuando hay que elegir entre dos combinaciones de bienes A y B, el consumidor es capaz de decidir si prefiere A, B, o es indiferente entre ambas. Es decir, se elimina la posibilidad que el individuo no sea capaz de esco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nsitividad: si A es preferido a B y B es preferido a C, entonces A es preferido a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es preferido a menos: si todo lo demás permanece constante, es mejor tener más de un bien que tener me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forma de resumir la información sobre las preferencias de los individuos es crear una representación gráfic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va de indifere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estra el conjunto de puntos (combinación de bienes) que un consumidor considera igualmente dese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guntando reiteradamente a los consumidores, es posible dibujar u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a de C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es un conjunto completo de CI que resume las preferencias de un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mapas de CI deben cumplir 4 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mbinaciones de bienes más alejadas del origen de coordenadas son preferidas a las más cercanas (más es preferido a me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cada posible combinación de bienes pasa una CI (por completit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no se pueden cortar (demostrar por transitiv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tienen pendiente negativa. (dibujar una CI con pendiente positiva y mostrar que dos puntos en esta CI no son coherentes con la propiedad de “más es preferido a men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representa la pendiente de una 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cantidad máxima de un bien que un consumidor sacrificará para obtener una unidad más de otr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conomía, esta pendiente recibe el nombr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marginal de sustitu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mos que las CI tienen pendiente negativa, pero: son líneas rectas, convexas o cónca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yoría de las CI s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xas al orig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 la gente tiene mucho de un bien, está dispuesta a renunciar a una cantidad relativamente grande para conseguir otro del que tiene relativamente po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357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803200">
            <a:off x="4209840" y="3635280"/>
            <a:ext cx="1439640" cy="1871640"/>
          </a:xfrm>
          <a:custGeom>
            <a:avLst/>
            <a:gdLst/>
            <a:ahLst/>
            <a:rect l="l" t="t" r="r" b="b"/>
            <a:pathLst>
              <a:path w="1248" h="1088">
                <a:moveTo>
                  <a:pt x="23" y="0"/>
                </a:moveTo>
                <a:cubicBezTo>
                  <a:pt x="11" y="295"/>
                  <a:pt x="0" y="590"/>
                  <a:pt x="204" y="771"/>
                </a:cubicBezTo>
                <a:cubicBezTo>
                  <a:pt x="408" y="952"/>
                  <a:pt x="1074" y="1035"/>
                  <a:pt x="124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3:53:52Z</dcterms:created>
  <dc:creator>Hermann</dc:creator>
  <dc:description/>
  <dc:language>en-US</dc:language>
  <cp:lastModifiedBy>Hermann</cp:lastModifiedBy>
  <dcterms:modified xsi:type="dcterms:W3CDTF">2008-04-13T20:42:32Z</dcterms:modified>
  <cp:revision>63</cp:revision>
  <dc:subject/>
  <dc:title>Diapositiva 1</dc:title>
</cp:coreProperties>
</file>