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692-8125-45B4-9E93-F05587AB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5CF-CAF5-4795-AB01-B7A23E92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B13-8D39-4EFF-B74B-17E3D1F9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DE3-05A6-4ACE-B129-328909E4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737-4899-43A5-B93E-19AF3C4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7CE-EA14-4FF4-9EB3-1F68DD2B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1D1-A962-443E-B027-AF1C0F60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4C4-8FB5-40FE-A38E-4E4C06A8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A9C-84E7-4954-9807-249C012D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403-2F80-4887-A984-44F5E28C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F03-ECD8-430B-BC40-41C64AB4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4D9-7B85-4E93-A3A8-F28CCDDC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F8A0-8B13-4B47-B88C-525E05054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é tipos de bienes representan estas 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19280" y="2923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35640" y="285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501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494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789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213000"/>
            <a:ext cx="936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4292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50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0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38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de oferta y demanda visto en las clases previas sirve para responder preguntas a nivel de los mercados de bienes y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para responder preguntas sobre la toma de decisiones a nivel de personas, necesitamos un modelo del comportamient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que veremos tiene las siguientes premi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gustos o preferencias determinan la cantidad de satisfacción que el individuo obtiene de los bienes y servicios que cons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nsumidores tienen restricciones en sus elecciones (nivel de ingres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individuos maximizan su bienestar tomando en cuenta las restricciones que tie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general, se supone que los consumidores tienen un conjunto de preferencias que usan como guía para tomar su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s gustos difieren entre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ación veremos ciertas propiedades que supondremos tienen las preferencias del consumidor. A sab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itud, transitividad y “más es preferido a meno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letitud: cuando hay que elegir entre dos combinaciones de bienes A y B, el consumidor es capaz de decidir si prefiere A, B, o es indiferente entre ambas. Es decir, se elimina la posibilidad que el individuo no sea capaz de esco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nsitividad: si A es preferido a B y B es preferido a C, entonces A es preferido a 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es preferido a menos: si todo lo demás permanece constante, es mejor tener más de un bien que tener me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forma de resumir la información sobre las preferencias de los individuos es crear una representación gráfica de e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va de indiferen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estra el conjunto de puntos (combinación de bienes) que un consumidor considera igualmente dese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guntando reiteradamente a los consumidores, es posible dibujar u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a de C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 es un conjunto completo de CI que resume las preferencias de un consum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los mapas de CI deben cumplir 4 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mbinaciones de bienes más alejadas del origen de coordenadas son preferidas a las más cercanas (más es preferido a me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cada posible combinación de bienes pasa una CI (por completitu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no se pueden cortar (demostrar por transitiv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tienen pendiente negativa. (dibujar una CI con pendiente positiva y mostrar que dos puntos en esta CI no son coherentes con la propiedad de “más es preferido a men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representa la pendiente de una 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 la cantidad máxima de un bien que un consumidor sacrificará para obtener una unidad más de otro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conomía, esta pendiente recibe el nombr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marginal de sustitu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mos que las CI tienen pendiente negativa, pero: son líneas rectas, convexas o cóncav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mayoría de las CI s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xas al orig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 la gente tiene mucho de un bien, está dispuesta a renunciar a una cantidad relativamente grande para conseguir otro del que tiene relativamente po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708360" y="3573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803200">
            <a:off x="4209840" y="3635280"/>
            <a:ext cx="1439640" cy="1871640"/>
          </a:xfrm>
          <a:custGeom>
            <a:avLst/>
            <a:gdLst/>
            <a:ahLst/>
            <a:rect l="l" t="t" r="r" b="b"/>
            <a:pathLst>
              <a:path w="1248" h="1088">
                <a:moveTo>
                  <a:pt x="23" y="0"/>
                </a:moveTo>
                <a:cubicBezTo>
                  <a:pt x="11" y="295"/>
                  <a:pt x="0" y="590"/>
                  <a:pt x="204" y="771"/>
                </a:cubicBezTo>
                <a:cubicBezTo>
                  <a:pt x="408" y="952"/>
                  <a:pt x="1074" y="1035"/>
                  <a:pt x="1248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4560" y="51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23:53:52Z</dcterms:created>
  <dc:creator>Hermann</dc:creator>
  <dc:description/>
  <dc:language>en-US</dc:language>
  <cp:lastModifiedBy>Hermann</cp:lastModifiedBy>
  <dcterms:modified xsi:type="dcterms:W3CDTF">2008-04-13T20:42:32Z</dcterms:modified>
  <cp:revision>63</cp:revision>
  <dc:subject/>
  <dc:title>Diapositiva 1</dc:title>
</cp:coreProperties>
</file>