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C45F-7B54-4436-AD8E-D19E21F8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FA8-22E8-4E28-896D-EECE58C9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9CFD-E885-4A95-8DBF-A5AD5197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A80-9CD6-43B5-ADD9-F37E6B41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AFEB-FA65-4481-B23C-6554E399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B1E-302A-4B80-803E-E5F67767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92B-F7C8-41AB-84EA-272724FB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7B2-02F9-42EA-AF10-30744195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EFB-8CF0-4BE8-9A8E-8C2EE84B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73E-8A16-48E2-A808-3C694B3C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F28-97DF-4D55-AD26-24ADEFF7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2416-79F0-4B42-BB0C-9F710406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1CE5-13D3-4A29-A3DF-5AA31CA64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rivación de la curva de dem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partir del enfoque visto en clases anteriores, es posible derivar la curva de dema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urva de demanda muestra combinaciones de consumo óptimo (proveniente de un proceso de maximización sujeto a RP) para distintos precios de un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emos visto que el individuo elige una combinación óptima de bienes eligiendo el punto en la curva de indiferencia más alta que toca a su restricción presupuesta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rivación de la curva de dem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derivar una curva de demanda, debemos preguntarnos cómo cambia la cantidad consumida de un bien cuando se modifica su precio rel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r ejemplo, cómo se modifica el equilibrio si aumenta Px/Py por un aumento de P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efecto es sobre la RP. En particular, dado Py y M, disminuye el consumo de x, dado su mayor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decir, vemos que un aumento de Px reduce la cantidad demandada de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rivación de la curva de dem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 hacemos este ejercicio sucesivas veces, obtenemos distintas combinaciones de Px/Py y consumo del bien x, lo que da origen a la curva de dema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Cómo se modifica el equilibrio del consumidor si cambia su ingres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: Se desplaza paralelamente la RP. Si se trata de bienes normales, el individuo podrá consumir más a los mismos precios. La curva de demanda se despla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conoce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rva de Enge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 relación entre la cantidad demandada de un bien y la renta, manteniendo constantes los prec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vimos, cuando disminuye el precio relativo de un bien, su consumo aumenta (y vicever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efecto se puede descomponer en dos: efecto sustitución y efecto r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uitivamente: un cambio en el precio hace que el individuo sustituya el bien que se encarece relativamente. Esto se conoce como efecto sustitución y tiene un signo claro: neg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o este no es el único efecto que genera un cambio en el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segundo efecto que genera un cambio de precio es un ajuste en el ingreso real del individuo (M/P) que es lo que genera el llamado efecto renta o ingr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 el mayor precio de uno de los bienes que consume el individuo, su poder adquisitivo se reduce en términos re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impacto del efecto renta no tiene un signo claro: si el bien es normal, el efecto renta operará en la misma dirección que el efecto sustitución, mientras que si es un bien inferior, lo hará en sentido contr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V="1">
            <a:off x="2268360" y="141264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4797360"/>
            <a:ext cx="417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1700280"/>
            <a:ext cx="331164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1700280"/>
            <a:ext cx="115128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3284640"/>
            <a:ext cx="15829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2997360"/>
            <a:ext cx="1224000" cy="1511280"/>
          </a:xfrm>
          <a:custGeom>
            <a:avLst/>
            <a:gdLst/>
            <a:ahLst/>
            <a:rect l="l" t="t" r="r" b="b"/>
            <a:pathLst>
              <a:path w="726" h="952">
                <a:moveTo>
                  <a:pt x="726" y="952"/>
                </a:moveTo>
                <a:cubicBezTo>
                  <a:pt x="514" y="918"/>
                  <a:pt x="302" y="885"/>
                  <a:pt x="181" y="726"/>
                </a:cubicBezTo>
                <a:cubicBezTo>
                  <a:pt x="60" y="567"/>
                  <a:pt x="30" y="12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2133720"/>
            <a:ext cx="1224000" cy="1511280"/>
          </a:xfrm>
          <a:custGeom>
            <a:avLst/>
            <a:gdLst/>
            <a:ahLst/>
            <a:rect l="l" t="t" r="r" b="b"/>
            <a:pathLst>
              <a:path w="726" h="952">
                <a:moveTo>
                  <a:pt x="726" y="952"/>
                </a:moveTo>
                <a:cubicBezTo>
                  <a:pt x="514" y="918"/>
                  <a:pt x="302" y="885"/>
                  <a:pt x="181" y="726"/>
                </a:cubicBezTo>
                <a:cubicBezTo>
                  <a:pt x="60" y="567"/>
                  <a:pt x="30" y="12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3357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4292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38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36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119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27120" y="6021360"/>
            <a:ext cx="3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3640" y="5661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39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036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200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22936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aumenta PX/PY el efecto total es el paso de A a C. Sin embargo, si solo aislamos el efecto renta (manteniendo los precios constantes) el cambio sería de A a B, este es el efecto renta. El paso de B a C representa el efecto sustitución por el cambio en los precios relativos. En este caso, ambos efectos operan en la misma dirección, por lo que X es un bien norm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ocurre, en el caso de un bien inferior, si el efecto renta supera al efecto sustitu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: Ante un aumento del precio del bien, su consumo aumenta, es decir, la curva de demanda tiene pendiente positiv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este ocurre se habla de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en Giffe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e es un caso teórico. En la mayoría de los bienes inferiores el efecto renta no supera al efectos sustitución, lo que lleva a que normalmente las curvas de demanda tengan pendiente neg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7:38:23Z</dcterms:created>
  <dc:creator>Facultad de Derecho</dc:creator>
  <dc:description/>
  <dc:language>en-US</dc:language>
  <cp:lastModifiedBy>Hermann</cp:lastModifiedBy>
  <dcterms:modified xsi:type="dcterms:W3CDTF">2008-04-18T05:10:46Z</dcterms:modified>
  <cp:revision>12</cp:revision>
  <dc:subject/>
  <dc:title>Microeconomía Clase 6</dc:title>
</cp:coreProperties>
</file>