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8B48-0FF5-435D-9D16-3AB0997D4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0468-6A9A-46CE-8DB3-38574CAF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9A45-8A7F-4763-AF5A-554677DAE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F704-EBC6-4493-8D5A-41D1924DA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1D21-4D10-47C6-B4DC-DD3DD880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C165-283B-4FFE-A0AE-5173906F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7BFB-38A8-476E-BBB0-CB65E0A8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4A0C-9D3B-4521-B44E-5FC81C68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9FDE-9AAF-48AB-BEFB-C4B6A739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4BCE-AF51-4803-99E7-D3FAF188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42AA-E43D-4697-AD5C-75CDE1A6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36B2-AB77-42AE-A1B6-F2AD3270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E457-E265-4F10-BC65-5B3F68895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icroeconomía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lase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Derivación de la curva de dema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 partir del enfoque visto en clases anteriores, es posible derivar la curva de dema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curva de demanda muestra combinaciones de consumo óptimo (proveniente de un proceso de maximización sujeto a RP) para distintos precios de un bi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Hemos visto que el individuo elige una combinación óptima de bienes eligiendo el punto en la curva de indiferencia más alta que toca a su restricción presupuestar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Derivación de la curva de dema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a derivar una curva de demanda, debemos preguntarnos cómo cambia la cantidad consumida de un bien cuando se modifica su precio rel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or ejemplo, cómo se modifica el equilibrio si aumenta Px/Py por un aumento de Px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efecto es sobre la RP. En particular, dado Py y M, disminuye el consumo de x, dado su mayor pre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 decir, vemos que un aumento de Px reduce la cantidad demandada de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Derivación de la curva de dema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i hacemos este ejercicio sucesivas veces, obtenemos distintas combinaciones de Px/Py y consumo del bien x, lo que da origen a la curva de dema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¿Cómo se modifica el equilibrio del consumidor si cambia su ingres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: Se desplaza paralelamente la RP. Si se trata de bienes normales, el individuo podrá consumir más a los mismos precios. La curva de demanda se despla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conoce com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urva de Enge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la relación entre la cantidad demandada de un bien y la renta, manteniendo constantes los preci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fectos renta y sustitu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o vimos, cuando disminuye el precio relativo de un bien, su consumo aumenta (y vicevers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 efecto se puede descomponer en dos: efecto sustitución y efecto re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uitivamente: un cambio en el precio hace que el individuo sustituya el bien que se encarece relativamente. Esto se conoce como efecto sustitución y tiene un signo claro: neg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o este no es el único efecto que genera un cambio en el pre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fectos renta y sustitu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segundo efecto que genera un cambio de precio es un ajuste en el ingreso real del individuo (M/P) que es lo que genera el llamado efecto renta o ingre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do el mayor precio de uno de los bienes que consume el individuo, su poder adquisitivo se reduce en términos re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impacto del efecto renta no tiene un signo claro: si el bien es normal, el efecto renta operará en la misma dirección que el efecto sustitución, mientras que si es un bien inferior, lo hará en sentido contr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flipV="1">
            <a:off x="2268360" y="1412640"/>
            <a:ext cx="0" cy="33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8360" y="4797360"/>
            <a:ext cx="417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68360" y="1700280"/>
            <a:ext cx="331164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68360" y="1700280"/>
            <a:ext cx="115128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3284640"/>
            <a:ext cx="158292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16360" y="2997360"/>
            <a:ext cx="1224000" cy="1511280"/>
          </a:xfrm>
          <a:custGeom>
            <a:avLst/>
            <a:gdLst/>
            <a:ahLst/>
            <a:rect l="l" t="t" r="r" b="b"/>
            <a:pathLst>
              <a:path w="726" h="952">
                <a:moveTo>
                  <a:pt x="726" y="952"/>
                </a:moveTo>
                <a:cubicBezTo>
                  <a:pt x="514" y="918"/>
                  <a:pt x="302" y="885"/>
                  <a:pt x="181" y="726"/>
                </a:cubicBezTo>
                <a:cubicBezTo>
                  <a:pt x="60" y="567"/>
                  <a:pt x="30" y="12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08360" y="2133720"/>
            <a:ext cx="1224000" cy="1511280"/>
          </a:xfrm>
          <a:custGeom>
            <a:avLst/>
            <a:gdLst/>
            <a:ahLst/>
            <a:rect l="l" t="t" r="r" b="b"/>
            <a:pathLst>
              <a:path w="726" h="952">
                <a:moveTo>
                  <a:pt x="726" y="952"/>
                </a:moveTo>
                <a:cubicBezTo>
                  <a:pt x="514" y="918"/>
                  <a:pt x="302" y="885"/>
                  <a:pt x="181" y="726"/>
                </a:cubicBezTo>
                <a:cubicBezTo>
                  <a:pt x="60" y="567"/>
                  <a:pt x="30" y="12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95640" y="335772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48000" y="4292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59280" y="3860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360" y="49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7640" y="1197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27120" y="6021360"/>
            <a:ext cx="34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63640" y="5661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3933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40360" y="292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2000" y="3500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229360"/>
            <a:ext cx="84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ando aumenta PX/PY el efecto total es el paso de A a C. Sin embargo, si solo aislamos el efecto renta (manteniendo los precios constantes) el cambio sería de A a B, este es el efecto renta. El paso de B a C representa el efecto sustitución por el cambio en los precios relativos. En este caso, ambos efectos operan en la misma dirección, por lo que X es un bien norm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Efectos renta y sustitu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fectos renta y sustitu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é ocurre, en el caso de un bien inferior, si el efecto renta supera al efecto sustitu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: Ante un aumento del precio del bien, su consumo aumenta, es decir, la curva de demanda tiene pendiente positiva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ando este ocurre se habla de un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ien Giffe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e es un caso teórico. En la mayoría de los bienes inferiores el efecto renta no supera al efectos sustitución, lo que lleva a que normalmente las curvas de demanda tengan pendiente neg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icroeconomía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lase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7:38:23Z</dcterms:created>
  <dc:creator>Facultad de Derecho</dc:creator>
  <dc:description/>
  <dc:language>en-US</dc:language>
  <cp:lastModifiedBy>Hermann</cp:lastModifiedBy>
  <dcterms:modified xsi:type="dcterms:W3CDTF">2008-04-18T05:10:46Z</dcterms:modified>
  <cp:revision>12</cp:revision>
  <dc:subject/>
  <dc:title>Microeconomía Clase 6</dc:title>
</cp:coreProperties>
</file>