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4F7-25E7-41CE-A414-1FE227EB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8BD-BAEC-44BF-8E46-890BD77E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B49-61BD-4F34-8BBF-440D8B4C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4DF-71D5-4DF1-88E6-6C6B72C1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29F-0AFC-4A45-912B-C86625B2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7C8-71BE-4224-8009-E68DEA38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341-EA6F-4962-A070-3645C353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BCA-0AF5-408A-B0EF-64445C6E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478-EDDA-40B8-A8C0-E6B2689B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D14A-F1A4-4C81-910E-C2288B07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BE5-7FBF-47AC-A4AA-64AF1E8E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167-502A-43A2-AB99-551E9A48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D86C-7A34-4FF2-A491-B6DA9D6EB7F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l Óptimo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Restricción Presupues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un individuo se enfrenta a la decisión de elegir entre dos bienes: cuánto elige de cada u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De qué depende la respues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pende de: las preferencias y de la disponibilidad de recur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P representa el monto del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ingreso M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del que dispone el consumidor durante el período bajo estudio, teniendo en cuenta los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precio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que debe pagar para obtener diferentes combinaciones de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Restricción Presupues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pondremos que hay dos bienes: café (X) y bebidas (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os precios de estos bienes son Px y Py, respectiv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ingreso monetario es M y se destina sólo al consumo de X e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Restricción Presupues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P se expresará de la siguiente 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M = Px*X + Py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ponga que Px = 10, Py =20 y M =1.000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Grafique la RP (Ayuda: hacer X=0, Y=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P se puede escribir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Y = M/Py – (Px/Py)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pendiente de la RP es (-) la razón de precios de ambos bienes: Px/Py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Por Ec. de la Recta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Restricción Presupues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052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a pendiente representa la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tasa marginal de sustitución de mercado (TMS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TMST es la tasa factible o de mercado a la cual el consumidor puede intercambiar X por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determinar el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consumo óptim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de café y bebidas, debemos combinar las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preferencia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, con las combinaciones factibles u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oportunida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e punto está dado por la máxima satisfacción que se puede alcanzar, dada la 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Restricción Presupues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áficament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 el punto óptimo de consumo, 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la TMS es igual a la razón de precios de los bienes, es decir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TMS = - (Px/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termin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 Qué pasa si las CI son cóncav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7:38:23Z</dcterms:created>
  <dc:creator>Facultad de Derecho</dc:creator>
  <dc:description/>
  <dc:language>en-US</dc:language>
  <cp:lastModifiedBy>BCCH</cp:lastModifiedBy>
  <dcterms:modified xsi:type="dcterms:W3CDTF">2008-04-16T14:00:05Z</dcterms:modified>
  <cp:revision>3</cp:revision>
  <dc:subject/>
  <dc:title>Microeconomía Clase 6</dc:title>
</cp:coreProperties>
</file>