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95A-5EC1-437E-B9AC-CC88E0B0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232-DF15-4374-8B2D-C368C6E8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EA2-7D18-4F0E-BC34-FACD35B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2A0-273A-4317-885E-AAE8142E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C28-F332-47EF-80AD-8D0040E3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5E4-3566-46AE-9861-B9C6604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9A5-5CB8-45EF-82D1-FB8AC27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2E5-B57F-4216-AA5B-F5E663D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7EB-AF5C-4CAF-B08C-ADD4A83F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849-8868-4AAD-BB86-07E4EEA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D8A-10A6-4BF9-9668-D325F30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AC4-D232-457B-831B-A112DE6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0138-6074-4A2A-A502-D7B76B3838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un individuo se enfrenta a la decisión de elegir entre dos bienes: cuánto elige de cada 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De qué depende la respue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pende de: las preferencias y de la disponibilidad de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representa el monto d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greso 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l que dispone el consumidor durante el período bajo estudio, teniendo en cuenta lo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cio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que debe pagar para obtener diferentes combinaciones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dremos que hay dos bienes: café (X) y bebidas (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precios de estos bienes son Px y Py, respec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ingreso monetario es M y se destina sólo al consumo de X 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expresará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M = Px*X + Py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ga que Px = 10, Py =20 y M =1.000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Grafique la RP (Ayuda: hacer X=0, Y=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Y = M/Py – (Px/Py)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endiente de la RP es (-) la razón de precios de ambos bienes: Px/Py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Por Ec. de la Rect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52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 pendiente represent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tasa marginal de sustitución de mercado (TMS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MST es la tasa factible o de mercado a la cual el consumidor puede intercambiar X por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determinar 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umo óptim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café y bebidas, debemos combinar 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ferencia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con las combinaciones factibles u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portuni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e punto está dado por la máxima satisfacción que se puede alcanzar, dad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áficame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el punto óptimo de consumo,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TMS es igual a la razón de precios de los bienes, es deci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TMS = - (Px/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termin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Qué pasa si las CI son cónca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BCCH</cp:lastModifiedBy>
  <dcterms:modified xsi:type="dcterms:W3CDTF">2008-04-16T14:00:05Z</dcterms:modified>
  <cp:revision>3</cp:revision>
  <dc:subject/>
  <dc:title>Microeconomía Clase 6</dc:title>
</cp:coreProperties>
</file>