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F6C-5516-4FF0-B4FC-7E5D548AE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C9C5-6E98-4F22-ABBA-9E71A99E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77C9-CF8B-4722-8652-06648C53D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FCE8-6F3F-457D-9A44-4D42C495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F4EE-383E-4EAF-AD9A-76889A16E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A9DB-0C02-4B77-A0A1-FFB47FB6D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8AA-C5D6-4896-9596-3707210C8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C701-CFDB-4B96-B66C-CB1FD487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66F-5008-4573-80B0-83E715C5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2771-B827-4654-A377-8076F038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80F4-49B5-45C7-B889-63AC3388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857-5D5E-42BE-BFFE-4B5AAD672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79F8-30C0-4ECB-AA1B-1FABA69AF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9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é tipos de bienes representan estas C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619280" y="292392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435640" y="2852280"/>
            <a:ext cx="0" cy="20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19280" y="5013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35640" y="494172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619280" y="3789360"/>
            <a:ext cx="64908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3213000"/>
            <a:ext cx="93672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19280" y="429264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867280" y="450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06864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00720" y="414972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732720" y="299736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32720" y="38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59280" y="2781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42920" y="2924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9236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08720" y="50846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econom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de oferta y demanda visto en las clases previas sirve para responder preguntas a nivel de los mercados de bienes y servic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 embargo, para responder preguntas sobre la toma de decisiones a nivel de personas, necesitamos un modelo del comportamiento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odelo que veremos tiene las siguientes premi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ción del consumi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gustos o preferencias determinan la cantidad de satisfacción que el individuo obtiene de los bienes y servicios que consu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consumidores tienen restricciones en sus elecciones (nivel de ingres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individuos maximizan su bienestar tomando en cuenta las restricciones que tie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general, se supone que los consumidores tienen un conjunto de preferencias que usan como guía para tomar su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os gustos difieren entre perso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tinuación veremos ciertas propiedades que supondremos tienen las preferencias del consumidor. A saber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letitud, transitividad y “más es preferido a menos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Completitud: cuando hay que elegir entre dos combinaciones de bienes A y B, el consumidor es capaz de decidir si prefiere A, B, o es indiferente entre ambas. Es decir, se elimina la posibilidad que el individuo no sea capaz de esco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Transitividad: si A es preferido a B y B es preferido a C, entonces A es preferido a 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ás es preferido a menos: si todo lo demás permanece constante, es mejor tener más de un bien que tener me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forma de resumir la información sobre las preferencias de los individuos es crear una representación gráfica de ell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urva de indiferencia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muestra el conjunto de puntos (combinación de bienes) que un consumidor considera igualmente deseab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guntando reiteradamente a los consumidores, es posible dibujar u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a de CI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que es un conjunto completo de CI que resume las preferencias de un consumid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os los mapas de CI deben cumplir 4 propiedad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ombinaciones de bienes más alejadas del origen de coordenadas son preferidas a las más cercanas (más es preferido a men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r cada posible combinación de bienes pasa una CI (por completitu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no se pueden cortar (demostrar por transitividad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CI tienen pendiente negativa. (dibujar una CI con pendiente positiva y mostrar que dos puntos en esta CI no son coherentes con la propiedad de “más es preferido a meno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é representa la pendiente de una C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 la cantidad máxima de un bien que un consumidor sacrificará para obtener una unidad más de otro bi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economía, esta pendiente recibe el nombre 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ación marginal de sustitu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bemos que las CI tienen pendiente negativa, pero: son líneas rectas, convexas o cóncav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fere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a mayoría de las CI son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vexas al orige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ando la gente tiene mucho de un bien, está dispuesta a renunciar a una cantidad relativamente grande para conseguir otro del que tiene relativamente po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550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708360" y="357300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20803200">
            <a:off x="4209840" y="3635280"/>
            <a:ext cx="1439640" cy="1871640"/>
          </a:xfrm>
          <a:custGeom>
            <a:avLst/>
            <a:gdLst/>
            <a:ahLst/>
            <a:rect l="l" t="t" r="r" b="b"/>
            <a:pathLst>
              <a:path w="1248" h="1088">
                <a:moveTo>
                  <a:pt x="23" y="0"/>
                </a:moveTo>
                <a:cubicBezTo>
                  <a:pt x="11" y="295"/>
                  <a:pt x="0" y="590"/>
                  <a:pt x="204" y="771"/>
                </a:cubicBezTo>
                <a:cubicBezTo>
                  <a:pt x="408" y="952"/>
                  <a:pt x="1074" y="1035"/>
                  <a:pt x="1248" y="10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132000" y="350028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16720" y="580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67280" y="4005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486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6000" y="4869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54560" y="5157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23:53:52Z</dcterms:created>
  <dc:creator>Hermann</dc:creator>
  <dc:description/>
  <dc:language>en-US</dc:language>
  <cp:lastModifiedBy>Hermann</cp:lastModifiedBy>
  <dcterms:modified xsi:type="dcterms:W3CDTF">2008-04-13T20:42:32Z</dcterms:modified>
  <cp:revision>63</cp:revision>
  <dc:subject/>
  <dc:title>Diapositiva 1</dc:title>
</cp:coreProperties>
</file>