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sldImg"/>
          </p:nvPr>
        </p:nvSpPr>
        <p:spPr>
          <a:xfrm>
            <a:off x="1104840" y="812880"/>
            <a:ext cx="5345280" cy="40053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2CAE6B-A738-410A-8023-789D80B8D52E}"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9726E-449A-4CB0-95A4-71A8D059E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60CE2-AE02-4CC5-BFEA-814C2C9F5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F22F3-8CC9-4ED5-8B76-656D29A4F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854A8-D148-44D6-A9E9-EB8F4667F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87E2A-F269-4C1A-A282-146F5BB86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5650-F952-4202-ADFA-C10781E3A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C63D-308B-4E84-B6ED-BB05B0D4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EB64-A4FB-45BB-9CFB-63A7E00C5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61720"/>
            <a:ext cx="9067680" cy="6210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AF6C8-D4F7-44FE-A151-AE69BA2A0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F1C5-235A-4475-8A84-82B9E8CB9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857C-1033-4FD1-A557-693B49E47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434A-08FE-4C03-A641-98D0ACB20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69F26D-2562-43CB-B08F-C3E35DA1058B}"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9600"/>
            <a:ext cx="9070920" cy="1341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ORIENTACIÓN BIOLÓGICA</a:t>
            </a:r>
            <a:endParaRPr b="1" lang="en-US" sz="4400" spc="-1" strike="noStrike">
              <a:solidFill>
                <a:srgbClr val="f57900"/>
              </a:solidFill>
              <a:latin typeface="Bitstream Vera Sans"/>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Antro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Neo-lombrosianismo (Nueva antropologí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Endocrin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Bio-Ti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Cito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Neurofisiología</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Bioquímica</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120"/>
            <a:ext cx="90709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Neurofisiología</a:t>
            </a:r>
            <a:endParaRPr b="1" lang="en-US" sz="4400" spc="-1" strike="noStrike">
              <a:solidFill>
                <a:srgbClr val="f57900"/>
              </a:solidFill>
              <a:latin typeface="Bitstream Vera Sans"/>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Anomalías en el registro electro-encefalográf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huterland menciona varios estudios al respecto, sin rsultados concluyentes (algunos infroman en casi todos los delinucentes examinados electroencefalogramas (EEG) anormales, mientras en otros no informaron de diferencias significativas entre delincuentes y no delincuente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os reparos a estos estudios que pretenden establecer relaciones entre anormales EEG y delito se pueden resumir en:</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rigen de la anomalía: La anomalía es anterior al delito o producto de la “Institución total” (efecto del encarcelamiento?)</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Respuesta Diferenci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Falta de coincidencia en los hallazgos</a:t>
            </a: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nomalías en el Sistema Nervioso Autónomo (H.J.Eysenck)</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NA escapa al control de la voluntad (ritmo cardiaco, dilatación pupilas, sudoración,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 ser de base autonómicas las reacciones de temor, huída o evitación ellas se pueden emplear para medir p.ej. veracidad – dichas técnicas se basan  en la ansiedad conexa al descubrimiento de una falsedad – (anticipación del castig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3" name="PlaceHolder 2"/>
          <p:cNvSpPr>
            <a:spLocks noGrp="1"/>
          </p:cNvSpPr>
          <p:nvPr>
            <p:ph/>
          </p:nvPr>
        </p:nvSpPr>
        <p:spPr>
          <a:xfrm>
            <a:off x="502920" y="1767960"/>
            <a:ext cx="9070920" cy="500220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ysenck: Predominio de la inhibición y el estigma de los extravertid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rendizaje y condicionamiento serían procesos diferenciados. Mientras en el primero interviene el S.N.C. donde el refuerzo o recompensa nos hace progresar en el proceso, en el segundo domina el S.N.A. donde interviene la contiguidad entre los estimulos y las consecuencias negativa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ysenck estima que el comportamiento moral es condicionado y no aprendido. En este proceso de condicionamiento (socialización), tendrían importancia básica las funciones de excitación e inhibición de la corteza cerebral, que el autor relaciona con los tipos psicológicos de Karl. O. Jung de “introvertido” (predominancia de la excitación)  y “extrovertido” (predominio de la inhibición). De ello concluye:</a:t>
            </a: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xravertidos por su alto potencial de inhibición experimentan menor ansiedad-temor ante las consecuencias de sus actos y por ello se condicionan dificilmente</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Como los extrav. tienen mayor necesidad de estimulación, pueden participar con frecuencia en actividades peligrosas o prohibidas sin que surjan vivencias anticipadas de angustia o mied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xtrav. cometen con frecuencia actos impulsivos en búsqueda de placer inmediat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 Que la psicopatía se asocia a fuerte extroversión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 Los extrav. (mayor potencial de inhibición) soportan mejor el dolor físico que los introvertidos y que éstos (con mayor potencial de excitación) soportan mejor la privación sensorial.</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arnoff A.Mednick, entre otros autores, insisten en otra peculiaridad del S.N.A. que operaría en esta “inclinación” al delito: el </a:t>
            </a:r>
            <a:r>
              <a:rPr b="1" lang="en-GB" sz="1500" spc="-1" strike="noStrike">
                <a:solidFill>
                  <a:srgbClr val="000000"/>
                </a:solidFill>
                <a:latin typeface="Times New Roman"/>
              </a:rPr>
              <a:t>bajo nivel de la “Skin Conductance Recovery Response” S.C.R. o tiempo de recuperación de la conductancia de la piel.</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ara este autor en el aprendizaje del respeto a la ley sería básica la reacción de miedo, en la medida que la reacción es INHIBIDA el temor comienza a reducirs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respuesta al temor, señala, es en gran medida controlada por el S.N.A.: si éste se recobra muy despacio, </a:t>
            </a:r>
            <a:r>
              <a:rPr b="1" lang="en-GB" sz="1500" spc="-1" strike="noStrike">
                <a:solidFill>
                  <a:srgbClr val="000000"/>
                </a:solidFill>
                <a:latin typeface="Times New Roman"/>
              </a:rPr>
              <a:t>el refuerzo será lento y pequeño</a:t>
            </a:r>
            <a:r>
              <a:rPr b="0" lang="en-GB" sz="1500" spc="-1" strike="noStrike">
                <a:solidFill>
                  <a:srgbClr val="000000"/>
                </a:solidFill>
                <a:latin typeface="Times New Roman"/>
              </a:rPr>
              <a:t>, y se aprenderá muy lentamente a inhibir respuestas agresivas, si es que se da tal aprendizaj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dicadores de la actividad del S.N.A. y de la velocidad con que se recupera de períodos de desequilibrio son la velocidad de los latidos del corazón, la presión arterial y la conductividad de la piel, entre otros.</a:t>
            </a:r>
            <a:endParaRPr b="0"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Bioquímica</a:t>
            </a:r>
            <a:endParaRPr b="1" lang="en-US" sz="4400" spc="-1" strike="noStrike">
              <a:solidFill>
                <a:srgbClr val="f57900"/>
              </a:solidFill>
              <a:latin typeface="Bitstream Vera Sans"/>
            </a:endParaRPr>
          </a:p>
        </p:txBody>
      </p:sp>
      <p:sp>
        <p:nvSpPr>
          <p:cNvPr id="7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vestigaciones modernas en bioquímica tiene un alcance más general que las revisadas en endocrinología, pues se estudia no sólo el efecto de las hormonas, sino el impacto en el psiquismo normal y patológico de todas las infinitas operaciones de base química que tiene lugar en el organismo.  (** Metabolismo es el conjunto de transformaciones físicas, químicas y biológicas que en un ser vivo, experimentan las sustancias que en él se forman o que son introducid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nuestro organismo recibe cuanto requiere – sin carencia ni exceso – y la metabolización de las sustancias es adecuada, tendremos lo que Wolff denomina “base química de la normalidad psíquica”. En caso inverso existirá una patología metabólica y es posible se observe una base bioquímica para alteraciones psíquicas o un comportamiento antisocial. (nota: recuérdese que muchos trastornos psíquicos y /o conductuales en la actualidad son tratados a base de químicos, p.ej. reserpina, barbitúricos, etc. - en el caso de la depresión, ezquizofrenia, neurosis, etc.</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fecto del hambr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vitaminosi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Hipoglucemia</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lomo, Mercurio, cadmio, gases inorgánic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ergias a ciertos alimentos</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9" name="PlaceHolder 2"/>
          <p:cNvSpPr>
            <a:spLocks noGrp="1"/>
          </p:cNvSpPr>
          <p:nvPr>
            <p:ph/>
          </p:nvPr>
        </p:nvSpPr>
        <p:spPr>
          <a:xfrm>
            <a:off x="502920" y="1768320"/>
            <a:ext cx="9070920" cy="499752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l alcoho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H3-CH3-OH) El etanol produce efectos peculiares en su doble aspecto de fármaco y de alimento.</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alimento pues cumple con alguna de las tres funciones a ellos asociadas (formación de nuevas células, regulación de procesos metabólicos o suministro de calori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droga por ser una sustancia que al ser introducida en un organismo vivo, modifica una o más de sus funciones.</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fecto principal a nivel de S.N.C. en pequeñas cantidades produce una depresión leve del S.N.C. que provoca a su vez euforia, deshinibición, aumento del deseo sexual. En grandes cantidades provocará depresión marcada del S.N.C. y efectos graves que pueden llevar al coma y a la muerte</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pesar de ser discutible la relación alcohol – delito, es innegable la intervención en muchos delitos graves de la alcoholización del delincuente o víctima como un factor “NECESARIO” (recuérdese lo visto acerca de Suficiencia y Necesariedad) que junto a otros elementos socioculturales favoreció el comportamiento crimin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j.Autores de homicidio 42,83% se encontraba bajo la influencia del alcohol. Víctimas 63,76% se encontraban en igual condición y un 25,81% de delitos se cometieron en bares, restaurantes, cantinas o inmediaciones. (González B. Marco Aurelio, “Alcohol, drogas y criminalidad en Chile”, en Anales del III Symposium Internacional de Criminología, Sao Paulo, 1976.)</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tras Drogas. Estupefacientes. Psicotrópic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ipo opiáceo (opio, morfina, heroína, papaverina, codeína, tebaína, metadona, etc.), tipo Cocaína (Cocaína y hojas de coca), tipo Alucinógeno (Dietilamida del ácido lisérgico, mescalina, psilocibina) y del tipo cannabi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uede existir una relación indirecta o directa entre consumo y uso abusivo de drogas y delito, p.ej. Relación indirecta supone la comisión de delitos como medio para financiar la adquisición de drogas. La relación directa, por el contrario, supone que el delito común no se habría cometido de no haberse consumido la droga, sea porque: a) la droga produjo un daño intrínseco en la psíquis del sujeto o b) potenció elementos patológicos, fueran ellos congénitos o producto de una socialización inadecuada o “diferencia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ás alla de profundizar entre las relaciones “uso indebido de drogas” - Delito”, podemos decir:</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Que el uso abusivo de drogas provoca ciertamente un desequilibrio químico en el organismo sobre cuyos matices no podemos pronunciarnos. A lo más podemos expresar, en la esfera de nuestra competencia que se provoca excitación o depresión anormales del S.N.C. con resultado de descompensación psico-fisiológica.</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1) Antropología Criminal</a:t>
            </a:r>
            <a:endParaRPr b="1" lang="en-US" sz="4400" spc="-1" strike="noStrike">
              <a:solidFill>
                <a:srgbClr val="f57900"/>
              </a:solidFill>
              <a:latin typeface="Bitstream Vera Sans"/>
            </a:endParaRPr>
          </a:p>
        </p:txBody>
      </p:sp>
      <p:sp>
        <p:nvSpPr>
          <p:cNvPr id="53" name="PlaceHolder 2"/>
          <p:cNvSpPr>
            <a:spLocks noGrp="1"/>
          </p:cNvSpPr>
          <p:nvPr>
            <p:ph/>
          </p:nvPr>
        </p:nvSpPr>
        <p:spPr>
          <a:xfrm>
            <a:off x="502920" y="1767960"/>
            <a:ext cx="9070920" cy="5007240"/>
          </a:xfrm>
          <a:prstGeom prst="rect">
            <a:avLst/>
          </a:prstGeom>
          <a:noFill/>
          <a:ln w="0">
            <a:noFill/>
          </a:ln>
        </p:spPr>
        <p:txBody>
          <a:bodyPr lIns="0" rIns="0" tIns="0" bIns="0" anchor="t">
            <a:normAutofit fontScale="99000"/>
          </a:bodyPr>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Antropológico Criminal – AUTORES:</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ésar Lombroso: Plantea la existencia de cuatro tipos de delincuente:</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nat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tavism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generación</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ocura Moral</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pilepsia (Larvad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loco (Alienado, alcohólico, histérico, matoid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ocasional (pseudo crimin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por pasión</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afael Garófalo</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rique Ferri</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LANTEAMIENTO GENERAL DETERMINISTA – SE CONCIBE AL CRIMINAL COMO SER ANORMAL (ENFERM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Escuela del ”milieu”</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francesa – ambientalista: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Gabriel Tarde (tesis de la imitación e inadaptación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x Nordeau (Parasitismo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cassagne</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nouvrier</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escuela francesa se caracteriza por atacar los postulados de la escuela italiana de corte biológico, culpando exclusivamente a factores sociales la generación del delito</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 la llamada ”polémica franco-italiana”, se rescata en definitiva el siguiente legad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vance hacia la comprensión más cabal del delito y la distinción entre factores predisponentes (Manouvrier-Lacassagne) que se vincularían con elementos endógenos, y factores determinantes en que se descatarían elementos ambientales, entre los cuales destacaría la </a:t>
            </a:r>
            <a:r>
              <a:rPr b="1" lang="en-GB" sz="1500" spc="-1" strike="noStrike">
                <a:solidFill>
                  <a:srgbClr val="000000"/>
                </a:solidFill>
                <a:latin typeface="Times New Roman"/>
              </a:rPr>
              <a:t>desorganización soci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Sistematización metodológica y conceptual entre endogenetistas y ambientalista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nflicto ente los polos </a:t>
            </a:r>
            <a:r>
              <a:rPr b="1" lang="en-GB" sz="1500" spc="-1" strike="noStrike">
                <a:solidFill>
                  <a:srgbClr val="000000"/>
                </a:solidFill>
                <a:latin typeface="Times New Roman"/>
              </a:rPr>
              <a:t>Nature-Nurture (Constitución - medio)</a:t>
            </a:r>
            <a:br>
              <a:rPr sz="1500"/>
            </a:br>
            <a:br>
              <a:rPr sz="1500"/>
            </a:br>
            <a:r>
              <a:rPr b="1" lang="en-GB"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2) Neo-Lombrosianismo</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Nueva antropología criminal –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avelock Ellis </a:t>
            </a:r>
            <a:r>
              <a:rPr b="0" lang="en-GB" sz="1500" spc="-1" strike="noStrike">
                <a:solidFill>
                  <a:srgbClr val="000000"/>
                </a:solidFill>
                <a:latin typeface="Times New Roman"/>
              </a:rPr>
              <a:t>(Revisión de postulados lombrosianos, rechaza el concepto de atavismo y pondera asimismo la ”insensibilidad moral” del delincuente instintivo o habitu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enry Maudsley </a:t>
            </a:r>
            <a:r>
              <a:rPr b="0" lang="en-GB" sz="1500" spc="-1" strike="noStrike">
                <a:solidFill>
                  <a:srgbClr val="000000"/>
                </a:solidFill>
                <a:latin typeface="Times New Roman"/>
              </a:rPr>
              <a:t>Enfatiza la incidencia en el delito de la ”locura moral”, tanto la enfermedad mental como el delito serían productos antisociales de la degeneración</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Charles Goring </a:t>
            </a:r>
            <a:r>
              <a:rPr b="0" lang="en-GB" sz="1500" spc="-1" strike="noStrike">
                <a:solidFill>
                  <a:srgbClr val="000000"/>
                </a:solidFill>
                <a:latin typeface="Times New Roman"/>
              </a:rPr>
              <a:t>A pesar de combatir los postulados lombrosianos cree en una cierta ”diátesis” o predisposición al delito transmisible hereditariamente, representada por cierto grado de debilidad mental e inferioridad fisica – estructural (seres inferiores?)</a:t>
            </a:r>
            <a:br>
              <a:rPr sz="1500"/>
            </a:b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Esta neo-antropología influirá en otras corrientes teóricas (Genética, Citología, etc) que buscan peculiares ”perfiles” o ”tendencias” pro delito en la criminalidad ”visible” y olvidan que el delito supone básicamente una definición normativa, ajena a mecanismo hereditarios, estructura corporal o equipo cromosomático</a:t>
            </a:r>
            <a:endParaRPr b="0" lang="en-US" sz="15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44280"/>
            <a:ext cx="9070920" cy="1036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3) Genética Criminal</a:t>
            </a:r>
            <a:endParaRPr b="1" lang="en-US" sz="4400" spc="-1" strike="noStrike">
              <a:solidFill>
                <a:srgbClr val="f57900"/>
              </a:solidFill>
              <a:latin typeface="Bitstream Vera Sans"/>
            </a:endParaRPr>
          </a:p>
        </p:txBody>
      </p:sp>
      <p:sp>
        <p:nvSpPr>
          <p:cNvPr id="59" name="PlaceHolder 2"/>
          <p:cNvSpPr>
            <a:spLocks noGrp="1"/>
          </p:cNvSpPr>
          <p:nvPr>
            <p:ph/>
          </p:nvPr>
        </p:nvSpPr>
        <p:spPr>
          <a:xfrm>
            <a:off x="288720" y="1800000"/>
            <a:ext cx="9070920" cy="553716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algunos autores el delinucente -o parte de ellos-  recibiría de sus ancestros ciertos caracteres físicos o psíquicos pro-delito, no se trata ahora de regresión a etapas pre-humanas de la evolución como en el atavismo lombrosiano, sino de rasgos o caracteres peculiares presentes en padres o abuelos que predisponen a conducta criminal.</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Qué se hereda?</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herencia humana aparece sólo estricta en relación a los atributos básicos de la especie (morfología – apariencia humana) y nunca determina identidad total de caracteres entre padres e hijos, en este sentido sólo puede observarse ”ciertas” semejanzas entre ellos p.ej. en cuanto atañe a ”hábito” o tipo físico (leptosomático, atlético, pícnico), estatura,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caracteres normales fisiológicos hace detectar ”cierta” repetición en el grupo familiar de aspectos tales como la fecundidad, longevidad, temperament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rasgos normales psíquicos conduce al hallazgo ”relativamente” frecuente de comunes potencialidades entre padres e hijos (nivel de inteligencia o aspiraciones, etc) aun cuando aquí cabe ponderar el aporte del medio (social o familiar)</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transmisión de caracteres patológicos físicos o fisiológicos cabe admitir en algunos casos su transmisibi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la transmisión de rasgos psíquicos patológicos (en cuanto entidades nosológicas) algunas de ellas se consideran transmisibles hereditariamente, pero aquí cabe aludir a ”alta probabilidad” no a fata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especto a transmisión de rasgos psíquicos ”peligrosos” (agresividad, labilidad al alcohol) proceden ciertas reservas, tanto en su transmisión como en cuanto a la valoración del rasgo.</a:t>
            </a:r>
            <a:endParaRPr b="0" lang="en-US" sz="1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4) Endocrinología Criminal</a:t>
            </a:r>
            <a:endParaRPr b="1" lang="en-US" sz="4400" spc="-1" strike="noStrike">
              <a:solidFill>
                <a:srgbClr val="f57900"/>
              </a:solidFill>
              <a:latin typeface="Bitstream Vera Sans"/>
            </a:endParaRPr>
          </a:p>
        </p:txBody>
      </p:sp>
      <p:sp>
        <p:nvSpPr>
          <p:cNvPr id="61" name="PlaceHolder 2"/>
          <p:cNvSpPr>
            <a:spLocks noGrp="1"/>
          </p:cNvSpPr>
          <p:nvPr>
            <p:ph/>
          </p:nvPr>
        </p:nvSpPr>
        <p:spPr>
          <a:xfrm>
            <a:off x="502920" y="1767960"/>
            <a:ext cx="9070920" cy="50454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estos autores cabe pensar que la base física del pensamiento sería el sistema neuro-endocrino, integrado por el eje cerebro-espinal, el sistema nervioso vegetativo y las glándulas de secreción interna.</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UTORES: Pende, Cassone, Di-Tulli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 Tipos endocrinos peculiares y delit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u="sng">
                <a:solidFill>
                  <a:srgbClr val="000000"/>
                </a:solidFill>
                <a:uFillTx/>
                <a:latin typeface="Times New Roman"/>
              </a:rPr>
              <a:t>(Cassone):</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drones: predominio del temperamento hipertiroideo-simpático-tónic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violentos: Hipercórtico-suprarrenal-hipertioide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sexuales: Temperamento hipergenit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B) Secreciones endocrinas y efectos criminógenos temporale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Forma menos endogenetista de examinar las relaciones entre disfunciones endocrinas y delito (explicación en parte del ”cómo” más que del ”por qué” del crimen)</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tos sexuales cometidos por hombres en quienes un tumor (testículos, suprarrenales) produzca aumento de hormonas masculina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mportamiento homosexual en mujeres en que tumores de las suprarrenales produzca efecto similar.</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Hipoglicemia</a:t>
            </a: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5) Biotipología Criminal</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90068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biotipología pretende la búsqueda de una correlación entre los “aspectos” físicos, fisiológicos y psíquicos del individuo, el biotipo seria la síntesis del individuo entre su:  patrimonio hereditario, temperamento, hábito, carácter e inteligenci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GB" sz="1500" spc="-1" strike="noStrike">
                <a:solidFill>
                  <a:srgbClr val="000000"/>
                </a:solidFill>
                <a:latin typeface="Times New Roman"/>
              </a:rPr>
              <a:t>Ernesto Krestchmer</a:t>
            </a:r>
            <a:r>
              <a:rPr b="0" lang="en-GB" sz="1500" spc="-1" strike="noStrike">
                <a:solidFill>
                  <a:srgbClr val="000000"/>
                </a:solidFill>
                <a:latin typeface="Times New Roman"/>
              </a:rPr>
              <a:t>: (Constitución y carácter) </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eptosómico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uerpo estrecho, miembros largos, escaso tejido adiposo, escasa musculatur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esquizotímico (frío, autistico, poco sociable, insensible o hipersensi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ícn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za grande y pesada, miembros cortos y abdómen prominente, abundante tejido adipos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ciclotímico (abierto, sociable, adapta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tlét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Gran desarrollo muscular, tórax y cabeza grandes</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viscoso (pesado, flemático, aunque predispuesto a explosiones conductuale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isplásticos: Caracterizados por trastornos endocrinos y del crecimiento</a:t>
            </a:r>
            <a:endParaRPr b="0" lang="en-US" sz="1500" spc="-1" strike="noStrike">
              <a:solidFill>
                <a:srgbClr val="000000"/>
              </a:solidFill>
              <a:latin typeface="Times New Roman"/>
            </a:endParaRPr>
          </a:p>
        </p:txBody>
      </p:sp>
      <p:graphicFrame>
        <p:nvGraphicFramePr>
          <p:cNvPr id="64" name=""/>
          <p:cNvGraphicFramePr/>
          <p:nvPr/>
        </p:nvGraphicFramePr>
        <p:xfrm>
          <a:off x="3408480" y="3387600"/>
          <a:ext cx="3251160" cy="765360"/>
        </p:xfrm>
        <a:graphic>
          <a:graphicData uri="http://schemas.openxmlformats.org/presentationml/2006/ole">
            <p:oleObj progId="Excel.Sheet.12" r:id="rId1" spid="">
              <p:embed/>
              <p:pic>
                <p:nvPicPr>
                  <p:cNvPr id="65" name="" descr=""/>
                  <p:cNvPicPr/>
                  <p:nvPr/>
                </p:nvPicPr>
                <p:blipFill>
                  <a:blip r:embed="rId2"/>
                  <a:stretch/>
                </p:blipFill>
                <p:spPr>
                  <a:xfrm>
                    <a:off x="3408480" y="3387600"/>
                    <a:ext cx="3251160" cy="7653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6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William Sheldon</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ndomorfo (711)  =  Pícn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esomorfo (171)  = Atlét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ctomorfo (117)   = Leptosómico</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arece cierto desacuerdo entre los hallazgos de Krestchmer y Sheldon, en su estudio respecto criminalidad – biotipo (menor criminalidad de los ectomorfos (leptosómicos) en los estudios americanos, respecto de las investigaciones aleman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 tener presente estas diferencias, y las propias reservas de los autores que más que intentar predecir conducta criminal, atienden al matiz de dicha conducta si es que se llega a presentar </a:t>
            </a:r>
            <a:endParaRPr b="0" lang="en-US" sz="15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Citogenética Criminal</a:t>
            </a:r>
            <a:endParaRPr b="1" lang="en-US" sz="4400" spc="-1" strike="noStrike">
              <a:solidFill>
                <a:srgbClr val="f57900"/>
              </a:solidFill>
              <a:latin typeface="Bitstream Vera Sans"/>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e pondera la incidencia en la estructura somato-psíquica del individuo, de anomalías en el cariotipo por exceso o defecto en los cromosomas sexuale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entro de las anomalías en general (XO, XXY, etc) nos interesa el cariotipo XYY, que no presenta particularidades físicas especiales, salvo la alta talla (superior a 1,80 mts), pues se investiga su relación con su presencia en delincuentes agresivos o violent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bien en diversos estudios se comprueba mayor incidencia de sujetos con cariotipo XYY en cárceles u hospitales psiquiátricos, que en sujetos control, esta teoria no afronta con éxito el problema de la respuesta diferencial (p.ej. en estudios de algunos autores mayor incidencia de conducta agresiva en sujetos sin tal aberración cromosómica, comportamiento adaptado de sujetos XYY,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elipe Ahumada</dc:creator>
  <dc:description/>
  <dc:language>en-US</dc:language>
  <cp:lastModifiedBy/>
  <cp:revision>0</cp:revision>
  <dc:subject/>
  <dc:title/>
</cp:coreProperties>
</file>