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3CB-55B9-44D9-997D-481F0C9C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69C-A544-4B51-8E85-5CC7C30D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391-2AF3-492D-A9D4-FC0E35A2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A74-8283-4655-8CC0-6F394588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07E-BF90-4858-9B6E-B1BD7C06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0FB-CEE6-420C-8DBA-75670F27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5B7-AAF3-4C12-A525-314514A2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E6B-9169-4F24-A277-7F644032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D19-C34E-488C-88D2-F9946813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9F7-E188-402D-906F-760531E1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934-A9DC-4E84-895C-98FE98B8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732-1799-4E63-91DF-811D0336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C09D-7840-4B5B-9B50-0AAC2E174D8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3640" y="2060280"/>
            <a:ext cx="6096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PMingLiU"/>
              </a:rPr>
              <a:t>Problemáticas asociadas a la TV Digital Terres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84000" y="47242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C.E.D.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200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8062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red de comunicaciones electrónicas conver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Posesión de la red y conver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Desde el punto de vista de la Red de Tele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Problemas normativos de la Conver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246040"/>
            <a:ext cx="7631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Necesidad de adaptación normativa para transparentar el fenóm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Igualdad de oport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Prestación de servicios conv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Acceso de los usuarios a los servicios conver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Desarrollo tecnológico/competi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3840" cy="303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3300"/>
                </a:solidFill>
                <a:latin typeface="PMingLiU"/>
              </a:rPr>
              <a:t>I. Convergencia tecnológica como gatillante del proceso de digitalización de los servicios de radiosifusión sonora y televis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9120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integración de redes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Plataformas de comunicaciones electró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epto de converg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 Unicode MS"/>
              </a:rPr>
              <a:t>“</a:t>
            </a:r>
            <a:r>
              <a:rPr b="1" lang="es-ES" sz="2000" spc="-1" strike="noStrike">
                <a:solidFill>
                  <a:srgbClr val="800000"/>
                </a:solidFill>
                <a:latin typeface="Arial Unicode MS"/>
              </a:rPr>
              <a:t>Los servicios de comunicación tradicionales y nuevos, con independencia de que utilicen imágenes, sonidos, datos o voz, pueden ofrecerse actualmente a través de muchas redes diferentes”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Arial Unicode MS"/>
                <a:hlinkClick r:id="rId2" action="ppaction://hlinksldjump"/>
              </a:rPr>
              <a:t>[1]</a:t>
            </a:r>
            <a:r>
              <a:rPr b="1" lang="es-ES" sz="2000" spc="-1" strike="noStrike">
                <a:solidFill>
                  <a:srgbClr val="8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 Unicode MS"/>
                <a:hlinkClick r:id="rId3" action="ppaction://hlinksldjump"/>
              </a:rPr>
              <a:t>[1]</a:t>
            </a:r>
            <a:r>
              <a:rPr b="1" lang="es-ES_tradnl" sz="2000" spc="-1" strike="noStrike">
                <a:solidFill>
                  <a:srgbClr val="800000"/>
                </a:solidFill>
                <a:latin typeface="Arial Unicode MS"/>
              </a:rPr>
              <a:t> Comisión Europea, Libro verde sobre la convergencia de los sectores de telecomunicaciones, medios de </a:t>
            </a:r>
            <a:r>
              <a:rPr b="1" lang="es-CL" sz="2000" spc="-1" strike="noStrike">
                <a:solidFill>
                  <a:srgbClr val="800000"/>
                </a:solidFill>
                <a:latin typeface="Arial Unicode MS"/>
              </a:rPr>
              <a:t>comunicación</a:t>
            </a:r>
            <a:r>
              <a:rPr b="1" lang="es-ES_tradnl" sz="2000" spc="-1" strike="noStrike">
                <a:solidFill>
                  <a:srgbClr val="800000"/>
                </a:solidFill>
                <a:latin typeface="Arial Unicode MS"/>
              </a:rPr>
              <a:t> y tecnologías de la información y sobre sus consecuencias para la reglamentación. en la perspectiva de la sociedad de la información, Bruselas, 3 de diciembre de 1997. Acápite 1, “Los Hechos”, pág.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vergencia tecnológ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La llave maestra de la convergencia es la </a:t>
            </a:r>
            <a:r>
              <a:rPr b="1" lang="es-ES" sz="2400" spc="-1" strike="noStrike">
                <a:solidFill>
                  <a:srgbClr val="ff0066"/>
                </a:solidFill>
                <a:latin typeface="Arial Unicode MS"/>
              </a:rPr>
              <a:t>codificación digital de la fuente</a:t>
            </a: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, es decir la conversión de la información, cualquiera sea su naturaleza, en ceros y unos, susceptibles de ser tratados por las computadoras a través de algoritmos generalmente aceptados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Arial Unicode MS"/>
                <a:hlinkClick r:id="rId2" action="ppaction://hlinksldjump"/>
              </a:rPr>
              <a:t>[1]</a:t>
            </a: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ccccff"/>
                </a:solidFill>
                <a:uFillTx/>
                <a:latin typeface="Arial Unicode MS"/>
                <a:hlinkClick r:id="rId3" action="ppaction://hlinksldjump"/>
              </a:rPr>
              <a:t>[1]</a:t>
            </a:r>
            <a:r>
              <a:rPr b="1" lang="es-ES_tradnl" sz="1800" spc="-1" strike="noStrike">
                <a:solidFill>
                  <a:srgbClr val="800000"/>
                </a:solidFill>
                <a:latin typeface="Arial Unicode MS"/>
              </a:rPr>
              <a:t> Comisión Europea, Libro verde sobre la convergencia de los sectores de telecomunicaciones… pág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vergencia desde la mirada de los oper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Rece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De la información = datos paquet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3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“</a:t>
            </a: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La Convergencia Tecnológica se manifiesta en todos los elementos que constituyen la plataforma tecnológica: las redes de acceso y tránsito y las aplicaciones y servicios sobre los diferentes terminales de usuario”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 Unicode MS"/>
                <a:hlinkClick r:id="rId2" action="ppaction://hlinksldjump"/>
              </a:rPr>
              <a:t>[1]</a:t>
            </a: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 Unicode MS"/>
                <a:hlinkClick r:id="rId3" action="ppaction://hlinksldjump"/>
              </a:rPr>
              <a:t>[1]</a:t>
            </a:r>
            <a:r>
              <a:rPr b="1" lang="es-ES_tradnl" sz="2000" spc="-1" strike="noStrike">
                <a:solidFill>
                  <a:srgbClr val="800000"/>
                </a:solidFill>
                <a:latin typeface="Arial Unicode MS"/>
              </a:rPr>
              <a:t> Grupo de Regulación de Telecomunicaciones, Colegio Oficial de Ingenieros de Telecomunicación. “GRETEL2000, Convergencia, Competencia y Regulación en los Mercados de Telecomunicaciones, El Audiovisual e Internet. Vol. 2, Convergencia y Economía Digital” Ed. COIT, Madrid, 2002 , pág. 6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Unicode MS"/>
              </a:rPr>
              <a:t>Convergencia desde el punto de vista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Arial Unicode MS"/>
              </a:rPr>
              <a:t>Terminales multipropós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29000" y="2805120"/>
            <a:ext cx="2286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292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Desde el punto de vista del ter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“</a:t>
            </a: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La capacidad de diferentes plataformas de red de transportar tipos de servicios esencialmente similares, o la aproximación de dispositivos de consumo tales como el teléfono, la televisión y el ordenador personal”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Arial Unicode MS"/>
                <a:hlinkClick r:id="rId2" action="ppaction://hlinksldjump"/>
              </a:rPr>
              <a:t>[1]</a:t>
            </a:r>
            <a:r>
              <a:rPr b="1" lang="es-ES" sz="2400" spc="-1" strike="noStrike">
                <a:solidFill>
                  <a:srgbClr val="8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 Unicode MS"/>
                <a:hlinkClick r:id="rId3" action="ppaction://hlinksldjump"/>
              </a:rPr>
              <a:t>[1]</a:t>
            </a:r>
            <a:r>
              <a:rPr b="1" lang="es-ES_tradnl" sz="2000" spc="-1" strike="noStrike">
                <a:solidFill>
                  <a:srgbClr val="800000"/>
                </a:solidFill>
                <a:latin typeface="Arial Unicode MS"/>
              </a:rPr>
              <a:t> Comisión Europea, Libro verde sobre la convergencia de los sectores de telecomunicaciones, medios de comunicación y tecnologías de la información y sobre sus consecuencias para la reglamentación. En la perspectiva de la sociedad de la información.  Bruselas, 3 de diciembre de 1997. Pág.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18:48:46Z</dcterms:created>
  <dc:creator>Facultad de Derecho</dc:creator>
  <dc:description/>
  <dc:language>en-US</dc:language>
  <cp:lastModifiedBy>Administrador</cp:lastModifiedBy>
  <dcterms:modified xsi:type="dcterms:W3CDTF">2006-11-24T23:14:21Z</dcterms:modified>
  <cp:revision>15</cp:revision>
  <dc:subject/>
  <dc:title>Nombres de Dominio en Internet</dc:title>
</cp:coreProperties>
</file>