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751-D79E-43DA-ACB6-10BF70AF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B5C-7D9D-43E0-AB59-242F6711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BB3-3BB1-4E83-AEF4-F91297FB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C70-7F41-475E-915A-5A2ED891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F98-3548-4A1B-A963-A17244D7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1EC-BCEB-4FCA-A8F9-89606519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539-095E-43D9-931E-EAE670A2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23F-8AA7-45D4-B114-0BFD52F8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B97-89D1-4AB4-94FD-7C9FB94B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59B-5E59-48F1-B8BD-7C18F195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9F9-1614-445F-AE36-223FC71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4BD-4B8E-45B5-80D1-F56AAB83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692D-E9DC-4F8B-8916-CCAE1EFCF9B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640" y="2060280"/>
            <a:ext cx="6096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PMingLiU"/>
              </a:rPr>
              <a:t>Problemáticas asociadas a la TV Digital Terres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000" y="47242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C.E.D.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200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62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red de comunicaciones electrónicas conver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Posesión de la red y conver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Desde el punto de vista de la Red de Tele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Problemas normativos de la Conver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246040"/>
            <a:ext cx="7631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Necesidad de adaptación normativa para transparentar el fenóm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Igualdad de oport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Prestación de servicios con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Acceso de los usuarios a los servicios con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Desarrollo tecnológico/competi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3840" cy="303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3300"/>
                </a:solidFill>
                <a:latin typeface="PMingLiU"/>
              </a:rPr>
              <a:t>I. Convergencia tecnológica como gatillante del proceso de digitalización de los servicios de radiosifusión sonora y televis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9120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integración de redes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Plataformas de comunicaciones electró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epto de converg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1" lang="es-ES" sz="2000" spc="-1" strike="noStrike">
                <a:solidFill>
                  <a:srgbClr val="800000"/>
                </a:solidFill>
                <a:latin typeface="Arial Unicode MS"/>
              </a:rPr>
              <a:t>Los servicios de comunicación tradicionales y nuevos, con independencia de que utilicen imágenes, sonidos, datos o voz, pueden ofrecerse actualmente a través de muchas redes diferentes”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000" spc="-1" strike="noStrike">
                <a:solidFill>
                  <a:srgbClr val="8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Comisión Europea, Libro verde sobre la convergencia de los sectores de telecomunicaciones, medios de </a:t>
            </a:r>
            <a:r>
              <a:rPr b="1" lang="es-CL" sz="2000" spc="-1" strike="noStrike">
                <a:solidFill>
                  <a:srgbClr val="800000"/>
                </a:solidFill>
                <a:latin typeface="Arial Unicode MS"/>
              </a:rPr>
              <a:t>comunicación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y tecnologías de la información y sobre sus consecuencias para la reglamentación. en la perspectiva de la sociedad de la información, Bruselas, 3 de diciembre de 1997. Acápite 1, “Los Hechos”, pág.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vergencia tecnológ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La llave maestra de la convergencia es la </a:t>
            </a:r>
            <a:r>
              <a:rPr b="1" lang="es-ES" sz="2400" spc="-1" strike="noStrike">
                <a:solidFill>
                  <a:srgbClr val="ff0066"/>
                </a:solidFill>
                <a:latin typeface="Arial Unicode MS"/>
              </a:rPr>
              <a:t>codificación digital de la fuente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, es decir la conversión de la información, cualquiera sea su naturaleza, en ceros y unos, susceptibles de ser tratados por las computadoras a través de algoritmos generalmente aceptados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1800" spc="-1" strike="noStrike">
                <a:solidFill>
                  <a:srgbClr val="800000"/>
                </a:solidFill>
                <a:latin typeface="Arial Unicode MS"/>
              </a:rPr>
              <a:t> Comisión Europea, Libro verde sobre la convergencia de los sectores de telecomunicaciones… pág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vergencia desde la mirada de los oper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Rece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De la información = datos paquet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3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La Convergencia Tecnológica se manifiesta en todos los elementos que constituyen la plataforma tecnológica: las redes de acceso y tránsito y las aplicaciones y servicios sobre los diferentes terminales de usuario”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Grupo de Regulación de Telecomunicaciones, Colegio Oficial de Ingenieros de Telecomunicación. “GRETEL2000, Convergencia, Competencia y Regulación en los Mercados de Telecomunicaciones, El Audiovisual e Internet. Vol. 2, Convergencia y Economía Digital” Ed. COIT, Madrid, 2002 , pág. 6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Convergencia desde el punto de vista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Terminales multipropós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29000" y="2805120"/>
            <a:ext cx="2286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292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Desde el punto de vista del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La capacidad de diferentes plataformas de red de transportar tipos de servicios esencialmente similares, o la aproximación de dispositivos de consumo tales como el teléfono, la televisión y el ordenador personal”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Comisión Europea, Libro verde sobre la convergencia de los sectores de telecomunicaciones, medios de comunicación y tecnologías de la información y sobre sus consecuencias para la reglamentación. En la perspectiva de la sociedad de la información.  Bruselas, 3 de diciembre de 1997. Pág.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8:48:46Z</dcterms:created>
  <dc:creator>Facultad de Derecho</dc:creator>
  <dc:description/>
  <dc:language>en-US</dc:language>
  <cp:lastModifiedBy>Administrador</cp:lastModifiedBy>
  <dcterms:modified xsi:type="dcterms:W3CDTF">2006-11-24T23:14:21Z</dcterms:modified>
  <cp:revision>15</cp:revision>
  <dc:subject/>
  <dc:title>Nombres de Dominio en Internet</dc:title>
</cp:coreProperties>
</file>