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E7E-81EE-435F-89E8-26ADB581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8A2-61DB-4D09-9E5E-B33D428D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FFD-C20D-4CF9-A4F5-A486D5FC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F9A-4E37-4070-BBCC-B98001D6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ED39-351A-4E49-ADB7-F40B48AF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851D-3F39-4C6B-A6C3-71A253FB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3D4B-E3C6-469E-86E5-F172CDE0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C8B3-3E1C-4D9B-8399-CAECC574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309C-8DEB-40A2-AB68-D52E09E0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BA3A-1B0C-4EDC-93F1-CB413898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B356-A538-4554-AE26-86B39BF9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467-28C9-4599-8581-CD4646FB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68CB-8383-4ACA-B8D1-484E988F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4271-495E-430B-8162-E96D1C4A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EB95-7FB9-4C03-88EE-4E02E40A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F100-AA93-4CC1-AE88-6DAB0DBD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B63A-F824-47D7-BC43-614750D2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128-B46D-4F64-BE78-CD1C49F3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AF1-15EA-481D-B618-292332B4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7DE-4AC0-41BB-8115-11A0E399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B4B-B4BA-4E1F-83C3-C4AAB0DF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07D-A2F4-4340-B5FD-1094039D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D6E-7443-402F-A67A-43265214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7C7-2C90-4016-B9BB-61B34816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E630-F749-4216-9BF9-F58D93A1AF9D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44EF-9B01-4AC7-A31E-607269202C57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Arial"/>
              </a:rPr>
              <a:t>Formulación del Proyecto de Te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24240" y="2657160"/>
            <a:ext cx="602136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 Black"/>
              </a:rPr>
              <a:t>Taller de Memori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 Black"/>
              </a:rPr>
              <a:t>“</a:t>
            </a:r>
            <a:r>
              <a:rPr b="0" lang="es-ES_tradnl" sz="2800" spc="-1" strike="noStrike">
                <a:solidFill>
                  <a:srgbClr val="006666"/>
                </a:solidFill>
                <a:latin typeface="Arial Black"/>
              </a:rPr>
              <a:t>Aspectos Procesales del Documento Electrónico”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 Black"/>
              </a:rPr>
              <a:t>Jennifer Sarah Motles Svigilsky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 Black"/>
              </a:rPr>
              <a:t>Abril, 2008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Fin de la Investig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905120" y="2209680"/>
            <a:ext cx="5715000" cy="762120"/>
          </a:xfrm>
          <a:prstGeom prst="rect">
            <a:avLst/>
          </a:prstGeom>
          <a:solidFill>
            <a:srgbClr val="99cc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rmulación de la Interrogante a Resol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55640" y="357336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xiste una ley internacional elaborada por la Comisión de las Naciones Unidas para el Derecho Mercantil Internacional (UNCITRAL) que regula el comercio y la contratación electrónica. Si dichas normativas han sido bien elaboradas y desarrolladas, no existe aún precepto que reconozca o defina de modo expreso en qué momento, o bien qué requisitos son necesarios para que se configure una oferta especial, que es la electrónica. En base a este planteamiento, por medio de análisis y cotejo del marco normativo regulatorio del portales electrónicos, tratativas elaboradas por UNCITRAL y regulación nacional y comparada respecto a la oferta en su estado más puro será posible entender o analizar cuáles son las limitaciones o lagunas que el tema en cuestión produc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4284720" y="2852640"/>
            <a:ext cx="838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pótesis de Traba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n base a lo recién planteado se sostiene la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necesidad de visualizar si la normativa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lectrónica vigente regula la institución de la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oferta, bien sea de modo expreso o tácito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lo cual podrá llegar a ser demostrado por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medio de un análisis documental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480" y="32857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oceso de Elaboración del Proyecto de te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Esquema del Proceso de Investigació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¿Qué estudiar?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Definición del Tema de Investig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¿Cuál es la situación actual?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                   Planteamiento del Problema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Propósitos de la Investigación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                  Objetivos de la Investig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Motivos para hacer el estudio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                  Justific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¿Qué se pretende probar?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Hipótes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¿Cómo se va a hacer?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Aspectos Metodológic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Fuentes Escritas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Bibliografí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Tiempo necesario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                  Cronograma</a:t>
            </a:r>
            <a:r>
              <a:rPr b="0" lang="es-ES_tradnl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2666880" y="2057400"/>
            <a:ext cx="1371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2700360" y="249228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635280" y="278136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708360" y="2997360"/>
            <a:ext cx="770040" cy="12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3708360" y="3284640"/>
            <a:ext cx="6858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3419640" y="3573360"/>
            <a:ext cx="108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132000" y="3789360"/>
            <a:ext cx="1368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2771640" y="4076640"/>
            <a:ext cx="1656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2700360" y="429264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1. Propósito de la Investig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Objeto: Analizar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configuración de la oferta en el documento electrónico celebrado entre privados, las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limitaciones, lagunas o sentido, del marco normativo y regulatorio que existe al respecto, y los aspectos importantes de la normativa internacional elaborada por UNCITR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286000" y="2133720"/>
            <a:ext cx="33526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900000" y="3933720"/>
            <a:ext cx="3095640" cy="150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nalizar eficaci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del orden norma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vig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003640" y="3933720"/>
            <a:ext cx="3048120" cy="1524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Visualizar nuev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requerimi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el orden socia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y desarrol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 flipH="1">
            <a:off x="1676160" y="3124080"/>
            <a:ext cx="60948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638680" y="3200400"/>
            <a:ext cx="588960" cy="588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Metodología de la Investigación Jurídica para el Proyecto de Tesi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Tipología: histórica y comparativ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Arial"/>
              </a:rPr>
              <a:t>Histórico-Jurídica: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seguimiento de institución jurídica desde sus oríge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cc"/>
                </a:solidFill>
                <a:latin typeface="Arial"/>
              </a:rPr>
              <a:t>Jurídico-Comparativa: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busca similitudes y diferencias en normas jurídicas o instituciones entre dos sistemas jurídic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cc"/>
                </a:solidFill>
                <a:latin typeface="Arial"/>
              </a:rPr>
              <a:t>Tipo de Investig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Será una investigación </a:t>
            </a: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Documental 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Dogmática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con el fin de concebir el problem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jurídico desde una perspectiva estrictament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formalista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 descontando todo elemento fáctic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o re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Se limitará a estudio de </a:t>
            </a: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fuentes form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inalidad: </a:t>
            </a: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valuar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las estructuras del Derech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52280" y="1981080"/>
            <a:ext cx="2835360" cy="10875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2. Bibliografía Bás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635280" y="476280"/>
            <a:ext cx="165744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Legisl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635280" y="2565360"/>
            <a:ext cx="16574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Doctr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916360" y="5445000"/>
            <a:ext cx="198576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Jurisprud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 flipV="1">
            <a:off x="2124000" y="1341360"/>
            <a:ext cx="122400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3059280" y="2852640"/>
            <a:ext cx="433080" cy="71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2627280" y="3213000"/>
            <a:ext cx="1008000" cy="2160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435640" y="189000"/>
            <a:ext cx="3457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Proyectos de Le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Historia de la Le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Legislación Nacional: referente a la regulación de la Oferta comercial entre privado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Derecho Comparado, regulación electrónica: Ley modelo de comercio electrónico elaborada por UNCITR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5364000" y="2565360"/>
            <a:ext cx="3529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Catálogos en líne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Revisiones de la Ley Modelo de Contratación por la vía electrón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Grupos de Trabajo UNCITRAL que analiza la Contratación Públ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Grupos de Trabajo UNCITRAL que analiza la Contratación Electrón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148360" y="5486400"/>
            <a:ext cx="36716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Nacional, en relación a la definición y reconocimiento de la oferta entre privado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Times New Roman"/>
              </a:rPr>
              <a:t>Derecho Comparado, laudos y ordenanzas de UNCITRAL respecto al tem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Estructura del Proyec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in de la Investigación y Título Tent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Hipót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0:31:22Z</dcterms:created>
  <dc:creator>Usuario</dc:creator>
  <dc:description/>
  <dc:language>en-US</dc:language>
  <cp:lastModifiedBy>Usuario</cp:lastModifiedBy>
  <dcterms:modified xsi:type="dcterms:W3CDTF">2008-04-20T22:14:27Z</dcterms:modified>
  <cp:revision>9</cp:revision>
  <dc:subject/>
  <dc:title>Formulación del Proyecto de Tesis</dc:title>
</cp:coreProperties>
</file>