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588-AF9A-48EF-BFBF-69AEA028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6DFD-5078-4A4D-845C-5C0261AD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6F05-0B7C-42FC-A6A3-D510A178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56F-190D-4A1E-A4DB-48F85E82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770B-E1F7-4C6F-B653-3D1A7DF6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1717-6445-48B0-95CB-E07DB4A1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9E1C-125D-4975-BC63-160AEA28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E7DD-97B9-469D-8EC3-686736AF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6907-22E9-4C61-9CE1-FF637AB0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B741-30B2-4ADE-981A-DB2D22FF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39BB-1D08-4475-A45A-0543C728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787-1F5C-465A-86C2-9FEB696B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4F60-7A8E-4027-93CA-1D6C96C8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D6AC-53D7-4C6E-910E-C336DF5B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96B3-0B03-4C29-94F3-96773A99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54A2-FB68-40F7-80A2-67507EF8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FCE4-564B-4CA1-BB2A-77B2696C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6E7-A966-488A-AE3C-D50A7560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36CD-AABA-4C82-9C76-D2DC14E2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F90-1E70-4D3B-916A-BD9E32EF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36D8-110B-4655-AEBA-CA5ED1AA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9A8-ACE1-47A2-A898-59AE4BC5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C5E-92F6-4D20-AE03-17145E8B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9C7-12F6-4D89-B580-76E09576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8938-21A2-4608-BBDF-45295FB5F781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DCBB-5DE7-4DDF-9576-BD781B302B4E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Arial"/>
              </a:rPr>
              <a:t>Formulación del Proyecto de Te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424240" y="2657160"/>
            <a:ext cx="6021360" cy="27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66"/>
                </a:solidFill>
                <a:latin typeface="Arial Black"/>
              </a:rPr>
              <a:t>Taller de Memori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66"/>
                </a:solidFill>
                <a:latin typeface="Arial Black"/>
              </a:rPr>
              <a:t>“</a:t>
            </a:r>
            <a:r>
              <a:rPr b="0" lang="es-ES_tradnl" sz="2800" spc="-1" strike="noStrike">
                <a:solidFill>
                  <a:srgbClr val="006666"/>
                </a:solidFill>
                <a:latin typeface="Arial Black"/>
              </a:rPr>
              <a:t>Aspectos Procesales del Documento Electrónico”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Arial Black"/>
              </a:rPr>
              <a:t>Jennifer Sarah Motles Svigilsky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Arial Black"/>
              </a:rPr>
              <a:t>Abril, 2008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Fin de la Investig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905120" y="2209680"/>
            <a:ext cx="5715000" cy="762120"/>
          </a:xfrm>
          <a:prstGeom prst="rect">
            <a:avLst/>
          </a:prstGeom>
          <a:solidFill>
            <a:srgbClr val="99cc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Formulación de la Interrogante a Resol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55640" y="357336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xiste una ley internacional elaborada por la Comisión de las Naciones Unidas para el Derecho Mercantil Internacional (UNCITRAL) que regula el comercio y la contratación electrónica. Si dichas normativas han sido bien elaboradas y desarrolladas, no existe aún precepto que reconozca o defina de modo expreso en qué momento, o bien qué requisitos son necesarios para que se configure una oferta especial, que es la electrónica. En base a este planteamiento, por medio de análisis y cotejo del marco normativo regulatorio del portales electrónicos, tratativas elaboradas por UNCITRAL y regulación nacional y comparada respecto a la oferta en su estado más puro será posible entender o analizar cuáles son las limitaciones o lagunas que el tema en cuestión produc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4284720" y="2852640"/>
            <a:ext cx="83808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pótesis de Trabaj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n base a lo recién planteado se sostiene la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necesidad de visualizar si la normativa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lectrónica vigente regula la institución de la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oferta, bien sea de modo expreso o tácito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lo cual podrá llegar a ser demostrado por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medio de un análisis documental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480" y="32857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oceso de Elaboración del Proyecto de te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Esquema del Proceso de Investigació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¿Qué estudiar?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Definición del Tema de Investigació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¿Cuál es la situación actual?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                   Planteamiento del Problema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Propósitos de la Investigación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                  Objetivos de la Investigació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Motivos para hacer el estudio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                  Justificació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¿Qué se pretende probar?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Hipótes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¿Cómo se va a hacer?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Aspectos Metodológic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Fuentes Escritas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Bibliografí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Tiempo necesario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                  Cronograma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2666880" y="2057400"/>
            <a:ext cx="13716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2700360" y="2492280"/>
            <a:ext cx="165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635280" y="278136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3708360" y="2997360"/>
            <a:ext cx="770040" cy="12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3708360" y="3284640"/>
            <a:ext cx="6858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3419640" y="3573360"/>
            <a:ext cx="1081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132000" y="3789360"/>
            <a:ext cx="1368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2771640" y="4076640"/>
            <a:ext cx="1656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2700360" y="4292640"/>
            <a:ext cx="180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1. Propósito de la Investig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Objeto: Analizar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configuración de la oferta en el documento electrónico celebrado entre privados, las 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limitaciones, lagunas o sentido, del marco normativo y regulatorio que existe al respecto, y los aspectos importantes de la normativa internacional elaborada por UNCITR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2286000" y="2133720"/>
            <a:ext cx="335268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900000" y="3933720"/>
            <a:ext cx="3095640" cy="1501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Analizar eficaci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del orden normati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vig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003640" y="3933720"/>
            <a:ext cx="3048120" cy="1524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Visualizar nuev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requerimi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el orden socia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y desarroll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 flipH="1">
            <a:off x="1676160" y="3124080"/>
            <a:ext cx="609480" cy="6098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5638680" y="3200400"/>
            <a:ext cx="588960" cy="5889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Metodología de la Investigación Jurídica para el Proyecto de Tesi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Tipología: histórica y comparativ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cccc"/>
                </a:solidFill>
                <a:latin typeface="Arial"/>
              </a:rPr>
              <a:t>Histórico-Jurídica: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seguimiento de institución jurídica desde sus oríge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cccc"/>
                </a:solidFill>
                <a:latin typeface="Arial"/>
              </a:rPr>
              <a:t>Jurídico-Comparativa: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busca similitudes y diferencias en normas jurídicas o instituciones entre dos sistemas jurídic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cccc"/>
                </a:solidFill>
                <a:latin typeface="Arial"/>
              </a:rPr>
              <a:t>Tipo de Investig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Será una investigación </a:t>
            </a: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Documental 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Dogmática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 con el fin de concebir el problem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jurídico desde una perspectiva estrictament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formalista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 descontando todo elemento fáctic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o re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Se limitará a estudio de </a:t>
            </a: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fuentes form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inalidad: </a:t>
            </a: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evaluar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 las estructuras del Derech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52280" y="1981080"/>
            <a:ext cx="2835360" cy="10875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2. Bibliografía Bás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635280" y="476280"/>
            <a:ext cx="165744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Legisl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635280" y="2565360"/>
            <a:ext cx="16574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Doctri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916360" y="5445000"/>
            <a:ext cx="198576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Jurisprude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 flipV="1">
            <a:off x="2124000" y="1341360"/>
            <a:ext cx="1224000" cy="503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3059280" y="2852640"/>
            <a:ext cx="433080" cy="71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2627280" y="3213000"/>
            <a:ext cx="1008000" cy="2160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435640" y="189000"/>
            <a:ext cx="3457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Times New Roman"/>
              </a:rPr>
              <a:t>Proyectos de Le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Times New Roman"/>
              </a:rPr>
              <a:t>Historia de la Le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Times New Roman"/>
              </a:rPr>
              <a:t>Legislación Nacional: referente a la regulación de la Oferta comercial entre privado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Times New Roman"/>
              </a:rPr>
              <a:t>Derecho Comparado, regulación electrónica: Ley modelo de comercio electrónico elaborada por UNCITR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5364000" y="2565360"/>
            <a:ext cx="35290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Times New Roman"/>
              </a:rPr>
              <a:t>Catálogos en líne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Times New Roman"/>
              </a:rPr>
              <a:t>Revisiones de la Ley Modelo de Contratación por la vía electrón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Times New Roman"/>
              </a:rPr>
              <a:t>Grupos de Trabajo UNCITRAL que analiza la Contratación Públ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Times New Roman"/>
              </a:rPr>
              <a:t>Grupos de Trabajo UNCITRAL que analiza la Contratación Electrón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5148360" y="5486400"/>
            <a:ext cx="36716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Times New Roman"/>
              </a:rPr>
              <a:t>Nacional, en relación a la definición y reconocimiento de la oferta entre privado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Times New Roman"/>
              </a:rPr>
              <a:t>Derecho Comparado, laudos y ordenanzas de UNCITRAL respecto al tem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Estructura del Proyec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in de la Investigación y Título Tent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Hipót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20:31:22Z</dcterms:created>
  <dc:creator>Usuario</dc:creator>
  <dc:description/>
  <dc:language>en-US</dc:language>
  <cp:lastModifiedBy>Usuario</cp:lastModifiedBy>
  <dcterms:modified xsi:type="dcterms:W3CDTF">2008-04-20T22:14:27Z</dcterms:modified>
  <cp:revision>9</cp:revision>
  <dc:subject/>
  <dc:title>Formulación del Proyecto de Tesis</dc:title>
</cp:coreProperties>
</file>