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F2912D-517F-4226-9F45-22576EB99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CCB98E-5045-499C-9094-C46289EE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62BEE6-6BCC-430C-A22F-AA455B455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00732A-3F0A-4D58-9EFC-9A8AC66F0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A1A48-1E7D-4901-BD33-DC76DDC34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7D58A-A2B3-494F-9A59-8378BC1D3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0A36D-7D77-459B-BF4D-08F9358FD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FF4E2-BBA6-4888-B8F7-9BC4878F3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30B8-B917-4894-8C27-1406B8361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C1098-F126-43C9-B980-CE58DCAA5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DFA78-AD59-408F-9A98-9F34627C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7977D0-AAF1-4C15-9F1A-9E4F2D3F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2E306-833B-4B60-8371-3DCD3F0E0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67F3-60EA-4563-8BEB-42DD7EDD0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EE39C-1D60-4DD4-AF56-F7599B509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07D5B-CCFC-4FE8-8CD3-8380A4F4A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BCFA1-D6D3-4C2E-AD9F-E68D47E97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429E79-99F9-4DEC-B04F-337E85ED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D753AF-8B23-492C-AA0F-6E3BE45A1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725568-C186-4380-A2EB-5BB4EA510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388F40-D3C8-4371-98D5-AEBC88AC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30F654-3036-46CD-B9DF-0024B64A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D85ABC-7097-49B0-BBF1-8EA5E716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069048-514B-41E2-A023-62DBA2A5B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1162-F421-4B8E-BF7A-8CE5DFD5E2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DE6D-51FD-4906-9B03-DBB82CC143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canelo@caneloabogados.c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26560" y="1412640"/>
            <a:ext cx="7488360" cy="388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4400" spc="-1" strike="noStrike">
                <a:solidFill>
                  <a:srgbClr val="ffffff"/>
                </a:solidFill>
                <a:latin typeface="Garamond"/>
              </a:rPr>
              <a:t>Revisión Prueba de Diagnóstico</a:t>
            </a:r>
            <a:r>
              <a:rPr b="1" lang="en-US" sz="3200" spc="-1" strike="noStrike">
                <a:solidFill>
                  <a:srgbClr val="ffffff"/>
                </a:solidFill>
                <a:latin typeface="Garamond"/>
              </a:rPr>
              <a:t>”</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ola Canelo </a:t>
            </a:r>
            <a:r>
              <a:rPr b="0" lang="en-US" sz="3200" spc="-1" strike="noStrike" u="sng">
                <a:solidFill>
                  <a:srgbClr val="ffcc00"/>
                </a:solidFill>
                <a:uFillTx/>
                <a:latin typeface="Garamond"/>
                <a:hlinkClick r:id="rId1"/>
              </a:rPr>
              <a:t>ccanelo@caneloabogados.cl</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a:t>
            </a:r>
            <a:endParaRPr b="1" lang="en-US" sz="4000" spc="-1" strike="noStrike">
              <a:solidFill>
                <a:srgbClr val="e5e5ff"/>
              </a:solidFill>
              <a:latin typeface="Garamond"/>
            </a:endParaRPr>
          </a:p>
        </p:txBody>
      </p:sp>
      <p:sp>
        <p:nvSpPr>
          <p:cNvPr id="118"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ualquier sonido, símbolo o proceso electrónico, que permite  al receptor de un documento electrónico identificar al menos formalmente a su autor.</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 avanzada?</a:t>
            </a:r>
            <a:endParaRPr b="1" lang="en-US" sz="4000" spc="-1" strike="noStrike">
              <a:solidFill>
                <a:srgbClr val="e5e5ff"/>
              </a:solidFill>
              <a:latin typeface="Garamond"/>
            </a:endParaRPr>
          </a:p>
        </p:txBody>
      </p:sp>
      <p:sp>
        <p:nvSpPr>
          <p:cNvPr id="120"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quella certificada por un prestador acreditado, que ha sido creada usando medios que el titular mantiene bajo su exclusivo control, de manera que se vincule únicamente al mismo y a los datos a los que se refiere, permitiendo la detección posterior de cualquier modificación, verificando la identidad del titular e impidiendo que desconozca la integridad del documento y su autorí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ómo se acompañan en juicio los instrumentos públicos y privados?</a:t>
            </a:r>
            <a:endParaRPr b="1" lang="en-US" sz="4000" spc="-1" strike="noStrike">
              <a:solidFill>
                <a:srgbClr val="e5e5ff"/>
              </a:solidFill>
              <a:latin typeface="Garamond"/>
            </a:endParaRPr>
          </a:p>
        </p:txBody>
      </p:sp>
      <p:sp>
        <p:nvSpPr>
          <p:cNvPr id="122"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úblicos se acompañan con citación. En principio se entiende que tienen valor de plena prueba, salvo que sean objetados y se acoja la objeción. La contraparte tiene un plazo de 3 días para objetarlos por falsedad o por falta de integrida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rivados se acompañan bajo el apercibimiento del artículo 346 N° 3 del CPC. En principio se entiende que no tienen valor probatorio, salvo que sean reconocidos en forma expresa, tácita o judi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	</a:t>
            </a:r>
            <a:r>
              <a:rPr b="0" lang="es-MX" sz="2800" spc="-1" strike="noStrike">
                <a:solidFill>
                  <a:srgbClr val="ffffff"/>
                </a:solidFill>
                <a:latin typeface="Garamond"/>
              </a:rPr>
              <a:t>El reconocimiento expreso es el que efectúa el otorgante del instrumento en términos formales y explícitos, por ej. en otro documento. El reconocimiento es tácito en el caso que dentro del plazo de apercibimiento de 6 días, el otorgante no lo objeta. El reconocimiento es judicial, en caso que habiendo objeción del otorgante del instrumento, el tribunal no acoge la objeción y lo tiene por reconocido mediante resolución judici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Señale ejemplos de documentos procesales</a:t>
            </a:r>
            <a:endParaRPr b="1" lang="en-US" sz="4000" spc="-1" strike="noStrike">
              <a:solidFill>
                <a:srgbClr val="e5e5ff"/>
              </a:solidFill>
              <a:latin typeface="Garamond"/>
            </a:endParaRPr>
          </a:p>
        </p:txBody>
      </p:sp>
      <p:sp>
        <p:nvSpPr>
          <p:cNvPr id="12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s resoluciones judicial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 demanda.</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notificacio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valor probatorio de los instrumentos privados y públicos.</a:t>
            </a:r>
            <a:endParaRPr b="1" lang="en-US" sz="4000" spc="-1" strike="noStrike">
              <a:solidFill>
                <a:srgbClr val="e5e5ff"/>
              </a:solidFill>
              <a:latin typeface="Garamond"/>
            </a:endParaRPr>
          </a:p>
        </p:txBody>
      </p:sp>
      <p:sp>
        <p:nvSpPr>
          <p:cNvPr id="13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os instrumentos públicos tienen pleno valor probatorio, salvo que sean debidamente objetado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instrumentos privados no tienen valor probatorio salvo que sean reconocidos o mandados a tener por reconoc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En materia civil los medios de prueba son aquellos establecidos por la ley. En materia penal existe mayor libertad en cuanto a los medios de prueba, pudiendo ser cualquier elemento capaz de producir convicción en el tribunal.</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materia civil el sistema de apreciación de la prueba es un sistema mixto con prueba legal o tasada más sana crítica. En materia penal la apreciación de la prueba también es mix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 ley regula la forma de rendir la prueba, tanto en el sistema civil como pen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el documento electrónico?</a:t>
            </a:r>
            <a:endParaRPr b="1" lang="en-US" sz="4400" spc="-1" strike="noStrike">
              <a:solidFill>
                <a:srgbClr val="e5e5ff"/>
              </a:solidFill>
              <a:latin typeface="Garamond"/>
            </a:endParaRPr>
          </a:p>
        </p:txBody>
      </p:sp>
      <p:sp>
        <p:nvSpPr>
          <p:cNvPr id="102"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oda representación de un hecho, imagen o idea que sea creada, enviada, comunicada o recibida por medios electrónicos y almacenada de un modo idóneo para permitir su uso posterio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ley regula en Chile el documento electrónico?  </a:t>
            </a:r>
            <a:endParaRPr b="1" lang="en-US" sz="4400" spc="-1" strike="noStrike">
              <a:solidFill>
                <a:srgbClr val="e5e5ff"/>
              </a:solidFill>
              <a:latin typeface="Garamond"/>
            </a:endParaRPr>
          </a:p>
        </p:txBody>
      </p:sp>
      <p:sp>
        <p:nvSpPr>
          <p:cNvPr id="104"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y N° 19.799.</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úblico?  </a:t>
            </a:r>
            <a:endParaRPr b="1" lang="en-US" sz="4400" spc="-1" strike="noStrike">
              <a:solidFill>
                <a:srgbClr val="e5e5ff"/>
              </a:solidFill>
              <a:latin typeface="Garamond"/>
            </a:endParaRPr>
          </a:p>
        </p:txBody>
      </p:sp>
      <p:sp>
        <p:nvSpPr>
          <p:cNvPr id="106"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un documento otorgado por el competente funcionario público con las solemnidades legal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rivado?  </a:t>
            </a:r>
            <a:endParaRPr b="1" lang="en-US" sz="4400" spc="-1" strike="noStrike">
              <a:solidFill>
                <a:srgbClr val="e5e5ff"/>
              </a:solidFill>
              <a:latin typeface="Garamond"/>
            </a:endParaRPr>
          </a:p>
        </p:txBody>
      </p:sp>
      <p:sp>
        <p:nvSpPr>
          <p:cNvPr id="108"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aquel otorgado por particulares sin que en su otorgamiento participe un funcionario públic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Pueden otorgarse instrumentos públicos y privados electrónicos? ¿Cuáles son los requisitos que exige la ley?</a:t>
            </a:r>
            <a:endParaRPr b="1" lang="en-US" sz="4400" spc="-1" strike="noStrike">
              <a:solidFill>
                <a:srgbClr val="e5e5ff"/>
              </a:solidFill>
              <a:latin typeface="Garamond"/>
            </a:endParaRPr>
          </a:p>
        </p:txBody>
      </p:sp>
      <p:sp>
        <p:nvSpPr>
          <p:cNvPr id="110" name="PlaceHolder 2"/>
          <p:cNvSpPr>
            <a:spLocks noGrp="1"/>
          </p:cNvSpPr>
          <p:nvPr>
            <p:ph/>
          </p:nvPr>
        </p:nvSpPr>
        <p:spPr>
          <a:xfrm>
            <a:off x="468360" y="3645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or regla general sí, salvo los actos excluidos por la ley de firma electrónica. La ley exige firma electrónica avanzada para los instrumentos públic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restricciones legales existen para suscribir documentos electrónicos? </a:t>
            </a:r>
            <a:endParaRPr b="1" lang="en-US" sz="4400" spc="-1" strike="noStrike">
              <a:solidFill>
                <a:srgbClr val="e5e5ff"/>
              </a:solidFill>
              <a:latin typeface="Garamond"/>
            </a:endParaRPr>
          </a:p>
        </p:txBody>
      </p:sp>
      <p:sp>
        <p:nvSpPr>
          <p:cNvPr id="112" name="PlaceHolder 2"/>
          <p:cNvSpPr>
            <a:spLocks noGrp="1"/>
          </p:cNvSpPr>
          <p:nvPr>
            <p:ph/>
          </p:nvPr>
        </p:nvSpPr>
        <p:spPr>
          <a:xfrm>
            <a:off x="468360" y="2997000"/>
            <a:ext cx="8229600" cy="3446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 artículo 3 de la Ley de firma electrónica excluye de la posiblidad de suscribir documentos electrónicos los actos de familia, los que tienen solemnidades que no son susceptibles de otorgarse por medios electrónicos, y los que requieren la comparecencia personal de las par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s posible suscribir una escritura pública en forma electrónica? Fundamente su respuesta. </a:t>
            </a:r>
            <a:endParaRPr b="1" lang="en-US" sz="4000" spc="-1" strike="noStrike">
              <a:solidFill>
                <a:srgbClr val="e5e5ff"/>
              </a:solidFill>
              <a:latin typeface="Garamond"/>
            </a:endParaRPr>
          </a:p>
        </p:txBody>
      </p:sp>
      <p:sp>
        <p:nvSpPr>
          <p:cNvPr id="11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Es discutible. Por un lado es posible decir que es posible ya que la ley de firma electrónica no excluye expresamente la posiblidad de otorgar una escritura pública electrónica. Sin embargo, en la medida que el COT exige la comparecencia personal de las partes, por aplicación del artículo 3 de la ley de firma electrónica, no sería posible suscribirla en forma electrón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onceptos Básicos</a:t>
            </a:r>
            <a:endParaRPr b="1" lang="en-US" sz="4000" spc="-1" strike="noStrike">
              <a:solidFill>
                <a:srgbClr val="e5e5ff"/>
              </a:solidFill>
              <a:latin typeface="Garamond"/>
            </a:endParaRPr>
          </a:p>
        </p:txBody>
      </p:sp>
      <p:sp>
        <p:nvSpPr>
          <p:cNvPr id="116"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 sostenemos que la escritura pública puede otorgarse por medios electrónicos, debería ser suscrita con firma electrónica avanzada,  y adicionalmente, tener el servicio de time stamping, para que haga fe también de la fecha de otorga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5:30:08Z</dcterms:created>
  <dc:creator>CANELO ABOGADOS</dc:creator>
  <dc:description/>
  <dc:language>en-US</dc:language>
  <cp:lastModifiedBy>CANELO ABOGADOS</cp:lastModifiedBy>
  <dcterms:modified xsi:type="dcterms:W3CDTF">2008-04-08T02:05:35Z</dcterms:modified>
  <cp:revision>184</cp:revision>
  <dc:subject/>
  <dc:title>Diapositiva 1</dc:title>
</cp:coreProperties>
</file>