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FF89-7627-476F-B6EE-62E875E4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DC1F-B832-45E9-BF5A-9B9EA50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0BAB-3719-4B6D-A86D-F406D6A7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F7DC-AB40-4688-A9A7-CEAEDA90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0D95-49DC-4B9E-AD0B-510E2687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0A55-D886-4416-9E59-A07B7875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43F4-ECC4-4701-AA72-81233A4C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45F2-0ED1-49EC-89EA-9D383251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849A-9D9E-4EB2-BC89-C1CB6667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7145-64D5-4B37-B5EE-5898AF51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5753-9CC2-4044-B4D6-D3373AA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5AC6-F396-409D-B7AF-474315D3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CF97-CEBF-42BE-8050-95442C16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F297-1541-47EE-9845-8FBABB2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696A-8846-4F32-B5B1-592C131F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8891-4B6C-4054-BBEA-4C009D7F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FA1C-54D7-40A0-B01D-7DD66935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516A-B239-4029-90D6-B2A031F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26E8-02B7-4AF6-A99F-2D542564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20DF-0D82-4639-8C37-6963B821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8137-C41F-4744-B998-228F9CE5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078F-EFED-4B1B-B4EA-12F8C46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4983-2AC4-4CB5-9063-DFE86F04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4398-B57E-4EE2-A1FB-A5DBE6A5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53DB-D53C-4289-A461-E426DA424AF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1AED-31BF-44C3-A9D2-3ECC999E2DA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canelo@caneloabogados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26560" y="1412640"/>
            <a:ext cx="7488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spectos procesales del Documento Electrónic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rola Canelo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ccanelo@caneloabogados.c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e5ff"/>
                </a:solidFill>
                <a:latin typeface="Garamond"/>
              </a:rPr>
              <a:t>Conceptos Básic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Tipos de documentos electrónic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Instrumento Público. Deben ser firmados con firma electrónica avanzad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Instrumento Privado. Firma electrónica simple o avanzad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e5ff"/>
                </a:solidFill>
                <a:latin typeface="Garamond"/>
              </a:rPr>
              <a:t>Conceptos Básic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Valor probatorio de los documentos electró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Instrumentos Públicos. Reglas gener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Instrumentos Privados con firma electrónica avanzada.  Igual valor de los públicos, salvo por la fecha. A no ser que sea certifica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Instrumentos Privados con firma electrónica simple. Reglas gener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e5ff"/>
                </a:solidFill>
                <a:latin typeface="Garamond"/>
              </a:rPr>
              <a:t>Conceptos Básic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Importancia del Documento Electrónico en el Derecho Procesal ho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Expediente electrónic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Aspectos probatorios de actos y contrato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e5ff"/>
                </a:solidFill>
                <a:latin typeface="Garamond"/>
              </a:rPr>
              <a:t>Desafíos y Oportunidad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Usar la tecnología para el mejoramiento del Derecho Proces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Análisis jurídico de temas de interés que puedan ser objeto de Memor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Preguntas y Comentari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287880"/>
            <a:ext cx="82296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Gracias por su tiempo y atenció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Carola Canel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ccanelo@caneloabogados.c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Temario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roduc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eptos básico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fíos y oportunidad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Introducción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ortancia del Documento Electrónico en el mundo de ho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versas manifestaciones ( e-mail o correo electrónico, mensajes de texto, información en diversos formatos, Word. Excel, u otros, bases de datos, etc.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ación con el Derecho Proce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Conceptos Básicos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ocumento Electrónico. Ley N° 19.79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da representación de un hecho, imagen o idea que sea creada, enviada, comunicada o recibida por medios electrónicos y almacenada de un modo idóneo para permitir su uso posterior”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Conceptos Básicos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ectrónico: “Característica de la tecnología que tiene capacidades eléctricas, digitales, magnéticas, inalánbricas, ópticas, electromagnéticas u otras similares”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Conceptos Básicos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rma Electrónica: cualquier sonido, símbolo o proceso electrónico, que permite  al receptor de un documento electrónico identificar al menos formalmente a su auto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Conceptos Básicos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rma Electrónica Avanzada: “Aquella certificada por un prestador acreditado, que ha sido creada usando medios que el titular mantiene bajo su exclusivo control, de manera que se vincule únicamente al mismo y a los datos a los que se refiere, permitiendo la detección posterior de cualquier modificación, verificando la identidad del titular e impidiendo que desconozca la integridad del documento y su autoría”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e5ff"/>
                </a:solidFill>
                <a:latin typeface="Garamond"/>
              </a:rPr>
              <a:t>Conceptos Básic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rt.</a:t>
            </a: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 3 de la Ley: equivalencia de los documentos electrónicos con los documentos en soporte de pape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aramond"/>
              </a:rPr>
              <a:t>Excepciones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e5ff"/>
                </a:solidFill>
                <a:latin typeface="Garamond"/>
              </a:rPr>
              <a:t>Conceptos Básic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7340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rt.</a:t>
            </a: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 3 de la Ley: Excepcione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a) Aquellos en que la ley exige una solemnidad que no sea susceptible de cumplirse mediante documento electrónic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b) Aquellos en que la ley requiere la concurrencia personal de alguna de las par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c) Actos de derecho de famil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5:30:08Z</dcterms:created>
  <dc:creator>CANELO ABOGADOS</dc:creator>
  <dc:description/>
  <dc:language>en-US</dc:language>
  <cp:lastModifiedBy>CANELO ABOGADOS</cp:lastModifiedBy>
  <dcterms:modified xsi:type="dcterms:W3CDTF">2008-03-25T03:43:20Z</dcterms:modified>
  <cp:revision>163</cp:revision>
  <dc:subject/>
  <dc:title>Diapositiva 1</dc:title>
</cp:coreProperties>
</file>