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9720-F8F2-42EB-BB1D-D2242234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32E-59C6-4515-B1CC-D93BB45F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8DF-8D55-4386-9592-34D5E44E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B1A-FC34-43A4-9D10-434E21E6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9C3A-E7A9-4EC7-BFC8-DBD61B1B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4C7E-549B-4887-960F-B41C36CE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4626-1BC0-48E3-93D6-CB2C46A7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8E74-7062-477F-AD86-A54FE1C9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8D26-6088-40C2-8A34-02A5F69F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1341-23CD-4F64-937A-EE076E49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9EBD-3AB5-42A2-97E4-47A57556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253-EC56-42F1-91AA-51E5710B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8EAE-AC1F-400A-AD13-C484E773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A8FA-E378-46F5-A325-FC2F33C3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966A-1C0D-4F4F-A6F0-2EA36E2B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5E31-5BEF-4AFE-A4AF-4BA25D08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FC1F-7199-4ACD-959F-020DA14E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8FCF-F8A0-44D7-98BF-46200399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B20-5E2E-482C-B927-73749D93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4BA-B29A-4C60-9DD6-045B761D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3A5-800B-4F65-B5C1-621A9897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023-FA00-4C74-9381-792CC8D7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37A-853A-4436-B369-25D2B712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CE71-8529-44A3-9716-25CAA30F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54C9-697B-4D08-8E98-544450A7259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6D5C-EBEC-4EC8-B6F3-C05EE8A6CE8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832720" cy="504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59280" y="206856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erecho Procesal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705040"/>
            <a:ext cx="401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Medidas prejudiciales”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60280"/>
            <a:ext cx="56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5589720"/>
            <a:ext cx="2232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48360" y="5734080"/>
            <a:ext cx="194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orena Cuevas H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2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1628640"/>
            <a:ext cx="741672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finición: actos jurídicos procesales preliminares al juicio destinados a preparar o cautelar las pretensiones de los sujetos en el conflict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definición permite distinguir ent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paratorias propiamente 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 proba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cau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 rot="10800000">
            <a:off x="826200" y="1431000"/>
            <a:ext cx="75438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1995480"/>
            <a:ext cx="8101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268280"/>
            <a:ext cx="7848720" cy="52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tituyen una forma de iniciar un proc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posteriores al conflicto, pero anteriores a la demanda. No obstante lo cual, el solicitante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deb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señalar cual es la acción que deducirá y su fundamento en forma somera. Art. 287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an origen a un proceso que puede continuar o derivar en aquel que resolverá el confli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concesión de una medida prejudicial puede dar origen a una relación procesal simple o completa, dependiendo de cómo se concede por el juez, esto es, si es con o sin audiencia del afectado por la medi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solicitud de alguna medida prejudicial debe cumplir con los mismos requisitos que se exigen para cualquier escrito, además de las normas de la comparecencia en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regla general el ejercicio de las mediadas le corresponden al futuro demandante, R. Esp. Art. 288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476280"/>
            <a:ext cx="6985080" cy="15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1628640"/>
            <a:ext cx="7416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Deben plantearse ante tribunal competente, en aplicación de las reglas generales de la competenc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de derecho estricto, es decir, no hay mas medidas prejudiciales que las que establece la le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1628640"/>
            <a:ext cx="741672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aquellas que preparan la entrada al juic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e encuentran reguladas en art. 273  CP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El juicio ordinario podrá prepararse, exigiendo el que pretende demandar de aquel contra quien se propone dirigir la deman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1° Declaración jurada acerca de algún hecho relativo a su capacidad para parecer en juicio, o a su personería o al nombre y domicilio de sus represent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be hacer presente lo que dispone el art. 254 Nº 3 CP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legislador quiere un emplazamiento válido en el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 que el requerido se rehúsa a cumplirla, o no es categórico se pueden imponer multas y arrestos, insistir en la orden y aprem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628640"/>
            <a:ext cx="74167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° “La exhibición de la cosa que haya de ser objeto de la acción que se trata de entablar;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cumple exhibiendo, mostrando o autorizando al interesado para que reconoz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se pueden aplicar multas y arrestos, inclusive el allanamiento del lugar donde se encuentre la co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t. 282 CPC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º “La exhibición de sentencias, testamentos, inventarios, tasaciones, títulos de propiedad u otros instrumentos públicos o privados que por su naturaleza puedan interesar a diversas persona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pierde el derecho de hacerlos valer posteriormente. Salvo que la parte contraria los invoque en apoyo de su defen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28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 preparatorias</a:t>
            </a:r>
            <a:br>
              <a:rPr sz="3200"/>
            </a:br>
            <a:br>
              <a:rPr sz="32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1628640"/>
            <a:ext cx="741672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° “Exhibición de los libros de contabilidad relativos a negocios en que tenga parte el solicitante, sin perjuicio de lo dispuesto en los artículos 42 y 43 del Código de Comercio” ;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° “El reconocimiento jurado de firma, puesta en instrumento privado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 las de los Nº 3 y 4, se les ha considerado que tienen un doble carácter, es decir, preparatoria y probator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medida establecida en el Nº 5 se considera como obligatoria para el juez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rena</cp:lastModifiedBy>
  <dcterms:modified xsi:type="dcterms:W3CDTF">2008-04-07T01:40:45Z</dcterms:modified>
  <cp:revision>219</cp:revision>
  <dc:subject/>
  <dc:title>MECESUP PROJECT</dc:title>
</cp:coreProperties>
</file>