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19C4-FF94-4B3A-87B2-8E2C5734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EBB-4C08-437F-B404-D5D17DDE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1479-5F6E-43CE-8E41-1A2A4BA2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F08-4390-464B-8B46-58D132BF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9D7A-85A0-4DC3-9442-B15DE6ED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5D38-6B5C-4C05-B7BC-4172ED1E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2928-BB92-481A-A0F2-AC657704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AE6F-6D19-434F-97A2-96CB1CA2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217F-0D5C-4EB1-80DD-3DF3E01C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A271-6715-4D38-B669-366F6759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BB50-F800-419F-B6FC-DFDF3F61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DC06-F7C9-49EC-8BCD-639C91A6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3C93-3829-4D3B-B0BB-E40BBA22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917F-FA7F-4D77-AB4C-200395FC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584B-942F-44A4-ACB0-5FE5ABBB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5327-7AB5-46A5-B571-E738F0D1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4323-ED8D-4923-B6D3-8AF77FA0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DF18-08ED-4BB1-BDF5-3FAAE383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65CD-CA46-4E44-B0E9-0F732E4A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A214-2E9C-4EFD-AFD2-CF7BADF7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746-1B89-479C-A897-87147C17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5BD0-253F-4406-A372-EDCFB46D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F913-4F65-4A4F-8349-6DDD516F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590A-ACFF-47A1-B832-76BA8BBC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D200-6BEE-41F9-BFB7-629A84F36B1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6D81-5B59-486F-BC50-D85D44F2BC82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5832720" cy="5040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59280" y="206856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erecho Procesal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705040"/>
            <a:ext cx="401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Medidas prejudiciales”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60280"/>
            <a:ext cx="561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5589720"/>
            <a:ext cx="2232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48360" y="5734080"/>
            <a:ext cx="194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5805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orena Cuevas H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2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92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1628640"/>
            <a:ext cx="741672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finición: actos jurídicos procesales preliminares al juicio destinados a preparar o cautelar las pretensiones de los sujetos en el conflicto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definición permite distinguir ent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paratorias propiamente 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 proba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cau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 rot="10800000">
            <a:off x="826200" y="1431000"/>
            <a:ext cx="75438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1995480"/>
            <a:ext cx="8101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ahoma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1268280"/>
            <a:ext cx="7848720" cy="52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tituyen una forma de iniciar un proc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posteriores al conflicto, pero anteriores a la demanda. No obstante lo cual, el solicitante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deb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señalar cual es la acción que deducirá y su fundamento en forma somera. Art. 287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an origen a un proceso que puede continuar o derivar en aquel que resolverá el confli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concesión de una medida prejudicial puede dar origen a una relación procesal simple o completa, dependiendo de cómo se concede por el juez, esto es, si es con o sin audiencia del afectado por la medi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solicitud de alguna medida prejudicial debe cumplir con los mismos requisitos que se exigen para cualquier escrito, además de las normas de la comparecencia en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regla general el ejercicio de las mediadas le corresponden al futuro demandante, R. Esp. Art. 288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476280"/>
            <a:ext cx="6985080" cy="15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1628640"/>
            <a:ext cx="74167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Deben plantearse ante tribunal competente, en aplicación de las reglas generales de la competenci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de derecho estricto, es decir, no hay mas medidas prejudiciales que las que establece la ley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1628640"/>
            <a:ext cx="7416720" cy="48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aquellas que preparan la entrada al juici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e encuentran reguladas en art. 273  CP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El juicio ordinario podrá prepararse, exigiendo el que pretende demandar de aquel contra quien se propone dirigir la demand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1° Declaración jurada acerca de algún hecho relativo a su capacidad para parecer en juicio, o a su personería o al nombre y domicilio de sus representan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be hacer presente lo que dispone el art. 254 Nº 3 CP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legislador quiere un emplazamiento válido en el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 que el requerido se rehúsa a cumplirla, o no es categórico se pueden imponer multas y arrestos, insistir en la orden y aprem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628640"/>
            <a:ext cx="741672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° “La exhibición de la cosa que haya de ser objeto de la acción que se trata de entablar;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cumple exhibiendo, mostrando o autorizando al interesado para que reconoz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se pueden aplicar multas y arrestos, inclusive el allanamiento del lugar donde se encuentre la co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t. 282 CPC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º “La exhibición de sentencias, testamentos, inventarios, tasaciones, títulos de propiedad u otros instrumentos públicos o privados que por su naturaleza puedan interesar a diversas persona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pierde el derecho de hacerlos valer posteriormente. Salvo que la parte contraria los invoque en apoyo de su defen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28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 preparatorias</a:t>
            </a:r>
            <a:br>
              <a:rPr sz="3200"/>
            </a:br>
            <a:br>
              <a:rPr sz="32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1628640"/>
            <a:ext cx="741672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° “Exhibición de los libros de contabilidad relativos a negocios en que tenga parte el solicitante, sin perjuicio de lo dispuesto en los artículos 42 y 43 del Código de Comercio” ;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° “El reconocimiento jurado de firma, puesta en instrumento privado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 las de los Nº 3 y 4, se les ha considerado que tienen un doble carácter, es decir, preparatoria y probator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medida establecida en el Nº 5 se considera como obligatoria para el juez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rena</cp:lastModifiedBy>
  <dcterms:modified xsi:type="dcterms:W3CDTF">2008-04-07T01:40:45Z</dcterms:modified>
  <cp:revision>219</cp:revision>
  <dc:subject/>
  <dc:title>MECESUP PROJECT</dc:title>
</cp:coreProperties>
</file>