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9B96-E2A0-4435-AEB1-4395EB0E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D0F-5D84-470A-B6DC-66F09C6D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5024-A5B2-4D50-9542-D55D9192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37F-DCC5-4469-8309-9C5FE318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0FC1-E5B3-4B8E-A7D9-B6304864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BDED-146E-4473-8CBC-4FC36FEC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FE98-F1D4-401F-B0A8-36F89002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B410-0B5C-46B4-8BC8-144282C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A722-61E7-4DD9-9DAF-57158CC5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1E8F-B6B9-45FE-AF46-1E7D6D13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63C6-3875-4052-BEF8-088BE68B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F2B-B90D-4448-B5C6-308CE7B4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FEB2-6E33-4E1D-BC37-6C546559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13DD-81DE-41CB-B307-817D90A2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BACC-F873-4B53-98F9-C81A0B0B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2549-AC09-42E1-B824-54AC31B6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F8E5-622E-4D77-AABF-5DEFCAC4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E21-BD3A-4364-A9FD-487531B9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E02-64FD-4984-A0C6-E79E47F2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95C-5D6F-4F9A-920E-A996139E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2CE-AE19-49FD-8464-7A4F688B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AAD-1F83-4D98-804A-E94EABB6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6CB-AF9C-4767-96A4-1117E7D4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0A0-38AE-43EA-B6AB-A65B8053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163-F043-4BEF-B034-FF0D572A2A69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8A50-B17E-4347-951F-D0626DAD916D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583272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859280" y="206856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Derecho Procesal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705040"/>
            <a:ext cx="401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Medidas prejudiciales”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60280"/>
            <a:ext cx="561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Universidad de Chile</a:t>
            </a:r>
            <a:br>
              <a:rPr sz="4000"/>
            </a:br>
            <a:r>
              <a:rPr b="1" lang="es-ES" sz="3600" spc="-1" strike="noStrike">
                <a:solidFill>
                  <a:srgbClr val="ffffcc"/>
                </a:solidFill>
                <a:latin typeface="Arial"/>
              </a:rPr>
              <a:t>Facultad de Derec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5589720"/>
            <a:ext cx="2232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5734080"/>
            <a:ext cx="194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5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Lorena Cuevas H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9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1628640"/>
            <a:ext cx="741672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: actos jurídicos procesales preliminares al juicio destinados a preparar o cautelar las pretensiones de los sujetos en el conflicto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definición permite distinguir ent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paratorias propiamente t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 proba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didas precaut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 rot="10800000">
            <a:off x="826200" y="1431000"/>
            <a:ext cx="7543800" cy="55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1995480"/>
            <a:ext cx="810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1268280"/>
            <a:ext cx="784872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ituyen una forma de iniciar un proce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on posteriores al conflicto, pero anteriores a la demanda. No obstante lo cual, el solicitante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be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señalar cual es la acción que deducirá y su fundamento en forma somera. Art. 287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an origen a un proceso que puede continuar o derivar en aquel que resolverá el confli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concesión de una medida prejudicial puede dar origen a una relación procesal simple o completa, dependiendo de cómo se concede por el juez, esto es, si es con o sin audiencia del afectado por la medi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solicitud de alguna medida prejudicial debe cumplir con los mismos requisitos que se exigen para cualquier escrito, además de las normas de la comparecencia en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r regla general el ejercicio de las mediadas le corresponden al futuro demandante, R. Esp. Art. 288 CP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280" y="476280"/>
            <a:ext cx="6985080" cy="15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Característica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1628640"/>
            <a:ext cx="7416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Deben plantearse ante tribunal competente, en aplicación de las reglas generales de la compet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de derecho estricto, es decir, no hay mas medidas prejudiciales que las que establece la ley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16000" y="1628640"/>
            <a:ext cx="741672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on aquellas que preparan la entrada al juic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88920" algn="just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Se encuentran reguladas en art. 273  CP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El juicio ordinario podrá prepararse, exigiendo el que pretende demandar de aquel contra quien se propone dirigir la demand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1° Declaración jurada acerca de algún hecho relativo a su capacidad para parecer en juicio, o a su personería o al nombre y domicilio de sus representant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e hacer presente lo que dispone el art. 254 Nº 3 CP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legislador quiere un emplazamiento válido en el juic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caso que el requerido se rehúsa a cumplirla, o no es categórico se pueden imponer multas y arrestos, insistir en la orden y aprem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62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32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1628640"/>
            <a:ext cx="7416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° “La exhibición de la cosa que haya de ser objeto de la acción que se trata de entablar;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 cumple exhibiendo, mostrando o autorizando al interesado para que reconoz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se pueden aplicar multas y arrestos, inclusive el allanamiento del lugar donde se encuentre la co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rt. 282 CPC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º “La exhibición de sentencias, testamentos, inventarios, tasaciones, títulos de propiedad u otros instrumentos públicos o privados que por su naturaleza puedan interesar a diversas persona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1360" indent="-171360" algn="just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 no cumple pierde el derecho de hacerlos valer posteriormente. Salvo que la parte contraria los invoque en apoyo de su defen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Medidas prejudiciales preparatorias</a:t>
            </a:r>
            <a:br>
              <a:rPr sz="3200"/>
            </a:br>
            <a:br>
              <a:rPr sz="32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2133720"/>
            <a:ext cx="782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00" y="0"/>
            <a:ext cx="78732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289080" y="18446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br>
              <a:rPr sz="700"/>
            </a:br>
            <a:r>
              <a:rPr b="0" lang="es-ES" sz="7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1628640"/>
            <a:ext cx="741672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° “Exhibición de los libros de contabilidad relativos a negocios en que tenga parte el solicitante, sin perjuicio de lo dispuesto en los artículos 42 y 43 del Código de Comercio” ;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° “El reconocimiento jurado de firma, puesta en instrumento privado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 las de los Nº 3 y 4, se les ha considerado que tienen un doble carácter, es decir, preparatoria y prob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medida establecida en el Nº 5 se considera como obligatoria para el juez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733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rena</cp:lastModifiedBy>
  <dcterms:modified xsi:type="dcterms:W3CDTF">2008-04-07T01:40:45Z</dcterms:modified>
  <cp:revision>219</cp:revision>
  <dc:subject/>
  <dc:title>MECESUP PROJECT</dc:title>
</cp:coreProperties>
</file>