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DD5A4-817F-4F26-BE53-F0B6BC753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7C55-08B2-4C6F-B4EE-11BAB8B4A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33178-CD45-41EF-97C8-B415A5230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A1E7-FBF2-4DDC-97C0-E2A7549F1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14662-A789-4B6B-8773-A81520B1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A8170-4A90-4DA1-B64B-7D87A1AB3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3C30A-D14A-4A08-9DAC-90D6E26C2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6A1E-FFA8-4C87-966A-D6DB91FC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B8CCE-CC59-4041-8417-6654360F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C963-DF7A-4106-BA2E-A967BA3F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D8C7-0AD2-4879-97C0-666643F3B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8A12-B02C-4BD6-8335-622F25EE4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B022-6630-4B80-A9B1-30C72F2ED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2:11Z</dcterms:modified>
  <cp:revision>39</cp:revision>
  <dc:subject/>
  <dc:title>El espacio público en Hannah Arendt</dc:title>
</cp:coreProperties>
</file>