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2A253-EC24-405B-8A3C-3CF4FD433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2FE5-8CA2-417C-B71C-3745F87AD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5CADA-A4B9-4800-BC5F-DD7B2A733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34A3A-9C3A-4CE9-96EB-A1BA872FC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5835D-570D-40FC-A097-3454ED89C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D0328-32D1-4442-98A5-AB9F41F1F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305EA-B00B-4B6A-BCD2-372AD5082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5B250-8456-4E04-813E-BDC541758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C3D69-65BF-46AE-8F5F-EF129620E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975E6-290C-4B6D-8A0B-EE45A400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E04CD-4E25-4BEA-B54A-530D3D88B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1282A-CF06-49B4-8058-641A26926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AAF2-7EA7-46DE-807C-6DF78DA4F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22:11Z</dcterms:modified>
  <cp:revision>39</cp:revision>
  <dc:subject/>
  <dc:title>El espacio público en Hannah Arendt</dc:title>
</cp:coreProperties>
</file>