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7.png" ContentType="image/png"/>
  <Override PartName="/ppt/media/image4.jpeg" ContentType="image/jpeg"/>
  <Override PartName="/ppt/media/image16.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22444-FA0C-4835-8B9D-E3297B834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5529C-535B-42AC-86A5-0B728A54C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DA118-DE68-4204-95B0-C9C14DE67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5ED4F-2202-4FEC-8DF8-11AAE88C6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91898-B8ED-4F4D-BD3D-CA05CC4E8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642FE-8961-4D7C-845A-4A75F576F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533BA-0121-4120-848B-32BBD80B7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4E9FB-C0C2-4ECF-9FA8-761B060B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9C70-F1F1-4DDA-AD6A-B648D49D9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BF3D-AF6E-4FC4-8537-8A59C40E0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C1E57-6DCF-48B9-9595-BC44AFB6D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16A2-F6D8-4E1C-9ED6-2B03C1B07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15C7-580B-4634-810E-56E83BB47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cuestión límite. La guerr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guerra es un mundo aparte; un mundo en el que está en juego la propia vida, en el que la naturaleza humana se ve reducida a sus formas más elementales, en donde prevalecen el interés propio y la necesidad.  En un mundo semejante, los hombres y las mujeres no tienen más remedio que hacer lo que hacen para salvarse a sí mismos y a la comunidad a la que pertenecen, de modo que la moral y la ley están fuera de lugar.  “Inter. arma silent leges: cuando las armas hablan callan las leyes.</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Michael Walzer</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46080"/>
            <a:ext cx="2987640" cy="6811920"/>
          </a:xfrm>
          <a:prstGeom prst="rect">
            <a:avLst/>
          </a:prstGeom>
          <a:ln w="0">
            <a:noFill/>
          </a:ln>
        </p:spPr>
      </p:pic>
      <p:pic>
        <p:nvPicPr>
          <p:cNvPr id="44" name="" descr=""/>
          <p:cNvPicPr/>
          <p:nvPr/>
        </p:nvPicPr>
        <p:blipFill>
          <a:blip r:embed="rId2"/>
          <a:stretch/>
        </p:blipFill>
        <p:spPr>
          <a:xfrm>
            <a:off x="5796000" y="0"/>
            <a:ext cx="3348000" cy="6858000"/>
          </a:xfrm>
          <a:prstGeom prst="rect">
            <a:avLst/>
          </a:prstGeom>
          <a:ln w="0">
            <a:noFill/>
          </a:ln>
        </p:spPr>
      </p:pic>
      <p:pic>
        <p:nvPicPr>
          <p:cNvPr id="45" name="" descr=""/>
          <p:cNvPicPr/>
          <p:nvPr/>
        </p:nvPicPr>
        <p:blipFill>
          <a:blip r:embed="rId3"/>
          <a:stretch/>
        </p:blipFill>
        <p:spPr>
          <a:xfrm>
            <a:off x="2987640" y="0"/>
            <a:ext cx="3024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43"/>
                                        </p:tgtEl>
                                        <p:attrNameLst>
                                          <p:attrName>style.visibility</p:attrName>
                                        </p:attrNameLst>
                                      </p:cBhvr>
                                      <p:to>
                                        <p:strVal val="visible"/>
                                      </p:to>
                                    </p:set>
                                    <p:animEffect filter="wedge"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5"/>
                                        </p:tgtEl>
                                        <p:attrNameLst>
                                          <p:attrName>style.visibility</p:attrName>
                                        </p:attrNameLst>
                                      </p:cBhvr>
                                      <p:to>
                                        <p:strVal val="visible"/>
                                      </p:to>
                                    </p:set>
                                    <p:animEffect filter="diamond(in)" transition="in">
                                      <p:cBhvr additive="repl">
                                        <p:cTn id="12" dur="20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gtEl>
                                        <p:attrNameLst>
                                          <p:attrName>style.visibility</p:attrName>
                                        </p:attrNameLst>
                                      </p:cBhvr>
                                      <p:to>
                                        <p:strVal val="visible"/>
                                      </p:to>
                                    </p:set>
                                    <p:animEffect filter="blinds(horizontal)"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guerra y el derech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us ad bellum. </a:t>
            </a:r>
            <a:endParaRPr b="0" lang="en-US" sz="4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ta de la justicia a la hora de recurrir a la guerra</a:t>
            </a:r>
            <a:endParaRPr b="0" lang="en-US" sz="2400" spc="-1" strike="noStrike">
              <a:solidFill>
                <a:srgbClr val="0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us in bello</a:t>
            </a:r>
            <a:endParaRPr b="0" lang="en-US" sz="4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ta de la justicia de las conductas durante la guerra</a:t>
            </a:r>
            <a:endParaRPr b="0" lang="en-US" sz="2400" spc="-1" strike="noStrike">
              <a:solidFill>
                <a:srgbClr val="000000"/>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Times New Roman"/>
              </a:rPr>
              <a:t>Ius post bellum</a:t>
            </a:r>
            <a:endParaRPr b="0" lang="en-US" sz="4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ta de la justicia de los tratados de paz, terminación de la guerra, reconstrucción y rehabilitación posbélic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 descr=""/>
          <p:cNvPicPr/>
          <p:nvPr/>
        </p:nvPicPr>
        <p:blipFill>
          <a:blip r:embed="rId1"/>
          <a:stretch/>
        </p:blipFill>
        <p:spPr>
          <a:xfrm>
            <a:off x="0" y="0"/>
            <a:ext cx="4427640" cy="6858000"/>
          </a:xfrm>
          <a:prstGeom prst="rect">
            <a:avLst/>
          </a:prstGeom>
          <a:ln w="0">
            <a:noFill/>
          </a:ln>
        </p:spPr>
      </p:pic>
      <p:pic>
        <p:nvPicPr>
          <p:cNvPr id="80" name="" descr=""/>
          <p:cNvPicPr/>
          <p:nvPr/>
        </p:nvPicPr>
        <p:blipFill>
          <a:blip r:embed="rId2"/>
          <a:stretch/>
        </p:blipFill>
        <p:spPr>
          <a:xfrm>
            <a:off x="4356000" y="0"/>
            <a:ext cx="4788000" cy="6858000"/>
          </a:xfrm>
          <a:prstGeom prst="rect">
            <a:avLst/>
          </a:prstGeom>
          <a:ln w="0">
            <a:noFill/>
          </a:ln>
        </p:spPr>
      </p:pic>
      <p:sp>
        <p:nvSpPr>
          <p:cNvPr id="81" name=""/>
          <p:cNvSpPr/>
          <p:nvPr/>
        </p:nvSpPr>
        <p:spPr>
          <a:xfrm flipV="1" rot="10414800">
            <a:off x="404280" y="5396040"/>
            <a:ext cx="31654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72 Kim Phuc, la niña que huye de la guerra</a:t>
            </a: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82" name=""/>
          <p:cNvSpPr/>
          <p:nvPr/>
        </p:nvSpPr>
        <p:spPr>
          <a:xfrm>
            <a:off x="4356000" y="5904360"/>
            <a:ext cx="478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005 Kim Phuc, en la actualida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realismo polític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realismo es la clave.  Quienes defienden el silencio de las leyes proclaman haber descubierto una terrible verdad: lo que, por convención, denominamos inhumanidad resulta no ser más que la humanidad bajo presión.  La guerra nos despoja de nuestros civilizados aderezos y pone de manifiesto nuestra desnudez.  Tucídides y el filósofo Thomas Hobbes.  Ambos hombres, distanciados por un período de dos mil años, llegan, no obstante, a  establecer una cierta colaboración, ya que Hobbes tradujo la Historia de la guerra del Peloponeso de Tucídides, generalizando después la tesis de dicha obra en su propio Leviatán.</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4562640" cy="6858000"/>
          </a:xfrm>
          <a:prstGeom prst="rect">
            <a:avLst/>
          </a:prstGeom>
          <a:ln w="0">
            <a:noFill/>
          </a:ln>
        </p:spPr>
      </p:pic>
      <p:pic>
        <p:nvPicPr>
          <p:cNvPr id="49" name="" descr=""/>
          <p:cNvPicPr/>
          <p:nvPr/>
        </p:nvPicPr>
        <p:blipFill>
          <a:blip r:embed="rId2"/>
          <a:stretch/>
        </p:blipFill>
        <p:spPr>
          <a:xfrm>
            <a:off x="4524480" y="0"/>
            <a:ext cx="4619520" cy="6858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48"/>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No hay lenguaje moral en la guerra</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que uno llama sabiduría a lo que otro denomina miedo; y uno crueldad a lo que otro cree justicia; uno prodigalidad a lo que otro considera magnanimidad,  Y por consiguiente, estos nombres jamás pueden ser el auténtico fundamento de ningún razon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Tomás Hobbe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0" y="0"/>
            <a:ext cx="8964720" cy="6811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diálogo Melio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eter una agresión es simplemente “forzar a la gente a iniciar la guerra”, como viene a decir Tucídides.  “Dejémonos de hermosas palabras sobre la justicia”, dicen los generales atenienses a los representantes de Melios.  </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0" y="0"/>
            <a:ext cx="4356000" cy="6858000"/>
          </a:xfrm>
          <a:prstGeom prst="rect">
            <a:avLst/>
          </a:prstGeom>
          <a:ln w="0">
            <a:noFill/>
          </a:ln>
        </p:spPr>
      </p:pic>
      <p:pic>
        <p:nvPicPr>
          <p:cNvPr id="56"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5"/>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diálogo Melio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Por nuestra parte no pretenderemos que, por haber derrotado a los persas, tengamos derecho a nuestro imperio.  Por la vuestra, no debéis alegar que, puesto que no habéis hecho ningún mal a los atenienses, os habéis hecho acreedores a vivir en paz.  Hablemos más bien de lo que es posible y de lo que es necesario.  Porque de esto trata en realidad la guerra: “Los poderosos consiguen todo lo posible, y los débiles han de aceptarlo”.</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cluso en la guerra hay moral</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idelidad, abnegación, castidad, deshonra, adulterio, seducción, traición, agresión, defensa propia, pacificación, crueldad, actos despiadados, atrocidades, masacres: todas estas palabras constituyen juicios, y juzgar es una actividad humana tan común como la de amarse o pelea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ichael Walzer</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s Troyanas de Eurípid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án ciegos so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osotros los asoladores de ciudades, los que entregá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templos a la desolación, los que arruiná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tumbas, los no hollados santuarios en los que yac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antiguos muertos; pronto también vosotros estaréis muertos¡</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168120" y="46080"/>
            <a:ext cx="8975880" cy="6811920"/>
          </a:xfrm>
          <a:prstGeom prst="rect">
            <a:avLst/>
          </a:prstGeom>
          <a:ln w="0">
            <a:noFill/>
          </a:ln>
        </p:spPr>
      </p:pic>
      <p:pic>
        <p:nvPicPr>
          <p:cNvPr id="66" name="" descr=""/>
          <p:cNvPicPr/>
          <p:nvPr/>
        </p:nvPicPr>
        <p:blipFill>
          <a:blip r:embed="rId2"/>
          <a:stretch/>
        </p:blipFill>
        <p:spPr>
          <a:xfrm>
            <a:off x="0" y="0"/>
            <a:ext cx="9144000" cy="6858000"/>
          </a:xfrm>
          <a:prstGeom prst="rect">
            <a:avLst/>
          </a:prstGeom>
          <a:ln w="0">
            <a:noFill/>
          </a:ln>
        </p:spPr>
      </p:pic>
      <p:pic>
        <p:nvPicPr>
          <p:cNvPr id="67" name="" descr=""/>
          <p:cNvPicPr/>
          <p:nvPr/>
        </p:nvPicPr>
        <p:blipFill>
          <a:blip r:embed="rId3"/>
          <a:stretch/>
        </p:blipFill>
        <p:spPr>
          <a:xfrm>
            <a:off x="5905440" y="3600360"/>
            <a:ext cx="3238560" cy="32576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65"/>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67"/>
                                        </p:tgtEl>
                                        <p:attrNameLst>
                                          <p:attrName>style.visibility</p:attrName>
                                        </p:attrNameLst>
                                      </p:cBhvr>
                                      <p:to>
                                        <p:strVal val="visible"/>
                                      </p:to>
                                    </p:set>
                                    <p:animEffect filter="fade" transition="in">
                                      <p:cBhvr additive="repl">
                                        <p:cTn id="70" dur="1000"/>
                                        <p:tgtEl>
                                          <p:spTgt spid="67"/>
                                        </p:tgtEl>
                                      </p:cBhvr>
                                    </p:animEffect>
                                    <p:anim calcmode="lin" valueType="num">
                                      <p:cBhvr additive="repl">
                                        <p:cTn id="71" dur="1000" fill="hold"/>
                                        <p:tgtEl>
                                          <p:spTgt spid="67"/>
                                        </p:tgtEl>
                                        <p:attrNameLst>
                                          <p:attrName>ppt_x</p:attrName>
                                        </p:attrNameLst>
                                      </p:cBhvr>
                                      <p:tavLst>
                                        <p:tav tm="0">
                                          <p:val>
                                            <p:strVal val="#ppt_x"/>
                                          </p:val>
                                        </p:tav>
                                        <p:tav tm="100000">
                                          <p:val>
                                            <p:strVal val="#ppt_x"/>
                                          </p:val>
                                        </p:tav>
                                      </p:tavLst>
                                    </p:anim>
                                    <p:anim calcmode="lin" valueType="num">
                                      <p:cBhvr additive="repl">
                                        <p:cTn id="72"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La mentira es demostración de la importancia de la moral</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videncia más clara respecto de la estabilidad de nuestros valores a través del tiempo estriba en el inamovible carácter de las mentiras que cuentan los soldados y los hombres públicos.  Mienten con el fin de justificarse y, por consiguiente, exponen ante nuestros ojos los rasgos fundamentales de la justicia.  Siempre que topamos con la hipocresía, topamos también con el conocimiento moral.</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ichael Walzer</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168120" y="46080"/>
            <a:ext cx="8975880" cy="6811920"/>
          </a:xfrm>
          <a:prstGeom prst="rect">
            <a:avLst/>
          </a:prstGeom>
          <a:ln w="0">
            <a:noFill/>
          </a:ln>
        </p:spPr>
      </p:pic>
      <p:pic>
        <p:nvPicPr>
          <p:cNvPr id="71" name="" descr=""/>
          <p:cNvPicPr/>
          <p:nvPr/>
        </p:nvPicPr>
        <p:blipFill>
          <a:blip r:embed="rId2"/>
          <a:stretch/>
        </p:blipFill>
        <p:spPr>
          <a:xfrm>
            <a:off x="5580000" y="4086360"/>
            <a:ext cx="3564000" cy="27716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hipocresía y el éxit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o verdaderamente crucial es que sus acciones serán juzgadas por otras personas que no son hipócritas y cuyos juicios pueden influir en las medidas que se adopten a favor o en contra suya.  Si las cosas no fueran así, no tendría sentido ser hipócrita, del mismo modo que no tendría sentido mentir en un mundo en el que nadie dijera la verdad.  Lo que nos dice es que está combatiendo de acuerdo con el plan moral que aplicamos a la guerra: no ataca a los civiles; da cuartel a los soldados que tratan de rendirse; nunca tortura a los prisioneros, etc.</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hael Walzer</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168120" y="46080"/>
            <a:ext cx="8975880" cy="6622920"/>
          </a:xfrm>
          <a:prstGeom prst="rect">
            <a:avLst/>
          </a:prstGeom>
          <a:ln w="0">
            <a:noFill/>
          </a:ln>
        </p:spPr>
      </p:pic>
      <p:pic>
        <p:nvPicPr>
          <p:cNvPr id="75" name="" descr=""/>
          <p:cNvPicPr/>
          <p:nvPr/>
        </p:nvPicPr>
        <p:blipFill>
          <a:blip r:embed="rId2"/>
          <a:stretch/>
        </p:blipFill>
        <p:spPr>
          <a:xfrm>
            <a:off x="0" y="189000"/>
            <a:ext cx="9144000" cy="6669000"/>
          </a:xfrm>
          <a:prstGeom prst="rect">
            <a:avLst/>
          </a:prstGeom>
          <a:ln w="0">
            <a:noFill/>
          </a:ln>
        </p:spPr>
      </p:pic>
      <p:pic>
        <p:nvPicPr>
          <p:cNvPr id="76"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0:27:56Z</dcterms:created>
  <dc:creator>Sergio Micco</dc:creator>
  <dc:description/>
  <dc:language>en-US</dc:language>
  <cp:lastModifiedBy>smicco</cp:lastModifiedBy>
  <dcterms:modified xsi:type="dcterms:W3CDTF">2008-02-27T20:11:46Z</dcterms:modified>
  <cp:revision>12</cp:revision>
  <dc:subject/>
  <dc:title>En defensa de la política</dc:title>
</cp:coreProperties>
</file>