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8CF-F6F4-47C0-B298-F0493905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0E5-C3EA-4780-93E7-D18ACFB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25B-778A-4AD0-BA4E-2AA3322E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365-4F39-4A59-9CC9-9A783510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DEA-2FAC-4D9E-8E83-1B622661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6FE-7753-4044-92CE-F40A5F3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8CD-338B-4648-9509-96C2C6B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743-50A3-497E-A941-12C0A807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809-6E62-4C52-B80E-490D2E7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4EF-10C4-468D-AF84-E34AC8F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6EE-2605-4622-A1EC-C87D0C2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F6F-E13A-4926-B022-C14289C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7EF-58DA-471E-92F5-713633B5C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resig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indif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tud esto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curi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9912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titud entusia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88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174920" cy="455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959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uralismo de gru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2090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co sistemas de toler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- Imperios multi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- Comunidad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- Confed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- Estados 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- Sociedades de inmi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NICIALMENTE PIRATAS HOY MAFIA ANGLOSAJONA"/>
          <p:cNvPicPr/>
          <p:nvPr/>
        </p:nvPicPr>
        <p:blipFill>
          <a:blip r:embed="rId1"/>
          <a:stretch/>
        </p:blipFill>
        <p:spPr>
          <a:xfrm>
            <a:off x="2556000" y="1773360"/>
            <a:ext cx="3325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441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48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unidad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930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feder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41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unidad 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ociedad de inmi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7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2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572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67200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1341360"/>
            <a:ext cx="4791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sustenta la toleranc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stiene la vida misma, porque la persecución con frecuencia conduce a la muerte, y también sostiene nuestra vida en común, es decir, las diferentes comunidades en las que vivimos. La tolerancia hace posible la diferencia; la diferencia hace necesaria la toleranc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2:08:28Z</dcterms:created>
  <dc:creator>WinuE</dc:creator>
  <dc:description/>
  <dc:language>en-US</dc:language>
  <cp:lastModifiedBy>Sergio</cp:lastModifiedBy>
  <dcterms:modified xsi:type="dcterms:W3CDTF">2007-10-25T10:25:19Z</dcterms:modified>
  <cp:revision>10</cp:revision>
  <dc:subject/>
  <dc:title>Patriotismo y sus adversarios</dc:title>
</cp:coreProperties>
</file>