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2.jpeg" ContentType="image/jpeg"/>
  <Override PartName="/ppt/media/image11.png" ContentType="image/png"/>
  <Override PartName="/ppt/media/image7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4.png" ContentType="image/png"/>
  <Override PartName="/ppt/media/image3.jpeg" ContentType="image/jpeg"/>
  <Override PartName="/ppt/media/image25.png" ContentType="image/png"/>
  <Override PartName="/ppt/media/image24.png" ContentType="image/png"/>
  <Override PartName="/ppt/media/image18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png" ContentType="image/png"/>
  <Override PartName="/ppt/media/image17.png" ContentType="image/png"/>
  <Override PartName="/ppt/media/image1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29517-B85B-4EF5-8249-02944550D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87F04-3972-4410-AECD-931A80442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FE5EA-9DA2-480F-9B42-8CA455070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19F5D-4DEB-407A-9158-D0C858A7D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14127-E925-4B07-B529-2304A7A85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E12C7-6FED-4A50-9EAA-099FA578C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A223F-E4DE-4F5E-BF2B-7F5FA35CA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4F9D2-172A-4796-8E77-12F0BBB67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54B75-E70D-4EC5-90FA-BBD802911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5BAA8-73F4-4078-A031-8E4D3402B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0EA77-928A-40EF-A3F8-BF3809694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8DB4D-89ED-479D-9452-20A341D85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9C309-B5B7-4D99-AF6D-0A65F2EE49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Actitud resigna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539640" y="1628640"/>
            <a:ext cx="813600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Actitud indiferen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8207280" cy="447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titud esto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39640" y="1700280"/>
            <a:ext cx="8136000" cy="42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Actitud curios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468360" y="1844640"/>
            <a:ext cx="7991280" cy="42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Actitud entusias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468360" y="1628640"/>
            <a:ext cx="820728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988480" cy="647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dividualism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4500720" y="1700280"/>
            <a:ext cx="4174920" cy="45529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468360" y="1628640"/>
            <a:ext cx="395928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Pluralismo de grup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539640" y="1628640"/>
            <a:ext cx="8209080" cy="45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Cinco sistemas de toleranc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1.- Imperios multinacion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2.- Comunidad internac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3.- Confederac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4.- Estados nacion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5.- Sociedades de inmigran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er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INICIALMENTE PIRATAS HOY MAFIA ANGLOSAJONA"/>
          <p:cNvPicPr/>
          <p:nvPr/>
        </p:nvPicPr>
        <p:blipFill>
          <a:blip r:embed="rId1"/>
          <a:stretch/>
        </p:blipFill>
        <p:spPr>
          <a:xfrm>
            <a:off x="2556000" y="1773360"/>
            <a:ext cx="332568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95280" y="1628640"/>
            <a:ext cx="4105440" cy="44182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427640" y="1628640"/>
            <a:ext cx="424800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Comunidad internac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611280" y="1557360"/>
            <a:ext cx="7993080" cy="45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Confederac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539640" y="1628640"/>
            <a:ext cx="741708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Comunidad nac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468360" y="1628640"/>
            <a:ext cx="8136000" cy="44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Sociedad de inmigran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826920" y="1557360"/>
            <a:ext cx="777744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55520" y="46080"/>
            <a:ext cx="8988480" cy="66229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0" y="5572080"/>
            <a:ext cx="171468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8360" y="1628640"/>
            <a:ext cx="8136000" cy="45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39640" y="1628640"/>
            <a:ext cx="806472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68360" y="1413000"/>
            <a:ext cx="3672000" cy="49528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851280" y="1341360"/>
            <a:ext cx="4791240" cy="474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¿Qué sustenta la toleranci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Sostiene la vida misma, porque la persecución con frecuencia conduce a la muerte, y también sostiene nuestra vida en común, es decir, las diferentes comunidades en las que vivimos. La tolerancia hace posible la diferencia; la diferencia hace necesaria la tolerancia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55520" y="46080"/>
            <a:ext cx="8988480" cy="681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459640" cy="63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476360" y="0"/>
            <a:ext cx="6046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7T02:08:28Z</dcterms:created>
  <dc:creator>WinuE</dc:creator>
  <dc:description/>
  <dc:language>en-US</dc:language>
  <cp:lastModifiedBy>Sergio</cp:lastModifiedBy>
  <dcterms:modified xsi:type="dcterms:W3CDTF">2007-10-25T10:25:19Z</dcterms:modified>
  <cp:revision>10</cp:revision>
  <dc:subject/>
  <dc:title>Patriotismo y sus adversarios</dc:title>
</cp:coreProperties>
</file>