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2EF27-3F14-4E79-9A40-2DA2276DC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EE7A-4674-4E84-8523-DF96EF58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0700D-1C85-42EB-A268-930CACB37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D0580-5C8C-4607-A473-31F0C261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16199-EF79-4B91-A3D8-FC2D4796B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EBEF-68AD-4F60-8932-E5D3A3887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EE7E1-96B6-4234-96C9-05AB12E97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BA12A-0B78-45D8-B748-868235E78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95A92-309F-49E8-900D-4FF33F5AC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62497-618A-4138-B536-4AD8539F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1810-DE38-46B8-A0D0-CC4AE62B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8E7F-3F9F-4AA0-95EF-A0E3E6CC1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9C45-F5FF-4430-9EE2-7DE6A7FD32C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oleranc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iendo al profesor Andrés Ollero, debemos evitar activamente identificar la tolerancia con el relativismo, el escepticismo y el subjetivismo que sostienen que la ética no tiene fundamento real alguno, siendo una dimensión puramente emocional y sujeta a la más absoluta opción pers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gnación</a:t>
            </a:r>
            <a:endParaRPr b="0" lang="en-US" sz="4400" spc="-1" strike="noStrike">
              <a:solidFill>
                <a:srgbClr val="000000"/>
              </a:solidFill>
              <a:latin typeface="Arial"/>
            </a:endParaRPr>
          </a:p>
        </p:txBody>
      </p:sp>
      <p:pic>
        <p:nvPicPr>
          <p:cNvPr id="62"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indiferente</a:t>
            </a:r>
            <a:endParaRPr b="0" lang="en-US" sz="4400" spc="-1" strike="noStrike">
              <a:solidFill>
                <a:srgbClr val="000000"/>
              </a:solidFill>
              <a:latin typeface="Arial"/>
            </a:endParaRPr>
          </a:p>
        </p:txBody>
      </p:sp>
      <p:pic>
        <p:nvPicPr>
          <p:cNvPr id="64"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stoi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curiosa</a:t>
            </a:r>
            <a:endParaRPr b="0" lang="en-US" sz="4400" spc="-1" strike="noStrike">
              <a:solidFill>
                <a:srgbClr val="000000"/>
              </a:solidFill>
              <a:latin typeface="Arial"/>
            </a:endParaRPr>
          </a:p>
        </p:txBody>
      </p:sp>
      <p:pic>
        <p:nvPicPr>
          <p:cNvPr id="68"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ntusiasta</a:t>
            </a:r>
            <a:endParaRPr b="0" lang="en-US" sz="4400" spc="-1" strike="noStrike">
              <a:solidFill>
                <a:srgbClr val="000000"/>
              </a:solidFill>
              <a:latin typeface="Arial"/>
            </a:endParaRPr>
          </a:p>
        </p:txBody>
      </p:sp>
      <p:pic>
        <p:nvPicPr>
          <p:cNvPr id="70"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odo es relativo, afirmación contradictoria en sí misma por lo demás, llegaríamos al absurdo que todo sería tolerable, incluso el comportamiento intolerante. Ollero cita a Popper quien sostenía que “la tesis de que todas las tesis son más o menos igualmente defendibles desde el punto de vista intelectual. ¡Vale todo ¡. La tesis del relativismo lleva así a la anarquía, a la ilegalidad, y al imperio de la viol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tolerancia, de acuerdo al Diccionario de la Real Academia Española, significa "acción y efecto de tolerar". Y tolerar es "sufrir, llevar con pacien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nnah Arendt nos ha señalado en su monumental obra “Los orígenes del totalitarismo” que los campos de concentración encontraron su justificación en la constatación factual “Todo es posible” que derivó en la afirmación ética “Todo está permiti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anterior se deduce inmediatamente que la tolerancia supone “ciertos principios morales absolutos: el respeto a los demás”, al decir de Norberto Bobb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la tolerancia supone precisamente que hay una verdad objetiva, una creencia valiosa que profesar y principios éticos que proponer.  Ante la verdad sólo cabe el amor del filósofo. El mal ético y el error teórico deben ser combatidos para que el progreso intelectual y espiritual de la humanidad sea posible. La clave de la razón moderna es la lucha crítica contra el error. La llave del avance ético es el combate contra el mal activo de quien daño y la solidaridad con quien sufre el mal pasivo, el dolor. Ante la esclavitud, la violencia contra los niños u otros sólo cabe ser intoler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onces la tolerancia consistiría  en la conducta virtuosa de quien, considerando una conducta mala o errada, y pudiendo prohibirla, renuncia a ello tras ponderar otros valores.</a:t>
            </a:r>
            <a:r>
              <a:rPr b="0" lang="es-ES_tradnl" sz="2000" spc="-1" strike="noStrike" u="sng">
                <a:solidFill>
                  <a:srgbClr val="009999"/>
                </a:solidFill>
                <a:uFillTx/>
                <a:latin typeface="Arial"/>
                <a:hlinkClick r:id="rId1" action="ppaction://hlinksldjump"/>
              </a:rPr>
              <a:t>[6]</a:t>
            </a:r>
            <a:r>
              <a:rPr b="0" lang="es-ES_tradnl" sz="2000" spc="-1" strike="noStrike">
                <a:solidFill>
                  <a:srgbClr val="000000"/>
                </a:solidFill>
                <a:latin typeface="Arial"/>
              </a:rPr>
              <a:t> La tolerancia es la virtud del que afirma una verdad y que se niega a imponerla, no por impotencia, sino en atención al respeto al otro y la conciencia de las propias limitaciones espirituales e intelectuales. La tolerancia no es la indiferencia de quien todo le da lo mismo, la indulgencia cómplice con crímenes y atrocidades ni la arbitrariedad de quien cree que su libertad no tiene límites. La tolerancia supone, para ser virtud y no debilidad, creer en la existencia de verdades objetivas que se renuncia a imponerlas por respeto al otro y en atención a otros valores prudencialmente aquilatados como la humildad ante nuestras propias limitacio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 respecto, ha señalado Walzer, la tolerancia “sostiene la vida misma, porque la persecución con frecuencia conduce a la muerte, y también sostiene nuestra vida en común, es decir, las diferentes comunidades en que vivimos. La tolerancia hace posible la diferencia; la diferencia hace necesaria la tole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n embargo, la tolerancia no presupone indiferencia o relativismo. Si nosotros somos indiferentes no estamos interesados, y si somos relativistas no consideramos nuestras creencias y principios como verdaderos. Tolerancia, por ende, no puede ser algo ilimi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llero, Andrés, Tolerancia y verdad, en Revista Chilena de Derecho, Vol.24, N.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obbio, Norberto; El filósofo y la política (Antología);  Tolerancia,  Fondo de Cultura Económica, México; 199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rtori, Giovanni, </a:t>
            </a:r>
            <a:r>
              <a:rPr b="1" lang="es-ES" sz="2800" spc="-1" strike="noStrike">
                <a:solidFill>
                  <a:srgbClr val="000000"/>
                </a:solidFill>
                <a:latin typeface="Arial"/>
              </a:rPr>
              <a:t>La sociedad Multiétnica. </a:t>
            </a:r>
            <a:r>
              <a:rPr b="0" lang="es-ES" sz="2800" spc="-1" strike="noStrike">
                <a:solidFill>
                  <a:srgbClr val="000000"/>
                </a:solidFill>
                <a:latin typeface="Arial"/>
              </a:rPr>
              <a:t>Pluralismo, Multiculturalismo y Extranjeros; Taurus; Madrid; 200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zer, Michael (1998). </a:t>
            </a:r>
            <a:r>
              <a:rPr b="1" lang="en-US" sz="2800" spc="-1" strike="noStrike">
                <a:solidFill>
                  <a:srgbClr val="000000"/>
                </a:solidFill>
                <a:latin typeface="Arial"/>
              </a:rPr>
              <a:t>Tratado sobre la Tolerancia</a:t>
            </a:r>
            <a:r>
              <a:rPr b="0" lang="en-US" sz="2800" spc="-1" strike="noStrike">
                <a:solidFill>
                  <a:srgbClr val="000000"/>
                </a:solidFill>
                <a:latin typeface="Arial"/>
              </a:rPr>
              <a:t> (Paidós, Barcelon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ra la RAE tolerar es "permitir algo que no se tiene por lícito, sin aprobarlo expresamen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ás específicamente aún, la Real Academia Española, señala que la Tolerancia es "Respeto y consideración hacia las opiniones o prácticas de los demás, aunque repugnen a las nues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8-02-29T17:07:22Z</dcterms:modified>
  <cp:revision>8</cp:revision>
  <dc:subject/>
  <dc:title>Pluralismo</dc:title>
</cp:coreProperties>
</file>