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D03-7785-46CF-A2BA-3F2BB73A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14C-9812-4068-B516-29B983A3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F1C-E554-41B9-937F-43FB979A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E64-5330-4C27-8ACB-8B445AF4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F039-F720-4466-A045-AA827697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18E5-3895-4C81-B70B-98A718AB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3D1C-1802-462A-B18F-EE765F73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20F6-FA57-4E33-B59B-48C6C9BB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405B-5C6C-4A13-AEE4-4E18A6FA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1D7E-C27C-4772-9D81-44F97E14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F225-D679-4BC3-8EB7-9C89934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B27-7F60-4D9B-AC8A-A208676A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6470-5042-407D-83C1-5638DFB5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AF5F-E8FE-4FF2-A5D4-7A089CC1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A108-2F8F-4C09-907E-E62D6705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94B4-C9BA-4ED2-AE19-BA3DFB61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9137-6C9F-4722-B114-77B8CE38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745-2D84-4916-8445-46CB9F4B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566-F20B-4102-8660-1A7783F5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7E5-C8ED-4D29-A876-DFB2D3E0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AE6-AA28-4DEE-81B2-154EC075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16E-7D35-4B21-BCB7-CBE60FB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504-AA4F-4444-AC9C-59B34776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EA8-0062-4124-BA8F-30334CBC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C94A-D036-4ABB-A21A-86797C88B6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EDCF-ED4C-4639-9750-373CC986FC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Definición habitual de Cri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cesos sociales que conducen o pueden conducir a rupturas en el funcionamiento de las Instituciones, no necesariamente legítimas, propias de un sistema social y que parecen amenazar la persistencia de estas Institucio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453600" y="2743200"/>
            <a:ext cx="86846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Se hablará de Movilización cuando unos recursos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e inserten en una línea de acción, o mejor, una jugada (c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move), y ello únicamente en un contexto de conflic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Elementos para una teoría de las coyunturas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fluid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 París, Instituto de Estudios Políticos,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455760" y="2743200"/>
            <a:ext cx="8494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VILIZACIONES MULTISECTORIALE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n movilizaciones localizadas en varias esferas al m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iemp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VILIZACIONES RESTRINGIDA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n movilizaciones emplazadas en una sola de estas es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Elementos para una teoría de las coyunturas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fluid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 París, Instituto de Estudios Políticos,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Dimensión Estraté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447840" y="2057400"/>
            <a:ext cx="853884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La Dimensión estratégica constituye el “fondo” socioestructural  de las sociedades, grupos y/o colectividades. La dimensión estratégica de las movilizaciones debe llevarse a cabo por otros índices,  otros puntos de referencia, otros instrumentos lig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s reservas culturales de una sociedad, de un grupo o de una  esfera      de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s rutinas y reglas del juego de las Instituciones pres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 Evolución de las ju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Note sur la théorie de línteraction stratégique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 Annuarie Arés 1, París,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delo Instrumental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W. Ilchman y N Uph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55760" y="1868400"/>
            <a:ext cx="86738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uantificación del poder del Stocks de recursos y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idad del nivel de la movilización es posible de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diante la siguiente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 Mercant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IVEL DE L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 un factor 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 entr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VILIZACIO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baj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ca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u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lam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3733920"/>
            <a:ext cx="2210040" cy="160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733920"/>
            <a:ext cx="2057400" cy="160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2286000" cy="762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1080" y="5943600"/>
            <a:ext cx="65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W.Ilchman, N. Uphoff;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he Political Economy of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YUNTURAS POLITICAS FLUID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604440" y="2249640"/>
            <a:ext cx="83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Las coyunturas críticas fluidas corresponde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ransformaciones de estado de los sistema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mplejos cuando se ven sometidos a moviliz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multisectori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e caracterizan por una amplia dinámica social y jue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ácticos orig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pueden reducirse al juego binario sociológico de rutina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stabilidad política y desintegración y violenc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495680"/>
            <a:ext cx="23623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724280"/>
            <a:ext cx="221004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419720"/>
            <a:ext cx="2362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ag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0080" y="334800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yub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ut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5160" y="271296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VI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LTISECTO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3840" y="1874880"/>
            <a:ext cx="224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SO A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666880"/>
            <a:ext cx="0" cy="1600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120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y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l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0840" y="293220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ógic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tuación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mp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8360" y="4227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nsible a la ju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71560" y="5029200"/>
            <a:ext cx="24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nsible a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ác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4040" y="5376960"/>
            <a:ext cx="158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r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álc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omi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5410080"/>
            <a:ext cx="609840" cy="685800"/>
          </a:xfrm>
          <a:custGeom>
            <a:avLst/>
            <a:gdLst>
              <a:gd name="textAreaLeft" fmla="*/ 81720 w 609840"/>
              <a:gd name="textAreaRight" fmla="*/ 528120 w 6098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270000"/>
            <a:ext cx="80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CRISIS POLIT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NSFORMACION DE ESTAD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286000"/>
            <a:ext cx="990360" cy="457200"/>
          </a:xfrm>
          <a:custGeom>
            <a:avLst/>
            <a:gdLst>
              <a:gd name="textAreaLeft" fmla="*/ 0 w 990360"/>
              <a:gd name="textAreaRight" fmla="*/ 990720 w 990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28600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42900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Sen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267080"/>
            <a:ext cx="1524240" cy="1067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g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ist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10552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m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9160" y="27000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SARROILLO DE LA DINAMICA CRITICA FL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920" y="18288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reali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17880" y="2906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im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69280" y="374508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sup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48560" y="458316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320" y="4842000"/>
            <a:ext cx="2621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yo Fin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trol de la 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trol de los frutos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1905120"/>
            <a:ext cx="5257800" cy="28954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7560" y="1916280"/>
            <a:ext cx="175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ce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rom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ál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Hipótesis de continu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370080" y="2057400"/>
            <a:ext cx="876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interpretación de este tipo de fenómenos no debe busc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ariamente en “factores”, “variables”,, o “configuraci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cuales acostumbra recurrir el politólogo, historiador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ciólo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hipótesis de continuidad quiere decir que los resortes so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es de las crisis no se sitúan exclusivamente, ni siquiera,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a privilegiada en la patología y los desequilibrios soci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las decepciones o las frustraciones, en las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sicológicas, ni tampoco en los arranques de irracion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dividuales o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perspectiva asumida se relaciona con los trabajos vincu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“movilización o de la gestión de recurs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actividad táctica de los protagonis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e trata de comprende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lugar que les corresponde tanto a la aparición como en el desarrollo de estos proc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s movilizaciones que estos protagonistas llevan a cabo en el curso de sus compet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,... Los enfrentamientos que constituyen la trama de las relaciones polí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Enfoque de la movilización de recurs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Eti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Mov.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9400" y="3927600"/>
            <a:ext cx="22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Pre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splaz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49440" y="373392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Ju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Actividad 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6720" y="3962520"/>
            <a:ext cx="22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bel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Vio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 rég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876920"/>
            <a:ext cx="2361960" cy="1676160"/>
          </a:xfrm>
          <a:prstGeom prst="upArrowCallout">
            <a:avLst>
              <a:gd name="adj1" fmla="val 35232"/>
              <a:gd name="adj2" fmla="val 35229"/>
              <a:gd name="adj3" fmla="val 16667"/>
              <a:gd name="adj4" fmla="val 6666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Dim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Táctica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de los 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ción clásica de los promotores de la perspectiva de la movilización de recurs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toridad/orden político exist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gencias d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los domi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720" y="1886040"/>
            <a:ext cx="421632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posición/subyu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ones de o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los domin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81880" y="4994280"/>
            <a:ext cx="881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Existe una amplia similitud de mecanismos sociales que actúan en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dos tipos de procesos. La diferencia puede quedar marcad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manera de gestionar lo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STOCKS DE RECURSOS”</a:t>
            </a: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 y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ERTORIOS DE ACC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DELO OBJETIVISTA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(K. Deutch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Tr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uptur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Comprom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Mod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191120"/>
            <a:ext cx="190476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191120"/>
            <a:ext cx="190476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Des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191120"/>
            <a:ext cx="190512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e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3240" y="5370480"/>
            <a:ext cx="36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cesos  medios de 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Niveles de urb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nta per cáp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asa de alfabe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1760" y="5851440"/>
            <a:ext cx="17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.Ler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.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. Hunt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09880"/>
            <a:ext cx="28191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8620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lgunos conceptos de este enfo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ón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Jugada Tác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ocks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pertorios de A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ón de O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Control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lamamiento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mensión Estraté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Jug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" y="2021040"/>
            <a:ext cx="85309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“Actos y Comportamientos individuales o colectivos que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racterizan por afectar bien a las expectativas de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protagonistas de un conflicto con repercusiones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mportamiento de los otros actores, o bien, a su pro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ituación existen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Noción tomada de la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eoría de Integración Estratégic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 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rving Gofman, Oxford, 19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éase además: Thomas Schelling: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he Strategy of Conflic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arvard, 196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541800" y="2438280"/>
            <a:ext cx="8155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La Movilización es un proceso por el cual un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cial adquiere un control significativo sobre un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que no controlaba a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A. Etzioni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La Sociedad activa, una Teoría de los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Sociales”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dit. Aguilar, Madrid, 198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8:43:10Z</dcterms:created>
  <dc:creator> </dc:creator>
  <dc:description/>
  <dc:language>en-US</dc:language>
  <cp:lastModifiedBy>Mamá</cp:lastModifiedBy>
  <cp:lastPrinted>2000-03-28T20:40:28Z</cp:lastPrinted>
  <dcterms:modified xsi:type="dcterms:W3CDTF">2008-06-16T17:22:56Z</dcterms:modified>
  <cp:revision>2</cp:revision>
  <dc:subject/>
  <dc:title>Definición habitual de Crisis</dc:title>
</cp:coreProperties>
</file>