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B0F-8DBE-42BA-992F-91B388F6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462-B5AA-40E0-B1BA-1D8FC7D3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BB6-AE56-4C40-B97E-6A8517D6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D61-C51E-4C3E-968D-3AAD4BF3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5BB0-9E89-4336-B8F1-71591A13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2F6A-7A3A-4009-9930-6555ED75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77B3-C12B-4A47-ABE6-5B24D822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F97A-AF27-481B-9B80-D2160281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79D8-D422-4720-9D0C-AFCD042A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A56D-4854-4AAE-BAC3-D7848DCC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A8EB-4841-472E-933D-909128BA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F87-64B4-41F8-8EBB-53862FC8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2B7E-9C3E-447C-B7E4-0726A705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C9D9-E510-42CF-95E0-0A5527C3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4677-92B9-466E-AE45-09817BD8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A3EF-B5D6-4A4D-89D0-2681170F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FDBF-8D66-42E8-A0F0-3DDCF437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9BE-9883-49C9-8074-09E91C46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5A9-B2AC-4543-A588-25A76BC1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583-2CE9-4E36-816B-3B204BBF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BA17-2D86-400C-8B2D-FEEE85F2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160-32C4-4936-952A-E783A8BA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5D6-37F6-40D3-9EC5-D94D5A9E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F88-AA8B-4B41-BDBC-5696881C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9827-9414-4912-99CE-0441A57B0F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57E4-21A5-460D-A97E-1FDD9ED53E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Definición habitual de Cri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cesos sociales que conducen o pueden conducir a rupturas en el funcionamiento de las Instituciones, no necesariamente legítimas, propias de un sistema social y que parecen amenazar la persistencia de estas Institucion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vilización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453600" y="2743200"/>
            <a:ext cx="868464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*) “Se hablará de Movilización cuando unos recursos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e inserten en una línea de acción, o mejor, una jugada (c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move), y ello únicamente en un contexto de conflic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 Michel Dobry;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“Elementos para una teoría de las coyunturas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fluid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, París, Instituto de Estudios Políticos, 1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vilización (3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455760" y="2743200"/>
            <a:ext cx="84942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*) 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VILIZACIONES MULTISECTORIALE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on movilizaciones localizadas en varias esferas al m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tiemp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VILIZACIONES RESTRINGIDA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on movilizaciones emplazadas en una sola de estas esf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 Michel Dobry;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“Elementos para una teoría de las coyunturas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fluid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, París, Instituto de Estudios Políticos, 1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a Dimensión Estraté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447840" y="2057400"/>
            <a:ext cx="853884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*) “La Dimensión estratégica constituye el “fondo” socioestructural  de las sociedades, grupos y/o colectividades. La dimensión estratégica de las movilizaciones debe llevarse a cabo por otros índices,  otros puntos de referencia, otros instrumentos ligados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00"/>
                </a:solidFill>
                <a:latin typeface="Arial"/>
              </a:rPr>
              <a:t>Las reservas culturales de una sociedad, de un grupo o de una  esfera      de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00"/>
                </a:solidFill>
                <a:latin typeface="Arial"/>
              </a:rPr>
              <a:t>Las rutinas y reglas del juego de las Instituciones pres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00"/>
                </a:solidFill>
                <a:latin typeface="Arial"/>
              </a:rPr>
              <a:t>La Evolución de las ju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 Michel Dobry;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“Note sur la théorie de línteraction stratégique,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 Annuarie Arés 1, París, 1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delo Instrumental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W. Ilchman y N Uphoff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455760" y="1868400"/>
            <a:ext cx="86738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uantificación del poder del Stocks de recursos y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tencialidad del nivel de la movilización es posible de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diante la siguiente ecu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lor Mercanti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IVEL DE L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 un factor 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 entre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VILIZACIO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urso baj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cas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rol de u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lam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3733920"/>
            <a:ext cx="2210040" cy="1600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733920"/>
            <a:ext cx="2057400" cy="1600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038480"/>
            <a:ext cx="2286000" cy="7621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1080" y="5943600"/>
            <a:ext cx="65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W.Ilchman, N. Uphoff;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The Political Economy of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OYUNTURAS POLITICAS FLUID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604440" y="2249640"/>
            <a:ext cx="8357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Las coyunturas críticas fluidas corresponde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transformaciones de estado de los sistemas soci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mplejos cuando se ven sometidos a moviliz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multisectori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e caracterizan por una amplia dinámica social y jue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tácticos orig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pueden reducirse al juego binario sociológico de rutina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estabilidad política y desintegración y violenc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4495680"/>
            <a:ext cx="23623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4724280"/>
            <a:ext cx="221004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4419720"/>
            <a:ext cx="2362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ag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0080" y="334800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yub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utin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5160" y="2712960"/>
            <a:ext cx="272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VI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ULTISECTO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3840" y="1874880"/>
            <a:ext cx="224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SO A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RI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666880"/>
            <a:ext cx="0" cy="16002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5120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y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r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l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40840" y="2932200"/>
            <a:ext cx="18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ógic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ituación que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mp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8360" y="4227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nsible a la jug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71560" y="5029200"/>
            <a:ext cx="24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nsible a la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ác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4040" y="5376960"/>
            <a:ext cx="158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r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álc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romi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5410080"/>
            <a:ext cx="609840" cy="685800"/>
          </a:xfrm>
          <a:custGeom>
            <a:avLst/>
            <a:gdLst>
              <a:gd name="textAreaLeft" fmla="*/ 81720 w 609840"/>
              <a:gd name="textAreaRight" fmla="*/ 528120 w 6098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7040" y="270000"/>
            <a:ext cx="80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CRISIS POLIT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ANSFORMACION DE ESTADO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286000"/>
            <a:ext cx="990360" cy="457200"/>
          </a:xfrm>
          <a:custGeom>
            <a:avLst/>
            <a:gdLst>
              <a:gd name="textAreaLeft" fmla="*/ 0 w 990360"/>
              <a:gd name="textAreaRight" fmla="*/ 990720 w 990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2286000"/>
            <a:ext cx="152388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3429000"/>
            <a:ext cx="152388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Sen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4267080"/>
            <a:ext cx="1524240" cy="1067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g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istó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5105520"/>
            <a:ext cx="152388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men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9160" y="27000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SARROILLO DE LA DINAMICA CRITICA FL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920" y="18288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reali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17880" y="290664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ue im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69280" y="374508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ue sup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48560" y="458316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ue 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2320" y="4842000"/>
            <a:ext cx="2621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yo Fin 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ntrol de la Movi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ntrol de los frutos d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Movi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1905120"/>
            <a:ext cx="5257800" cy="28954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07560" y="1916280"/>
            <a:ext cx="1753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cep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romi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ál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a Hipótesis de continuid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370080" y="2057400"/>
            <a:ext cx="876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interpretación de este tipo de fenómenos no debe busc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ecesariamente en “factores”, “variables”,, o “configuraci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cuales acostumbra recurrir el politólogo, historiador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ciólo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hipótesis de continuidad quiere decir que los resortes so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es de las crisis no se sitúan exclusivamente, ni siquiera,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rma privilegiada en la patología y los desequilibrios soci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las decepciones o las frustraciones, en las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sicológicas, ni tampoco en los arranques de irraciona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dividuales o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perspectiva asumida se relaciona con los trabajos vincu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“movilización o de la gestión de recurs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a actividad táctica de los protagonist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e trata de comprender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lugar que les corresponde tanto a la aparición como en el desarrollo de estos proce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s movilizaciones que estos protagonistas llevan a cabo en el curso de sus competi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Y,... Los enfrentamientos que constituyen la trama de las relaciones polí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Enfoque de la movilización de recurs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590920"/>
            <a:ext cx="205740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Eti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590920"/>
            <a:ext cx="205740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Mov.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590920"/>
            <a:ext cx="205740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9400" y="3927600"/>
            <a:ext cx="22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ter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Pre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splaz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49440" y="3733920"/>
            <a:ext cx="22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Jug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Actividad 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6720" y="3962520"/>
            <a:ext cx="22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Rebel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Vio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mbio rég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876920"/>
            <a:ext cx="2361960" cy="1676160"/>
          </a:xfrm>
          <a:prstGeom prst="upArrowCallout">
            <a:avLst>
              <a:gd name="adj1" fmla="val 35232"/>
              <a:gd name="adj2" fmla="val 35229"/>
              <a:gd name="adj3" fmla="val 16667"/>
              <a:gd name="adj4" fmla="val 66660"/>
            </a:avLst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Times New Roman"/>
              </a:rPr>
              <a:t>Dim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Times New Roman"/>
              </a:rPr>
              <a:t>Táctica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Times New Roman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Times New Roman"/>
              </a:rPr>
              <a:t>de los 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sición clásica de los promotores de la perspectiva de la movilización de recurs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401328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utoridad/orden político exist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gencias d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ividad táctica de los domin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720" y="1886040"/>
            <a:ext cx="421632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Oposición/subyug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vilizaciones de oposi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ividad táctica de los domin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81880" y="4994280"/>
            <a:ext cx="881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Existe una amplia similitud de mecanismos sociales que actúan en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dos tipos de procesos. La diferencia puede quedar marcada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manera de gestionar lo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STOCKS DE RECURSOS”</a:t>
            </a: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 y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PERTORIOS DE ACC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DELO OBJETIVISTA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(K. Deutch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666880"/>
            <a:ext cx="190476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Tr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2666880"/>
            <a:ext cx="190476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Ruptur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Compromi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666880"/>
            <a:ext cx="190476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Mod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4191120"/>
            <a:ext cx="190476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roces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Integ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4191120"/>
            <a:ext cx="190476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roces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Desinteg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4191120"/>
            <a:ext cx="190512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roceso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Reinteg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3240" y="5370480"/>
            <a:ext cx="367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cesos  medios de comu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Niveles de urb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nta per cáp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asa de alfabet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21760" y="5851440"/>
            <a:ext cx="172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.Ler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.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. Hunting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809880"/>
            <a:ext cx="28191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886200"/>
            <a:ext cx="304920" cy="380880"/>
          </a:xfrm>
          <a:prstGeom prst="upDownArrow">
            <a:avLst>
              <a:gd name="adj1" fmla="val 50000"/>
              <a:gd name="adj2" fmla="val 248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Algunos conceptos de este enfoqu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vilización de Recur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Jugada Tác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tocks de Recur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pertorios de A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vilización de Oposi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ividad Táctica de Control S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lamamiento de Recur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mensión Estratég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Juga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599400" y="2021040"/>
            <a:ext cx="85309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*)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“Actos y Comportamientos individuales o colectivos que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racterizan por afectar bien a las expectativas de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protagonistas de un conflicto con repercusiones e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mportamiento de los otros actores, o bien, a su prop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ituación existenc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Noción tomada de la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Teoría de Integración Estratégic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 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rving Gofman, Oxford, 19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éase además: Thomas Schelling: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The Strategy of Conflict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arvard, 196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vilización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541800" y="2438280"/>
            <a:ext cx="81558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*) “La Movilización es un proceso por el cual una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ocial adquiere un control significativo sobre un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que no controlaba a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 A. Etzioni;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“La Sociedad activa, una Teoría de los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Sociales”,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dit. Aguilar, Madrid, 198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8:43:10Z</dcterms:created>
  <dc:creator> </dc:creator>
  <dc:description/>
  <dc:language>en-US</dc:language>
  <cp:lastModifiedBy>Mamá</cp:lastModifiedBy>
  <cp:lastPrinted>2000-03-28T20:40:28Z</cp:lastPrinted>
  <dcterms:modified xsi:type="dcterms:W3CDTF">2008-06-16T17:22:56Z</dcterms:modified>
  <cp:revision>2</cp:revision>
  <dc:subject/>
  <dc:title>Definición habitual de Crisis</dc:title>
</cp:coreProperties>
</file>