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01E-E41B-4077-9B6D-C8DF20EA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12C-014C-49FA-875A-FA619CBA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38C-C275-4DD7-81E9-E8A01AC2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ED8-2D5F-4ED0-9943-6B82F34C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06E0-7B30-4B46-9C1E-CD248E2A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191B-896F-401F-A066-0E31DE6A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4EF0-D0E7-41DB-9B02-74D1246B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8D70-DC43-40D9-B709-2C98251D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9EFA-FAFA-412C-818C-9F335DE1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77CA-988B-43C9-9298-A362762B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25B9-A06C-4F28-A279-273CFA08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7A5-F695-41A9-ADFB-939AE3B5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24D8-236D-4455-96E0-BE0F4FE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28AB-B354-4B55-AB48-B65582EA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11DD-A452-4031-935E-37CBB899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FF9D-AC83-44C7-A42E-B8488F9D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3047-8F49-41EE-960A-C566DE41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F0C-8957-4DE7-BA4A-ED4C8EE3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187-5D90-40D2-8543-5330A485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F20-728C-43B2-8102-874201E2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B0D-D0E2-489D-A416-6DDA3E81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8A4-799C-4E2E-964E-D5DE8737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0CB-5EB9-4176-B018-B6219ED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B6F-2889-4812-AA6F-B8A24F90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2CA7-C75B-494C-AB58-F9BBA8F821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E65F-6F05-45BD-B6D1-2A5B57FAED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Definición habitual de Cri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cesos sociales que conducen o pueden conducir a rupturas en el funcionamiento de las Instituciones, no necesariamente legítimas, propias de un sistema social y que parecen amenazar la persistencia de estas Institucio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453600" y="2743200"/>
            <a:ext cx="868464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Se hablará de Movilización cuando unos recursos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e inserten en una línea de acción, o mejor, una jugada (c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move), y ello únicamente en un contexto de conflic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Elementos para una teoría de las coyunturas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fluid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 París, Instituto de Estudios Políticos,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455760" y="2743200"/>
            <a:ext cx="8494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VILIZACIONES MULTISECTORIALE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n movilizaciones localizadas en varias esferas al m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iemp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VILIZACIONES RESTRINGIDA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n movilizaciones emplazadas en una sola de estas es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Elementos para una teoría de las coyunturas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fluid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 París, Instituto de Estudios Políticos,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Dimensión Estraté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447840" y="2057400"/>
            <a:ext cx="853884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La Dimensión estratégica constituye el “fondo” socioestructural  de las sociedades, grupos y/o colectividades. La dimensión estratégica de las movilizaciones debe llevarse a cabo por otros índices,  otros puntos de referencia, otros instrumentos lig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s reservas culturales de una sociedad, de un grupo o de una  esfera      de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s rutinas y reglas del juego de las Instituciones pres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 Evolución de las ju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Note sur la théorie de línteraction stratégique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 Annuarie Arés 1, París,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delo Instrumental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W. Ilchman y N Uph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55760" y="1868400"/>
            <a:ext cx="86738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uantificación del poder del Stocks de recursos y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idad del nivel de la movilización es posible de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diante la siguiente ec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 Mercanti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IVEL DE L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 un factor 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 entr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VILIZACIO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baj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ca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u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lam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3733920"/>
            <a:ext cx="2210040" cy="160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733920"/>
            <a:ext cx="2057400" cy="160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2286000" cy="762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1080" y="5943600"/>
            <a:ext cx="65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W.Ilchman, N. Uphoff;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he Political Economy of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YUNTURAS POLITICAS FLUID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604440" y="2249640"/>
            <a:ext cx="83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Las coyunturas críticas fluidas corresponde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ransformaciones de estado de los sistemas soc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mplejos cuando se ven sometidos a moviliz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multisectori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e caracterizan por una amplia dinámica social y jue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ácticos orig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pueden reducirse al juego binario sociológico de rutina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stabilidad política y desintegración y violenc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495680"/>
            <a:ext cx="23623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724280"/>
            <a:ext cx="221004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4419720"/>
            <a:ext cx="2362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ag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0080" y="334800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yub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ut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5160" y="2712960"/>
            <a:ext cx="272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VI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ULTISECTO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3840" y="1874880"/>
            <a:ext cx="224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SO A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I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666880"/>
            <a:ext cx="0" cy="16002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120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y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l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0840" y="293220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ógic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tuación qu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mp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8360" y="4227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nsible a la ju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71560" y="5029200"/>
            <a:ext cx="24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nsible a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ác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4040" y="5376960"/>
            <a:ext cx="158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r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álc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omi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5410080"/>
            <a:ext cx="609840" cy="685800"/>
          </a:xfrm>
          <a:custGeom>
            <a:avLst/>
            <a:gdLst>
              <a:gd name="textAreaLeft" fmla="*/ 81720 w 609840"/>
              <a:gd name="textAreaRight" fmla="*/ 528120 w 6098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040" y="270000"/>
            <a:ext cx="80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CRISIS POLIT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NSFORMACION DE ESTAD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286000"/>
            <a:ext cx="990360" cy="457200"/>
          </a:xfrm>
          <a:custGeom>
            <a:avLst/>
            <a:gdLst>
              <a:gd name="textAreaLeft" fmla="*/ 0 w 990360"/>
              <a:gd name="textAreaRight" fmla="*/ 990720 w 990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228600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42900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Sen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267080"/>
            <a:ext cx="1524240" cy="1067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g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ist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10552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m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9160" y="27000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SARROILLO DE LA DINAMICA CRITICA FL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920" y="18288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reali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17880" y="29066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im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69280" y="374508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sup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48560" y="458316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2320" y="4842000"/>
            <a:ext cx="2621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yo Fin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trol de la 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trol de los frutos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1905120"/>
            <a:ext cx="5257800" cy="28954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7560" y="1916280"/>
            <a:ext cx="175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ce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rom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ál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Hipótesis de continu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370080" y="2057400"/>
            <a:ext cx="876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interpretación de este tipo de fenómenos no debe busc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ariamente en “factores”, “variables”,, o “configuraci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cuales acostumbra recurrir el politólogo, historiador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ciólo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hipótesis de continuidad quiere decir que los resortes so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es de las crisis no se sitúan exclusivamente, ni siquiera,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a privilegiada en la patología y los desequilibrios soci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las decepciones o las frustraciones, en las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sicológicas, ni tampoco en los arranques de irracion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dividuales o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perspectiva asumida se relaciona con los trabajos vincu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“movilización o de la gestión de recurs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actividad táctica de los protagonis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e trata de comprende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lugar que les corresponde tanto a la aparición como en el desarrollo de estos proc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s movilizaciones que estos protagonistas llevan a cabo en el curso de sus compet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,... Los enfrentamientos que constituyen la trama de las relaciones polí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Enfoque de la movilización de recurs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Eti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Mov.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9400" y="3927600"/>
            <a:ext cx="22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ter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Pre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splaz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49440" y="373392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Ju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Actividad 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6720" y="3962520"/>
            <a:ext cx="22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bel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Vio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 rég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876920"/>
            <a:ext cx="2361960" cy="1676160"/>
          </a:xfrm>
          <a:prstGeom prst="upArrowCallout">
            <a:avLst>
              <a:gd name="adj1" fmla="val 35232"/>
              <a:gd name="adj2" fmla="val 35229"/>
              <a:gd name="adj3" fmla="val 16667"/>
              <a:gd name="adj4" fmla="val 6666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Dim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Táctica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de los 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ción clásica de los promotores de la perspectiva de la movilización de recurs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utoridad/orden político exist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gencias d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los domi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720" y="1886040"/>
            <a:ext cx="421632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posición/subyu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ones de o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los domin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81880" y="4994280"/>
            <a:ext cx="881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Existe una amplia similitud de mecanismos sociales que actúan en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dos tipos de procesos. La diferencia puede quedar marcad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manera de gestionar lo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STOCKS DE RECURSOS”</a:t>
            </a: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 y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PERTORIOS DE ACC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DELO OBJETIVISTA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(K. Deutch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Tr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Ruptur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Comprom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Mod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191120"/>
            <a:ext cx="190476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191120"/>
            <a:ext cx="190476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Des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4191120"/>
            <a:ext cx="190512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Re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3240" y="5370480"/>
            <a:ext cx="36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cesos  medios de comu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Niveles de urb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nta per cáp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asa de alfabet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1760" y="5851440"/>
            <a:ext cx="17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.Ler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.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. Hunt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09880"/>
            <a:ext cx="28191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8620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lgunos conceptos de este enfo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ón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Jugada Tác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ocks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pertorios de A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ón de O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Control 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lamamiento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mensión Estraté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Jug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99400" y="2021040"/>
            <a:ext cx="85309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*)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“Actos y Comportamientos individuales o colectivos que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racterizan por afectar bien a las expectativas de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protagonistas de un conflicto con repercusiones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mportamiento de los otros actores, o bien, a su pro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ituación existen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Noción tomada de la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eoría de Integración Estratégic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 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rving Gofman, Oxford, 19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éase además: Thomas Schelling: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he Strategy of Conflic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arvard, 196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541800" y="2438280"/>
            <a:ext cx="81558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La Movilización es un proceso por el cual un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cial adquiere un control significativo sobre un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que no controlaba a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A. Etzioni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La Sociedad activa, una Teoría de los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Sociales”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dit. Aguilar, Madrid, 198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8:43:10Z</dcterms:created>
  <dc:creator> </dc:creator>
  <dc:description/>
  <dc:language>en-US</dc:language>
  <cp:lastModifiedBy>Mamá</cp:lastModifiedBy>
  <cp:lastPrinted>2000-03-28T20:40:28Z</cp:lastPrinted>
  <dcterms:modified xsi:type="dcterms:W3CDTF">2008-06-16T17:22:56Z</dcterms:modified>
  <cp:revision>2</cp:revision>
  <dc:subject/>
  <dc:title>Definición habitual de Crisis</dc:title>
</cp:coreProperties>
</file>