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8D2-C610-47A6-872E-43BF3F7DD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2D08-8270-4FA6-A0D5-4F01C690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FF78-6D95-49B5-B563-E83C1EF6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12CB-3644-4C9B-86FC-6C37E9E3D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00CD-AA57-4951-8EDE-86E04E8E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A592-C53F-4D53-926A-098DBF15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7E4E1-D4C2-4D19-B2DD-4204E1B5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B856-333C-4366-886C-8D9C9CFF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9DE02-35ED-4E36-A766-A8061F78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4411C-C914-4FA9-A77B-0E19CF455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DEAE6-F905-4998-9A49-87FB2C08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2C08-576A-43B7-BD63-60186B80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7DB0-CB31-49FA-A1D7-54C18D09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5F568-D71C-43D4-849F-68D87A8E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8B39-BFE3-4AE4-80A4-0EF17992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3144-D6CE-4DD0-BA04-32A121A2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F78A-C3EC-4AE4-8352-33DC581A3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4D08-3D73-4B06-A1F7-82726DDC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18EA-3BB2-4DB6-831E-06CA48017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4F5D-A330-487C-8553-99F3F74B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BD0-79AA-4B59-9C72-5194F4EE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46E-4CEB-4D2B-BE47-5B8A4836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75B-04EF-49CA-A02F-BDFBC927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92B5-7E7E-4482-877B-DCBE2E3B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8C3C-854D-4036-BBF1-459E98859C1A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19C4E-45A7-4D54-9AF4-A137BEEF79D5}" type="slidenum">
              <a:rPr b="0" lang="es-M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816360" cy="1152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Comic Sans MS"/>
              </a:rPr>
              <a:t>1ª Parte</a:t>
            </a:r>
            <a:br>
              <a:rPr sz="4000"/>
            </a:b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2492280"/>
            <a:ext cx="59022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TEORÍAS QUE EXPLICAN QUÉ ES EL DERECHO ADMINISTRATIVO EN CHI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LA DEFINICIÓN CONSTITUCIONAL DE DERECHO ADMINISTRAT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ELEMENT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Disciplina del Derecho Públic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Formada por normas y principi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omic Sans MS"/>
              </a:rPr>
              <a:t>Regula el ser y el actuar de la Administración Pública o Administra- ción del Estad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0" y="260280"/>
            <a:ext cx="3816360" cy="144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br>
              <a:rPr sz="2000"/>
            </a:br>
            <a:r>
              <a:rPr b="0" lang="es-MX" sz="2000" spc="-1" strike="noStrike">
                <a:solidFill>
                  <a:srgbClr val="ea0000"/>
                </a:solidFill>
                <a:latin typeface="Comic Sans MS"/>
              </a:rPr>
              <a:t>Primer tema: teorías y concepto constitucional</a:t>
            </a:r>
            <a:br>
              <a:rPr sz="2000"/>
            </a:b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549080" y="2492280"/>
            <a:ext cx="59022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 algn="just">
              <a:spcBef>
                <a:spcPts val="499"/>
              </a:spcBef>
              <a:buClr>
                <a:srgbClr val="3333ff"/>
              </a:buClr>
              <a:buFont typeface="Comic Sans M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Comic Sans MS"/>
              </a:rPr>
              <a:t>TEORÍAS ORGÁNICAS O SUBJETIV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. La tesis duguitiana. León Dugu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2. La tesis jezeana. Gastón Jèz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spcBef>
                <a:spcPts val="499"/>
              </a:spcBef>
              <a:buClr>
                <a:srgbClr val="3333ff"/>
              </a:buClr>
              <a:buFont typeface="Comic Sans M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Comic Sans MS"/>
              </a:rPr>
              <a:t>TEORÍAS SUSTANCIALES U OBJETIV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. La tesis del Prof. Eduardo Soto Klo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2. La tesis del Prof. Gustavo Fiamma Olivar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 algn="just">
              <a:spcBef>
                <a:spcPts val="499"/>
              </a:spcBef>
              <a:buClr>
                <a:srgbClr val="3333ff"/>
              </a:buClr>
              <a:buFont typeface="Comic Sans MS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ff"/>
                </a:solidFill>
                <a:latin typeface="Comic Sans MS"/>
              </a:rPr>
              <a:t>LA TESIS CONSTITUCION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1. La Reforma Constitucional de 1991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2. La LOCBGAE, artículo 3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2303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CONCEPTO CONSTITUCIONAL DE DERECHO ADMINISTRATIVO</a:t>
            </a:r>
            <a:br>
              <a:rPr sz="2000"/>
            </a:br>
            <a:r>
              <a:rPr b="0" lang="es-MX" sz="2000" spc="-1" strike="noStrike">
                <a:solidFill>
                  <a:srgbClr val="ea0000"/>
                </a:solidFill>
                <a:latin typeface="Comic Sans MS"/>
              </a:rPr>
              <a:t>Segundo Tema: Definición y Elementos de la definición constitucional de DAD</a:t>
            </a:r>
            <a:r>
              <a:rPr b="0" lang="es-MX" sz="2000" spc="-1" strike="noStrike">
                <a:solidFill>
                  <a:srgbClr val="0000e8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549080" y="3284280"/>
            <a:ext cx="633564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L DERECHO ADMINISTRATIVO ES UNA DISCIPLINA DEL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FORMADA POR </a:t>
            </a: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LAS NORMAS Y PRINCIPIOS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QUE REGULAN EL SER Y EL ACTUAR DE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 LA ADMINISTRACIÓN DEL ES- TADO O ADMINISTRACIÓN PÚBLIC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2303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 </a:t>
            </a: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CONCEPTO DE DERECHO ADMINISTRATIVO</a:t>
            </a:r>
            <a:br>
              <a:rPr sz="2200"/>
            </a:br>
            <a:r>
              <a:rPr b="0" lang="es-MX" sz="2200" spc="-1" strike="noStrike">
                <a:solidFill>
                  <a:srgbClr val="ea0000"/>
                </a:solidFill>
                <a:latin typeface="Comic Sans MS"/>
              </a:rPr>
              <a:t>Elementos del concepto constitucional de Derecho Administrativo</a:t>
            </a:r>
            <a:r>
              <a:rPr b="0" lang="es-MX" sz="22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549080" y="2997000"/>
            <a:ext cx="63356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ES UNA DISCIPLINA DEL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FORMADA POR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0000e8"/>
                </a:solidFill>
                <a:latin typeface="Comic Sans MS"/>
              </a:rPr>
              <a:t>NORMAS Y PRINCIPI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REGULADORES DEL SER Y DEL ACTUAR DE </a:t>
            </a:r>
            <a:r>
              <a:rPr b="1" lang="es-MX" sz="2400" spc="-1" strike="noStrike">
                <a:solidFill>
                  <a:srgbClr val="ff0000"/>
                </a:solidFill>
                <a:latin typeface="Comic Sans MS"/>
              </a:rPr>
              <a:t>LA ADMINISTRA- CIÓN DEL ESTADO O ADMI- NISTRACIÓN PÚBLICA</a:t>
            </a:r>
            <a:r>
              <a:rPr b="1" lang="es-MX" sz="28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55640" y="2349000"/>
            <a:ext cx="7129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S UNA DISCIPLINA DEL 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1. 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 Estado, titular de la soberanía. León Duguit.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2.  Efecto jurídico del Estado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constitucional. Otto Mayer.</a:t>
            </a: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3. La Administración Pública en el Estado constitucional. El sentido del Derecho administra- tivo.Fritz Fleiner. Las tres prerrogativas del poder público.Roger Bonna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4.  La actuación de la Administración Pública en el Estado constitucional: los actos </a:t>
            </a:r>
            <a:r>
              <a:rPr b="1" i="1" lang="es-MX" sz="1800" spc="-1" strike="noStrike">
                <a:solidFill>
                  <a:srgbClr val="0000e8"/>
                </a:solidFill>
                <a:latin typeface="Comic Sans MS"/>
              </a:rPr>
              <a:t>iure imperii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 y los actos </a:t>
            </a:r>
            <a:r>
              <a:rPr b="1" i="1" lang="es-MX" sz="1800" spc="-1" strike="noStrike">
                <a:solidFill>
                  <a:srgbClr val="0000e8"/>
                </a:solidFill>
                <a:latin typeface="Comic Sans MS"/>
              </a:rPr>
              <a:t>iure gestionis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. André de Laubadère. El acto de gestión pública. Long, Weil, Braibant y otro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 acto administrativo es propiamente el acto de autoridad, el decret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755640" y="2205000"/>
            <a:ext cx="7129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ES UNA DISCIPLINA DEL 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DERECHO PÚBLIC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6600ff"/>
                </a:solidFill>
                <a:latin typeface="Comic Sans MS"/>
              </a:rPr>
              <a:t>PROBLEMÁTICA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1.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 Estado, en la actualidad, sigue siendo titular de la soberanía radicada en la nación, 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PERO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 la soberanía no es ya el poder absoluto y perpetuo del 1800 y hasta fines del 1900. CPR., artículo 5°.inciso 2°.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2. La CPR reconoce que </a:t>
            </a:r>
            <a:r>
              <a:rPr b="1" lang="es-MX" sz="1800" spc="-1" strike="noStrike">
                <a:solidFill>
                  <a:srgbClr val="ea0000"/>
                </a:solidFill>
                <a:latin typeface="Comic Sans MS"/>
              </a:rPr>
              <a:t>NO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 hay “poderes del Estado”, sino que el poder del Estado es uno solo, que se ejerce por “órganos del Estado”.CPR,art. 5°.1. Entre estos órganos están las autonomías constitucionales.</a:t>
            </a: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3. La preeminencia de los derechos de las personas y las formas asociativas supranacionales con poderes de decisión obligatorios para los Estado, cuestionan la vigencia de las bases del “Estado nacional”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899640" y="2276280"/>
            <a:ext cx="698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1800" spc="-1" strike="noStrike">
                <a:solidFill>
                  <a:srgbClr val="000000"/>
                </a:solidFill>
                <a:latin typeface="Comic Sans MS"/>
              </a:rPr>
              <a:t>  FORMADA POR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NORMAS Y PRINCIPI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1.LAS NORMAS: EL ORDENAMIENTO JURÍDICO ADMINISTRATIV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CPR., artículo 6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2. Concepto de norma jurídica en la CPR. Artículos 32 N° 8; 113 inc. 2°, y 119 inc. 2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3. Las normas que conforman el Derecho administrativo: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de nivel constitucional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,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de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nivel legal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: 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órgánico constitucional LOCBGAE, LOCGAR, LOCM; de quórum calificado (art. 21, inc. 2°), y ordinario: leyes orgánicas de los servicios públicos,Estatuto Administrativo, LOAFE, LBsPsAds, LBsCsAds,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de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nivel reglamentario: 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reglamentos del Presidente de la República, de los Gobiernos Regionales y de las Municipalidades.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899640" y="2276280"/>
            <a:ext cx="698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1600" spc="-1" strike="noStrike">
                <a:solidFill>
                  <a:srgbClr val="000000"/>
                </a:solidFill>
                <a:latin typeface="Comic Sans MS"/>
              </a:rPr>
              <a:t>  FORMADA POR 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NORMAS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     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PROBLEMÁTIC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1800" spc="-1" strike="noStrike">
                <a:solidFill>
                  <a:srgbClr val="ff0000"/>
                </a:solidFill>
                <a:latin typeface="Comic Sans MS"/>
              </a:rPr>
              <a:t>. Hay dos definiciones de ley. Incumplimiento de la Disposición 5ª transitori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2. El concepto constitucional de ley y la desfiguración del reglamento presidencial autónom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3. La severa interpretación de la reserva legal  hecha por el Tribunal Constitucional en perjuicio de la potestad reglamentaria presidencial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e80000"/>
                </a:solidFill>
                <a:latin typeface="Comic Sans MS"/>
              </a:rPr>
              <a:t>-Qué es la reserva legal, la tesis de 199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-La sentencia Rol N° 370-2003: la reserva legal relativa implica un nivel de habilitación de 1er grado; la reserva legal absoluta, un nivel de habilitación de 2° grad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	</a:t>
            </a:r>
            <a:r>
              <a:rPr b="1" lang="es-MX" sz="1600" spc="-1" strike="noStrike">
                <a:solidFill>
                  <a:srgbClr val="0000e8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148360" y="189000"/>
            <a:ext cx="3744720" cy="1079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e8"/>
                </a:solidFill>
                <a:latin typeface="Comic Sans MS"/>
              </a:rPr>
              <a:t>ELEMENTOS DEL CONCEPTO CONSTITUCIONAL DE DERECHO ADMINISTRATIVO</a:t>
            </a:r>
            <a:endParaRPr b="0" lang="en-US" sz="18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115640" y="2276280"/>
            <a:ext cx="6985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MX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 FORMADA POR </a:t>
            </a: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NORMAS Y PRINCIPI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e8"/>
                </a:solidFill>
                <a:latin typeface="Comic Sans MS"/>
              </a:rPr>
              <a:t>2.LOS PRINCIPIOS JURÍDICO ADMINISTRA-TIV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1</a:t>
            </a:r>
            <a:r>
              <a:rPr b="1" lang="es-MX" sz="2000" spc="-1" strike="noStrike">
                <a:solidFill>
                  <a:srgbClr val="ff0000"/>
                </a:solidFill>
                <a:latin typeface="Comic Sans MS"/>
              </a:rPr>
              <a:t>. 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Los Principios Clásico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1. Autorid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2. Legalid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3. Responsabilid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4.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5. Justiciabilidad.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2. El Principio Pos Moderno: la Servicialidad. Los servicios público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9907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	</a:t>
            </a:r>
            <a:r>
              <a:rPr b="1" lang="es-MX" sz="2000" spc="-1" strike="noStrike">
                <a:solidFill>
                  <a:srgbClr val="e80000"/>
                </a:solidFill>
                <a:latin typeface="Comic Sans MS"/>
              </a:rPr>
              <a:t>3. Los Principios Contemporáneos: LOCBGAE, artículo 3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21:11:44Z</dcterms:created>
  <dc:creator>Rolando Pantoja</dc:creator>
  <dc:description/>
  <dc:language>en-US</dc:language>
  <cp:lastModifiedBy>mrojas</cp:lastModifiedBy>
  <dcterms:modified xsi:type="dcterms:W3CDTF">2008-05-05T16:29:31Z</dcterms:modified>
  <cp:revision>52</cp:revision>
  <dc:subject/>
  <dc:title>CONCEPTO DE DERECHO ADMINISTRATIVO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