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A256-79F2-4F32-BB08-E86E8CC07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DC0C-4B1A-44DA-81D3-9B641F93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DF08-7918-4526-83A9-E3B45A5CC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66D9-4C94-423E-A297-16B937331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C97B-2C0C-47DC-BBDB-7F66D95CC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9DA8-96C3-48D7-AAF3-85D2F33A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E00B-C51F-48CB-9694-F3F01945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BD62-45C6-4C1D-A283-7A97A2EA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89034-F579-4F8D-B07F-7F7F8F23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7A59-967F-4B57-A6A3-E370934F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391C-529A-4B2D-A7DC-4BDAF054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D4A1-44F4-47DD-B179-86565D00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C9C5-574C-410C-8E60-3C615BC1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E267-6744-4B86-8A1B-88A2434A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068F-0036-422C-8625-5ECA1EA1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E59A-BA13-4A94-99B0-49A08D8B1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2F0D-F0C3-41C1-8683-6B6539B50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7E8A-D5EF-4A2E-B998-5D4FB94B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6C22-BF64-4766-B26B-DBB9DD72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49CB-84BE-448C-8DF3-8B6F898E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6B45-C9DD-4DC2-BB0E-C9C4AF56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E3E5-1B5F-42AD-9336-E9605821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C1FF-336D-4DF2-A8DA-1B65BCFA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D34B-FE96-485E-AB70-687D970C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2221-71C9-4BD5-B2C4-0B34E2C7D53E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C66C-92FE-4CA8-8E0B-87C0DF2F34EC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148360" y="188640"/>
            <a:ext cx="3744720" cy="1368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e8"/>
                </a:solidFill>
                <a:latin typeface="Comic Sans MS"/>
              </a:rPr>
              <a:t> </a:t>
            </a:r>
            <a:r>
              <a:rPr b="0" lang="es-MX" sz="2400" spc="-1" strike="noStrike">
                <a:solidFill>
                  <a:srgbClr val="0000e8"/>
                </a:solidFill>
                <a:latin typeface="Comic Sans MS"/>
              </a:rPr>
              <a:t>DERECHO ADMINISTRATIVO</a:t>
            </a:r>
            <a:br>
              <a:rPr sz="2400"/>
            </a:br>
            <a:r>
              <a:rPr b="0" lang="es-MX" sz="1200" spc="-1" strike="noStrike">
                <a:solidFill>
                  <a:srgbClr val="0000e8"/>
                </a:solidFill>
                <a:latin typeface="Comic Sans MS"/>
              </a:rPr>
              <a:t>RPB-Otoño 2008</a:t>
            </a:r>
            <a:endParaRPr b="0" lang="en-US" sz="1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2565000"/>
            <a:ext cx="63356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EL 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curso constará de tres grandes part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e8"/>
                </a:solidFill>
                <a:latin typeface="Comic Sans MS"/>
              </a:rPr>
              <a:t>Primera Parte: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 Concepto de Derecho Administrativ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e8"/>
                </a:solidFill>
                <a:latin typeface="Comic Sans MS"/>
              </a:rPr>
              <a:t>Segunda Parte: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 La Administración del Estado o Administración Públic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e8"/>
                </a:solidFill>
                <a:latin typeface="Comic Sans MS"/>
              </a:rPr>
              <a:t>Tercera Parte: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 Los sujetos de derecho en el Derecho Administrativ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Se desarrollan a continuació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716000" y="260280"/>
            <a:ext cx="3816360" cy="1152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Comic Sans MS"/>
              </a:rPr>
              <a:t>1ª Parte</a:t>
            </a:r>
            <a:br>
              <a:rPr sz="4000"/>
            </a:br>
            <a:r>
              <a:rPr b="0" lang="es-MX" sz="2000" spc="-1" strike="noStrike">
                <a:solidFill>
                  <a:srgbClr val="0000e8"/>
                </a:solidFill>
                <a:latin typeface="Comic Sans MS"/>
              </a:rPr>
              <a:t>CONCEPTO DE DERECHO ADMINISTRATIVO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549080" y="2492280"/>
            <a:ext cx="59022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TEORÍAS QUE EXPLICAN QUÉ ES EL DERECHO ADMINISTRATIVO EN CHIL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LA DEFINICIÓN CONSTITUCIONAL DE DERECHO ADMINISTRATIV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ELEMENTO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Disciplina del Derecho Públic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Formada por normas y principi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Regula el ser y el actuar de la Administración Pública o Administra- ción del Estad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16000" y="259920"/>
            <a:ext cx="4032360" cy="1513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Comic Sans MS"/>
              </a:rPr>
              <a:t>2ª Parte</a:t>
            </a:r>
            <a:br>
              <a:rPr sz="4000"/>
            </a:br>
            <a:r>
              <a:rPr b="0" lang="es-MX" sz="2000" spc="-1" strike="noStrike">
                <a:solidFill>
                  <a:srgbClr val="0000e8"/>
                </a:solidFill>
                <a:latin typeface="Comic Sans MS"/>
              </a:rPr>
              <a:t>LA ADMINISTRACIÓN DEL ESTADO O ADMINISTRACIÓN PÚBLICA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186920" y="2420640"/>
            <a:ext cx="648036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LA ADMINISTRACIÓN DEL ESTADO O ADMINISTRACIÓN PÚBLICA NACE CON EL ESTADO MODERNO CONSTITUCIONAL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PUEDE SER CARACTERIZADA DESDE EL </a:t>
            </a:r>
            <a:r>
              <a:rPr b="1" lang="es-MX" sz="1600" spc="-1" strike="noStrike">
                <a:solidFill>
                  <a:srgbClr val="ff0000"/>
                </a:solidFill>
                <a:latin typeface="Comic Sans MS"/>
              </a:rPr>
              <a:t>PUNTO DE VISTA FUNCIONAL,MATERIAL U OBJETIVO,</a:t>
            </a: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 Y DESDE EL </a:t>
            </a:r>
            <a:r>
              <a:rPr b="1" lang="es-MX" sz="1600" spc="-1" strike="noStrike">
                <a:solidFill>
                  <a:srgbClr val="0000e8"/>
                </a:solidFill>
                <a:latin typeface="Comic Sans MS"/>
              </a:rPr>
              <a:t>PUNTO DE VISTA ORGÁNICO O SUBJETIVO</a:t>
            </a: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LA ADMINISTRACIÓN PÚBLICA CARACTERIZADA DESDE EL PUNTO DE VISTA FUNCIONAL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La Administración función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La Administración gestión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LA ADMINISTRACIÓN PÚBLICA DESDE EL PUNTO DE VISTA ORGÁNICO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La Reforma Constitucional de 1991: las tres grandes leyes orgánicas constitucionales. La LOCBGAE, la LOCG y AR, la LOCM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Importancia  de los artículos 1° y 21 de la LOCBGAE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Los servicios públicos de fuente legal: el Título I, #1, de la LAOCBGAE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716000" y="259920"/>
            <a:ext cx="4032360" cy="1513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Comic Sans MS"/>
              </a:rPr>
              <a:t>3ª Parte</a:t>
            </a:r>
            <a:br>
              <a:rPr sz="4000"/>
            </a:br>
            <a:r>
              <a:rPr b="0" lang="es-MX" sz="2000" spc="-1" strike="noStrike">
                <a:solidFill>
                  <a:srgbClr val="0000e8"/>
                </a:solidFill>
                <a:latin typeface="Comic Sans MS"/>
              </a:rPr>
              <a:t>LOS SUJETOS DE DERECHO EN EL DERECHO  ADMINISTRATIVO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186920" y="2420640"/>
            <a:ext cx="648036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80000"/>
              </a:lnSpc>
              <a:spcBef>
                <a:spcPts val="400"/>
              </a:spcBef>
              <a:buClr>
                <a:srgbClr val="e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ea0000"/>
                </a:solidFill>
                <a:latin typeface="Comic Sans MS"/>
              </a:rPr>
              <a:t>LA ADMINISTRACIÓN DEL ESTADO O ADMINISTRACIÓN PÚBLICA COMO SUJETO DE DERECHO ADMINISTRATIVO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Su ser: las personas administrativ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Su actuar: hechos, actos y contratos administrativ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just">
              <a:lnSpc>
                <a:spcPct val="80000"/>
              </a:lnSpc>
              <a:spcBef>
                <a:spcPts val="400"/>
              </a:spcBef>
              <a:buClr>
                <a:srgbClr val="e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ea0000"/>
                </a:solidFill>
                <a:latin typeface="Comic Sans MS"/>
              </a:rPr>
              <a:t>LOS PARTICULARES COMO SUJETOS DE DERECHO ADMINISTRATIVO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Su ser: persona y grupos de persona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2. Su actuar: solicitudes, denuncias, reclamos, accion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just">
              <a:lnSpc>
                <a:spcPct val="80000"/>
              </a:lnSpc>
              <a:spcBef>
                <a:spcPts val="400"/>
              </a:spcBef>
              <a:buClr>
                <a:srgbClr val="ea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ea0000"/>
                </a:solidFill>
                <a:latin typeface="Comic Sans MS"/>
              </a:rPr>
              <a:t>LOS FUNCIONARIOS PÚBLICOS COMO SUJETOS DE DERECHO ADMINISTRATIVO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Su ser: sentido amplio, sentido restringido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Su actuar: El Estatuto Administrativo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21:11:44Z</dcterms:created>
  <dc:creator>Rolando Pantoja</dc:creator>
  <dc:description/>
  <dc:language>en-US</dc:language>
  <cp:lastModifiedBy>mrojas</cp:lastModifiedBy>
  <dcterms:modified xsi:type="dcterms:W3CDTF">2008-05-05T16:29:50Z</dcterms:modified>
  <cp:revision>52</cp:revision>
  <dc:subject/>
  <dc:title>CONCEPTO DE DERECHO ADMINISTRATIV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