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4C4-2BF9-4714-88A8-B31A8D8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EA1-3C5A-4B4F-A210-CA5A9E2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CFB-53FF-4AA3-92FF-993353D9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F30-E652-4252-A3D8-58DA6FF8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0D9-B50F-4202-B074-507D9B1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221-9AF6-4236-9910-411B9DE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377-77BA-4E8D-86EB-661B1F8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EDE-E843-4A42-A8C8-B66A2D48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42C-C0DB-4239-957C-78DBBA6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84B-9608-425D-B7DC-6EA3935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F67-D709-4A4B-97AB-8908144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C28-1CC5-4A5D-B84D-8B6B2D5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6B05-011E-4A23-8AB1-CCBD0C3F35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ONCEPTO DE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ELEMENTOS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SUBJETIVOS: LOS SUJETOS DEL CONTROL: </a:t>
            </a:r>
            <a:r>
              <a:rPr b="1" i="1" lang="es-ES_tradnl" sz="2300" spc="-1" strike="noStrike">
                <a:solidFill>
                  <a:srgbClr val="0000ff"/>
                </a:solidFill>
                <a:latin typeface="BernhardMod BT"/>
              </a:rPr>
              <a:t>EL CONTROLADOR y EL CONTROL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OBJETIVOS: MATERIA CONTROL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LASIFICACIÓN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ATENDIENDO AL SUJETO CONTRA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POLITICO, CPR, art.  52, nº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ADMINISTRATIVO, CPR, arts. 24.1, 98, 113.1, 119.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JURISDICCIONAL, teoría francesa-el proceso administr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76640" y="323640"/>
            <a:ext cx="4581360" cy="960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*ATENDIENDO AL SUJETO CONTRO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ÓRGANOS  DE LA ADMINISTRACIÓN  DEL EST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INTERNO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, LOCBGAE, arts. 11 y 12 CPR, arts 113 y 11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EXTERNO,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 CPR, art. 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ACTIVIDADES SOCIOECONÓMICAS  QUE COMPROMETEN LA FE PÚBL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LAS SUPERIN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 LA MA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PLANES Y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L TIEMPO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PREVENTIVO O 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SIMULTÁNEO O CONCOM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A 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324000"/>
            <a:ext cx="6120000" cy="90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EL CONTROL EXTERNO DE  LA  Ad. del Estado:  LA CONTRALORÍA GENERAL DE  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mas que la ri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PR, LOCCGR, Nº 10.336, de 1964                                          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turaleza juríd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CBGAE, arts. 1º y 21, inciso 2º, en relación con el art. 98 de la CPR.                                                        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iones y atribu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PR., arts. 98 y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ol de legalidad de los actos de la Administra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oma de razón y fiscalización en terreno. La toma de razón.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scalizar el ingreso e invers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aminar y juzgar las cuen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La cuenta – El cuentadante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examen de cuentas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juzgamiento de l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uentas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arrollar las demás funcion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que le encomien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4640" y="324000"/>
            <a:ext cx="6120000" cy="9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EL CONTROL DE  LA  Ad. del Estado SOBRE ACTIVIDADES PARTICULARES QUE COMPROMETEN LA FE PÚBLICA:  LAS SUPERINTENDENCIAS. LA ACTIVIDAD REGULADORA DEL E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PERINTENCIAS DEL SECTOR SOCI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Salud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A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INFRAESTRUCTURA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Obras Sanita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ECONÓMIC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Bancos e Institucion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nciera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Valores y Seguro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Casinos de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RIBUCIONES GENERALES 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S SUPERINTENDENC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Normativas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Interpretativas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Fiscalizador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Correctiv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Sancion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2:07:37Z</dcterms:created>
  <dc:creator>Facultad de Derecho</dc:creator>
  <dc:description/>
  <dc:language>en-US</dc:language>
  <cp:lastModifiedBy>mrojas</cp:lastModifiedBy>
  <dcterms:modified xsi:type="dcterms:W3CDTF">2008-05-05T16:33:42Z</dcterms:modified>
  <cp:revision>6</cp:revision>
  <dc:subject/>
  <dc:title>Diapositiva 1</dc:title>
</cp:coreProperties>
</file>